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breeze.wav" ContentType="audio/x-wav"/>
  <Override PartName="/ppt/media/image1.jpeg" ContentType="image/jpeg"/>
  <Override PartName="/ppt/media/camera.wav" ContentType="audio/x-wav"/>
  <Override PartName="/ppt/media/image7.jpeg" ContentType="image/jpeg"/>
  <Override PartName="/ppt/media/chimes.wav" ContentType="audio/x-wav"/>
  <Override PartName="/ppt/media/wind.wav" ContentType="audio/x-wav"/>
  <Override PartName="/ppt/media/laser.wav" ContentType="audio/x-wav"/>
  <Override PartName="/ppt/media/image2.png" ContentType="image/png"/>
  <Override PartName="/ppt/media/image4.jpeg" ContentType="image/jpeg"/>
  <Override PartName="/ppt/media/image3.jpeg" ContentType="image/jpe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DA2-B5A9-4AF3-8A7D-7DDA4CD0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9A4-62B9-48CA-A554-42736846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EA3-4867-4D25-82F8-6BFF212E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FD1-BF58-4A5C-BBC7-DD61946C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32A38-687B-48AA-B19F-068F6792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35F7D-853D-4116-A634-6A49EE85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5D4A7-2BEB-453A-A698-A60C3BA6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8708D-EA42-4D87-9ABF-5D712246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201F3-81F3-4D31-A414-1E33DF65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9AE91-3FC0-4324-903C-AA42FA87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F36AF-F63B-4C3A-A9E4-ECACE37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DCA-3325-4ED3-8C7D-55CCF3D1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C3274-2D02-454F-B6DB-9C720F47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A34AF-D407-45B7-8625-275DC9C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29686-E120-4776-A38E-8B44A399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D395B-8386-4163-A064-64111FBE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4EE8E-C01D-4921-8E5E-04F6E772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524-4E8A-4229-A49E-F1D6C94C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137-B2AC-431B-9F22-C82BE614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F42-29E0-4C90-9D1E-30FFB986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955-46C4-4F26-B4C1-FAF9C9DB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48B-745D-4B57-970D-0B5DB4B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FA5-AC54-4A96-99C5-863F1C3F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6EB-6576-4F1E-B4CD-C300B938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4C06-D612-453C-9F23-306A35C9F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ABBC-B71D-4ADB-B967-B61BD1AE77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ind.wav" TargetMode="External"/><Relationship Id="rId2" Type="http://schemas.microsoft.com/office/2007/relationships/media" Target="file:///tmp/home/.config/libreoffice/4/user/gallery/wind.wav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384200"/>
          </a:xfrm>
          <a:prstGeom prst="rect">
            <a:avLst/>
          </a:prstGeom>
          <a:noFill/>
          <a:ln w="0">
            <a:noFill/>
          </a:ln>
          <a:effectLst>
            <a:outerShdw dist="305750" dir="18696668" blurRad="0" rotWithShape="0">
              <a:srgbClr val="010199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6699ff"/>
                </a:solidFill>
                <a:latin typeface="Tahoma"/>
              </a:rPr>
              <a:t>РЕКИ</a:t>
            </a:r>
            <a:endParaRPr b="0" lang="en-US" sz="1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25892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735280" y="260280"/>
            <a:ext cx="64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есная вода как бы предназначена для жизни, и с жизнью связана, она одна из все химических элементо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И. Вернад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 презент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географ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У СОШ №2 р.п. Колыш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мьянова Н. 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рог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92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ходы твёрдых пород, пересекающих русло, нагромождение камней. Преодолевая их, река пенится, высоко вверх летят брызги, возникают водовороты. На порожистых участках равнинные реки похожи на горные. Пороги мешают судоход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7" descr="680092"/>
          <p:cNvPicPr/>
          <p:nvPr/>
        </p:nvPicPr>
        <p:blipFill>
          <a:blip r:embed="rId1"/>
          <a:stretch/>
        </p:blipFill>
        <p:spPr>
          <a:xfrm>
            <a:off x="4651200" y="0"/>
            <a:ext cx="44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JUNGLIE"/>
          <p:cNvPicPr/>
          <p:nvPr/>
        </p:nvPicPr>
        <p:blipFill>
          <a:blip r:embed="rId1"/>
          <a:stretch/>
        </p:blipFill>
        <p:spPr>
          <a:xfrm>
            <a:off x="0" y="0"/>
            <a:ext cx="943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допад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96000" y="1628640"/>
            <a:ext cx="424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дение воды с высокого уступа на реке. Водопады встречаются в горах и на возвышенных равнинах. Самый высокий на Земле водопад – Анхель в Южной Америке (бассейн реки Ориноко). Его высота – 1054 метра. Самыми знаменитыми водопадами считаются Ниагарский (Северная Америка-Ниагара), Виктория (Африка-Замбези), Игуасу (Южная Америка-Игуасу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1" descr="680089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822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рупнейшие реки ми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3664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вразия – Янцзы, Лена, Енисей, Хуанхэ,  Обь, Волга, Дунай, Ганг, Инд, Меконг, Амур, Тигр/Ефра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фрика – Нил, Конго, Замбези, Оранжевая, Ниг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верная Америка – Миссисипи), Рио-Гранде, Юк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Южная Америка – Амазонка, Парана, Оринок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стралия – Мурр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850"/>
                            </p:stCondLst>
                            <p:childTnLst>
                              <p:par>
                                <p:cTn id="1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85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85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85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85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рупнейшие реки Ро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ь с Иртышом – 5410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ур с Аргунью – 4444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на – 4400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нисей с Большим Енисеем – 4092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га(одна) – 3531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енёк – 2270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ыма – 2129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н – 1870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чора – 1809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дигирка – 1726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верная Двина с Сухоной – 1302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нимательно о рек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земном шаре встречаются такие реки, которые совсем не похожи на обычные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ёные и кислые реки Якутии, Казахстана, Колумб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токи длиннее основной ре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ычный рисунок своих теч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уда не впадающие ре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яющие свои русла ре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кущие выше своих берег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начение р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а необходима для жизни как отдельного человека, так и человеческого общества в целом. Заменить её каким либо другим видом ресурсов нельз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 воды связаны со всеми компонентами природы. Огромна их роль в жизни и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а используется в промышленности, сельском хозяйстве, в бытовых нуждах. Реки являются транспортными артериями, зонами отдыха и туризма, на реках ведётся промысел рыб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нутренние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Organization Chart 28"/>
          <p:cNvGrpSpPr/>
          <p:nvPr/>
        </p:nvGrpSpPr>
        <p:grpSpPr>
          <a:xfrm>
            <a:off x="539640" y="1916280"/>
            <a:ext cx="8208720" cy="4140360"/>
            <a:chOff x="539640" y="1916280"/>
            <a:chExt cx="8208720" cy="4140360"/>
          </a:xfrm>
        </p:grpSpPr>
        <p:cxnSp>
          <p:nvCxnSpPr>
            <p:cNvPr id="88" name="_s1028"/>
            <p:cNvCxnSpPr>
              <a:stCxn id="89" idx="0"/>
              <a:endCxn id="90" idx="2"/>
            </p:cNvCxnSpPr>
            <p:nvPr/>
          </p:nvCxnSpPr>
          <p:spPr>
            <a:xfrm flipV="1" rot="16200000">
              <a:off x="5790240" y="2008800"/>
              <a:ext cx="1105920" cy="3362040"/>
            </a:xfrm>
            <a:prstGeom prst="bentConnector3">
              <a:avLst>
                <a:gd name="adj1" fmla="val 1032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1029"/>
            <p:cNvCxnSpPr>
              <a:stCxn id="92" idx="0"/>
              <a:endCxn id="90" idx="2"/>
            </p:cNvCxnSpPr>
            <p:nvPr/>
          </p:nvCxnSpPr>
          <p:spPr>
            <a:xfrm flipV="1" rot="16200000">
              <a:off x="4945320" y="2853720"/>
              <a:ext cx="1105920" cy="1671840"/>
            </a:xfrm>
            <a:prstGeom prst="bentConnector3">
              <a:avLst>
                <a:gd name="adj1" fmla="val 1032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1030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4100040" y="3680280"/>
              <a:ext cx="1105920" cy="19080"/>
            </a:xfrm>
            <a:prstGeom prst="bentConnector3">
              <a:avLst>
                <a:gd name="adj1" fmla="val 1032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031"/>
            <p:cNvCxnSpPr>
              <a:stCxn id="96" idx="0"/>
              <a:endCxn id="90" idx="2"/>
            </p:cNvCxnSpPr>
            <p:nvPr/>
          </p:nvCxnSpPr>
          <p:spPr>
            <a:xfrm flipH="1" flipV="1" rot="5400000">
              <a:off x="3255120" y="2835360"/>
              <a:ext cx="1105920" cy="1709280"/>
            </a:xfrm>
            <a:prstGeom prst="bentConnector3">
              <a:avLst>
                <a:gd name="adj1" fmla="val 1032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032"/>
            <p:cNvCxnSpPr>
              <a:stCxn id="98" idx="0"/>
              <a:endCxn id="90" idx="2"/>
            </p:cNvCxnSpPr>
            <p:nvPr/>
          </p:nvCxnSpPr>
          <p:spPr>
            <a:xfrm flipH="1" flipV="1" rot="5400000">
              <a:off x="2410920" y="1991160"/>
              <a:ext cx="1105920" cy="3397320"/>
            </a:xfrm>
            <a:prstGeom prst="bentConnector3">
              <a:avLst>
                <a:gd name="adj1" fmla="val 1032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" name="_s1033"/>
            <p:cNvSpPr/>
            <p:nvPr/>
          </p:nvSpPr>
          <p:spPr>
            <a:xfrm>
              <a:off x="2196000" y="1916280"/>
              <a:ext cx="4932720" cy="122112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</a:rPr>
                <a:t>Внутренние вод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4"/>
            <p:cNvSpPr/>
            <p:nvPr/>
          </p:nvSpPr>
          <p:spPr>
            <a:xfrm>
              <a:off x="539640" y="4254480"/>
              <a:ext cx="1448640" cy="18021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802160"/>
                <a:gd name="textAreaBottom" fmla="*/ 1731600 h 1802160"/>
              </a:gdLst>
              <a:ahLst/>
              <a:rect l="textAreaLeft" t="textAreaTop" r="textAreaRight" b="textAreaBottom"/>
              <a:pathLst>
                <a:path w="21600" h="26870">
                  <a:moveTo>
                    <a:pt x="3600" y="0"/>
                  </a:moveTo>
                  <a:arcTo wR="3600" hR="3600" stAng="16200000" swAng="-5400000"/>
                  <a:lnTo>
                    <a:pt x="0" y="23270"/>
                  </a:lnTo>
                  <a:arcTo wR="3600" hR="3600" stAng="10800000" swAng="-5400000"/>
                  <a:lnTo>
                    <a:pt x="18000" y="268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Рек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5"/>
            <p:cNvSpPr/>
            <p:nvPr/>
          </p:nvSpPr>
          <p:spPr>
            <a:xfrm>
              <a:off x="2229480" y="4254480"/>
              <a:ext cx="1448640" cy="18021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802160"/>
                <a:gd name="textAreaBottom" fmla="*/ 1731600 h 1802160"/>
              </a:gdLst>
              <a:ahLst/>
              <a:rect l="textAreaLeft" t="textAreaTop" r="textAreaRight" b="textAreaBottom"/>
              <a:pathLst>
                <a:path w="21600" h="26870">
                  <a:moveTo>
                    <a:pt x="3600" y="0"/>
                  </a:moveTo>
                  <a:arcTo wR="3600" hR="3600" stAng="16200000" swAng="-5400000"/>
                  <a:lnTo>
                    <a:pt x="0" y="23270"/>
                  </a:lnTo>
                  <a:arcTo wR="3600" hR="3600" stAng="10800000" swAng="-5400000"/>
                  <a:lnTo>
                    <a:pt x="18000" y="268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Озёр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1036"/>
            <p:cNvSpPr/>
            <p:nvPr/>
          </p:nvSpPr>
          <p:spPr>
            <a:xfrm>
              <a:off x="3919680" y="4254480"/>
              <a:ext cx="1448640" cy="176292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762920"/>
                <a:gd name="textAreaBottom" fmla="*/ 1692360 h 1762920"/>
              </a:gdLst>
              <a:ahLst/>
              <a:rect l="textAreaLeft" t="textAreaTop" r="textAreaRight" b="textAreaBottom"/>
              <a:pathLst>
                <a:path w="21600" h="26285">
                  <a:moveTo>
                    <a:pt x="3600" y="0"/>
                  </a:moveTo>
                  <a:arcTo wR="3600" hR="3600" stAng="16200000" swAng="-5400000"/>
                  <a:lnTo>
                    <a:pt x="0" y="22685"/>
                  </a:lnTo>
                  <a:arcTo wR="3600" hR="3600" stAng="10800000" swAng="-5400000"/>
                  <a:lnTo>
                    <a:pt x="18000" y="26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Ледник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1037"/>
            <p:cNvSpPr/>
            <p:nvPr/>
          </p:nvSpPr>
          <p:spPr>
            <a:xfrm>
              <a:off x="5609880" y="4254480"/>
              <a:ext cx="1448640" cy="176292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762920"/>
                <a:gd name="textAreaBottom" fmla="*/ 1692360 h 1762920"/>
              </a:gdLst>
              <a:ahLst/>
              <a:rect l="textAreaLeft" t="textAreaTop" r="textAreaRight" b="textAreaBottom"/>
              <a:pathLst>
                <a:path w="21600" h="26285">
                  <a:moveTo>
                    <a:pt x="3600" y="0"/>
                  </a:moveTo>
                  <a:arcTo wR="3600" hR="3600" stAng="16200000" swAng="-5400000"/>
                  <a:lnTo>
                    <a:pt x="0" y="22685"/>
                  </a:lnTo>
                  <a:arcTo wR="3600" hR="3600" stAng="10800000" swAng="-5400000"/>
                  <a:lnTo>
                    <a:pt x="18000" y="26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Боло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_s1038"/>
            <p:cNvSpPr/>
            <p:nvPr/>
          </p:nvSpPr>
          <p:spPr>
            <a:xfrm>
              <a:off x="7299720" y="4254480"/>
              <a:ext cx="1448640" cy="176292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762920"/>
                <a:gd name="textAreaBottom" fmla="*/ 1692360 h 1762920"/>
              </a:gdLst>
              <a:ahLst/>
              <a:rect l="textAreaLeft" t="textAreaTop" r="textAreaRight" b="textAreaBottom"/>
              <a:pathLst>
                <a:path w="21600" h="26285">
                  <a:moveTo>
                    <a:pt x="3600" y="0"/>
                  </a:moveTo>
                  <a:arcTo wR="3600" hR="3600" stAng="16200000" swAng="-5400000"/>
                  <a:lnTo>
                    <a:pt x="0" y="22685"/>
                  </a:lnTo>
                  <a:arcTo wR="3600" hR="3600" stAng="10800000" swAng="-5400000"/>
                  <a:lnTo>
                    <a:pt x="18000" y="26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Подзем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воды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9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69160" y="6383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4" name="laser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6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20640"/>
            <a:ext cx="4572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ки- постоянный водный поток, текущий в углублении, называемом русл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ки делятся на равнинные и гор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9" descr="N_017"/>
          <p:cNvPicPr/>
          <p:nvPr/>
        </p:nvPicPr>
        <p:blipFill>
          <a:blip r:embed="rId1"/>
          <a:stretch/>
        </p:blipFill>
        <p:spPr>
          <a:xfrm>
            <a:off x="4648320" y="1089000"/>
            <a:ext cx="44956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сти ре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Исто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чало ре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Усть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конец ре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чная доли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углубление в рельефе, которое  занимает р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чная систем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река со всеми её прито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чной бассей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территория, с которой река собирает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одоразде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граница, разделяющая речные бассей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йм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часть речной долины, затапливаемая во время половод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drumroll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9" descr="Лампа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внинные ре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текут спокойно в широких долинах. Скорость течения не менее 1 м/с. Вырабатывают широкую долину. При достаточной глубине удобны  для судоходства. Часто очень извилисты, т.к. не обладают силой, достачной для того, чтобы проложить себе прямой пу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479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0" y="0"/>
            <a:ext cx="324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Горные ре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берут начало в горах, от таяния ледников, имеют значительную скорость, долины у них узкие и глубокие. Русло занимает все дно доли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822061"/>
          <p:cNvPicPr/>
          <p:nvPr/>
        </p:nvPicPr>
        <p:blipFill>
          <a:blip r:embed="rId1"/>
          <a:stretch/>
        </p:blipFill>
        <p:spPr>
          <a:xfrm>
            <a:off x="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wind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8360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еках бывают пороги и водопады, как на равнинных так и на гор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0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ce</cp:lastModifiedBy>
  <dcterms:modified xsi:type="dcterms:W3CDTF">2011-11-27T09:13:11Z</dcterms:modified>
  <cp:revision>10</cp:revision>
  <dc:subject/>
  <dc:title>РЕКИ</dc:title>
</cp:coreProperties>
</file>