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36C3-20E0-4E1B-990D-9EBA8112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AE6-87FA-4B24-A8B4-CC819F9B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DDE-B37A-4CDF-A3D5-78A8F9F4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A97-2DE2-4A59-B53E-023F237B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683-2990-4229-B556-C8C5F35F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2C2F-E132-4EB7-AC6A-E2BFFF6D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23A9-A3E0-4AEF-BE00-E751A76B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3E8-9189-43DD-B234-3B8C0528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5532-59D3-4B45-B5F8-EE3DAA76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F59C-DAC0-43C4-ACAB-7AD3B2DA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1D7-9813-40AE-A8FB-819EEB1D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CC50-D7DF-4A74-AECE-E9D4BF2C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3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535F-E90C-4B7E-AD01-AC3759D5287E}" type="slidenum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Тест по русскому языку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для 4 класса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по итоговой аттестации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140360" y="3500280"/>
            <a:ext cx="3929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ав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БОУ «Матюшинская средняя общеобразовательная школ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узельбаева Л.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C:\Users\Public\Pictures\IMG_0015.jpg"/>
          <p:cNvPicPr/>
          <p:nvPr/>
        </p:nvPicPr>
        <p:blipFill>
          <a:blip r:embed="rId1"/>
          <a:srcRect l="25835" t="-4897" r="0" b="0"/>
          <a:stretch/>
        </p:blipFill>
        <p:spPr>
          <a:xfrm>
            <a:off x="1187280" y="3500280"/>
            <a:ext cx="2103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</a:t>
            </a: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Укажи слово без предлога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1)  (на)горизонте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2)   (под)деревом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3)   (по)крылись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4)   (в)ущелье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Franklin Gothic Book"/>
              </a:rPr>
              <a:t>покрылись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70" name="Picture 7" descr="FLOWER34"/>
          <p:cNvPicPr/>
          <p:nvPr/>
        </p:nvPicPr>
        <p:blipFill>
          <a:blip r:embed="rId1"/>
          <a:stretch/>
        </p:blipFill>
        <p:spPr>
          <a:xfrm>
            <a:off x="6286680" y="1714680"/>
            <a:ext cx="24285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Укажи имя прилагательное в форме    творительного падежа.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в дальнем (краю)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серебристым (ковром)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вечернюю (газету)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по дремучему (лесу)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серебристым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73" name="Picture 4" descr="371"/>
          <p:cNvPicPr/>
          <p:nvPr/>
        </p:nvPicPr>
        <p:blipFill>
          <a:blip r:embed="rId1"/>
          <a:stretch/>
        </p:blipFill>
        <p:spPr>
          <a:xfrm>
            <a:off x="2500200" y="3571920"/>
            <a:ext cx="28576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Franklin Gothic Book"/>
              </a:rPr>
              <a:t>Слово какой части речи отсутствует в данном  предложении.</a:t>
            </a:r>
            <a:endParaRPr b="0" lang="en-US" sz="3300" spc="-1" strike="noStrike">
              <a:solidFill>
                <a:srgbClr val="ffffff"/>
              </a:solidFill>
              <a:latin typeface="Franklin Gothic Book"/>
            </a:endParaRPr>
          </a:p>
          <a:p>
            <a:pPr marL="335880" indent="-3358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Franklin Gothic Book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Franklin Gothic Book"/>
              </a:rPr>
              <a:t>Пахнет сеном молодым и смолой вишнёвой. 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Franklin Gothic Book"/>
              </a:rPr>
              <a:t>                     </a:t>
            </a:r>
            <a:r>
              <a:rPr b="0" i="1" lang="ru-RU" sz="3000" spc="-1" strike="noStrike">
                <a:solidFill>
                  <a:srgbClr val="ffffff"/>
                </a:solidFill>
                <a:latin typeface="Franklin Gothic Book"/>
              </a:rPr>
              <a:t>1)  глагол 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Franklin Gothic Book"/>
              </a:rPr>
              <a:t>                     </a:t>
            </a:r>
            <a:r>
              <a:rPr b="0" i="1" lang="ru-RU" sz="3000" spc="-1" strike="noStrike">
                <a:solidFill>
                  <a:srgbClr val="ffffff"/>
                </a:solidFill>
                <a:latin typeface="Franklin Gothic Book"/>
              </a:rPr>
              <a:t>2)  существительное 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Franklin Gothic Book"/>
              </a:rPr>
              <a:t>                     </a:t>
            </a:r>
            <a:r>
              <a:rPr b="0" i="1" lang="ru-RU" sz="3000" spc="-1" strike="noStrike">
                <a:solidFill>
                  <a:srgbClr val="ffffff"/>
                </a:solidFill>
                <a:latin typeface="Franklin Gothic Book"/>
              </a:rPr>
              <a:t>3)  прилагательное 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Franklin Gothic Book"/>
              </a:rPr>
              <a:t>                     </a:t>
            </a:r>
            <a:r>
              <a:rPr b="0" i="1" lang="ru-RU" sz="3000" spc="-1" strike="noStrike">
                <a:solidFill>
                  <a:srgbClr val="ffffff"/>
                </a:solidFill>
                <a:latin typeface="Franklin Gothic Book"/>
              </a:rPr>
              <a:t>4)  предлог 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Franklin Gothic Book"/>
              </a:rPr>
              <a:t>                         </a:t>
            </a:r>
            <a:r>
              <a:rPr b="0" i="1" lang="ru-RU" sz="3600" spc="-1" strike="noStrike">
                <a:solidFill>
                  <a:srgbClr val="ffffff"/>
                </a:solidFill>
                <a:latin typeface="Franklin Gothic Book"/>
              </a:rPr>
              <a:t>предлог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76" name="Picture 11" descr="50"/>
          <p:cNvPicPr/>
          <p:nvPr/>
        </p:nvPicPr>
        <p:blipFill>
          <a:blip r:embed="rId1"/>
          <a:stretch/>
        </p:blipFill>
        <p:spPr>
          <a:xfrm>
            <a:off x="2000160" y="4214880"/>
            <a:ext cx="18576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Укажи слово, которое оканчивается на звонкий согласный звук.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Franklin Gothic Book"/>
              </a:rPr>
              <a:t>1)  сапог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Franklin Gothic Book"/>
              </a:rPr>
              <a:t>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Franklin Gothic Book"/>
              </a:rPr>
              <a:t>2)  рассказ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Franklin Gothic Book"/>
              </a:rPr>
              <a:t>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Franklin Gothic Book"/>
              </a:rPr>
              <a:t>3)  суффикс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Franklin Gothic Book"/>
              </a:rPr>
              <a:t>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Franklin Gothic Book"/>
              </a:rPr>
              <a:t>4)  забор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забор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79" name="Picture 9" descr="34[1]"/>
          <p:cNvPicPr/>
          <p:nvPr/>
        </p:nvPicPr>
        <p:blipFill>
          <a:blip r:embed="rId1"/>
          <a:stretch/>
        </p:blipFill>
        <p:spPr>
          <a:xfrm>
            <a:off x="4214880" y="3857760"/>
            <a:ext cx="2643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Состав какого слова отличается от состава слова лимончики?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1)    травушка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2)    стульчики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3)    игрушки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4)    записка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записка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82" name="Picture 16" descr="FLOWER14"/>
          <p:cNvPicPr/>
          <p:nvPr/>
        </p:nvPicPr>
        <p:blipFill>
          <a:blip r:embed="rId1"/>
          <a:stretch/>
        </p:blipFill>
        <p:spPr>
          <a:xfrm>
            <a:off x="2643120" y="4071960"/>
            <a:ext cx="14288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356920"/>
            <a:ext cx="777240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Franklin Gothic Medium"/>
              </a:rPr>
              <a:t>В каком варианте в выделенном слове пропущена буква и?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Franklin Gothic Medium"/>
              </a:rPr>
              <a:t>1) обб _жать вокруг дерева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Franklin Gothic Medium"/>
              </a:rPr>
              <a:t>2) зап_ вал   песню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Franklin Gothic Medium"/>
              </a:rPr>
              <a:t>3) зап_ вать лекарство водой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Franklin Gothic Medium"/>
              </a:rPr>
              <a:t>4) сл_ зать с дерева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Franklin Gothic Book"/>
              </a:rPr>
              <a:t>В каком порядке должны следовать предложения, обозначенные буквами, чтобы получился связный текст? Допиши 4-6 предложений, продолжив текст</a:t>
            </a:r>
            <a:r>
              <a:rPr b="0" lang="ru-RU" sz="2700" spc="-1" strike="noStrike">
                <a:solidFill>
                  <a:srgbClr val="ffffff"/>
                </a:solidFill>
                <a:latin typeface="Franklin Gothic Book"/>
              </a:rPr>
              <a:t>. </a:t>
            </a:r>
            <a:endParaRPr b="0" lang="en-US" sz="2700" spc="-1" strike="noStrike">
              <a:solidFill>
                <a:srgbClr val="ffffff"/>
              </a:solidFill>
              <a:latin typeface="Franklin Gothic Book"/>
            </a:endParaRPr>
          </a:p>
          <a:p>
            <a:pPr marL="335880" indent="-335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Franklin Gothic Book"/>
              </a:rPr>
              <a:t>                </a:t>
            </a:r>
            <a:r>
              <a:rPr b="0" lang="ru-RU" sz="2700" spc="-1" strike="noStrike">
                <a:solidFill>
                  <a:srgbClr val="ffffff"/>
                </a:solidFill>
                <a:latin typeface="Franklin Gothic Book"/>
              </a:rPr>
              <a:t>А.   Но оно было очень тяжелое. </a:t>
            </a:r>
            <a:endParaRPr b="0" lang="en-US" sz="2700" spc="-1" strike="noStrike">
              <a:solidFill>
                <a:srgbClr val="ffffff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Franklin Gothic Book"/>
              </a:rPr>
              <a:t>                </a:t>
            </a:r>
            <a:r>
              <a:rPr b="0" lang="ru-RU" sz="2700" spc="-1" strike="noStrike">
                <a:solidFill>
                  <a:srgbClr val="ffffff"/>
                </a:solidFill>
                <a:latin typeface="Franklin Gothic Book"/>
              </a:rPr>
              <a:t>Б.   Муравей нашел зерно. </a:t>
            </a:r>
            <a:endParaRPr b="0" lang="en-US" sz="2700" spc="-1" strike="noStrike">
              <a:solidFill>
                <a:srgbClr val="ffffff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Franklin Gothic Book"/>
              </a:rPr>
              <a:t>                </a:t>
            </a:r>
            <a:r>
              <a:rPr b="0" lang="ru-RU" sz="2700" spc="-1" strike="noStrike">
                <a:solidFill>
                  <a:srgbClr val="ffffff"/>
                </a:solidFill>
                <a:latin typeface="Franklin Gothic Book"/>
              </a:rPr>
              <a:t>В.   Муравей не мог его сдвинуть. </a:t>
            </a:r>
            <a:endParaRPr b="0" lang="en-US" sz="2700" spc="-1" strike="noStrike">
              <a:solidFill>
                <a:srgbClr val="ffffff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Franklin Gothic Book"/>
              </a:rPr>
              <a:t>                </a:t>
            </a:r>
            <a:r>
              <a:rPr b="0" lang="ru-RU" sz="2700" spc="-1" strike="noStrike">
                <a:solidFill>
                  <a:srgbClr val="ffffff"/>
                </a:solidFill>
                <a:latin typeface="Franklin Gothic Book"/>
              </a:rPr>
              <a:t>Г.   Только вместе смогли справиться  дружные муравьи с зерном. </a:t>
            </a:r>
            <a:endParaRPr b="0" lang="en-US" sz="2700" spc="-1" strike="noStrike">
              <a:solidFill>
                <a:srgbClr val="ffffff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Franklin Gothic Book"/>
              </a:rPr>
              <a:t>               </a:t>
            </a:r>
            <a:r>
              <a:rPr b="0" lang="ru-RU" sz="2700" spc="-1" strike="noStrike">
                <a:solidFill>
                  <a:srgbClr val="ffffff"/>
                </a:solidFill>
                <a:latin typeface="Franklin Gothic Book"/>
              </a:rPr>
              <a:t>Д.   Тогда он позвал на помощь товарищей. </a:t>
            </a:r>
            <a:endParaRPr b="0" lang="en-US" sz="2700" spc="-1" strike="noStrike">
              <a:solidFill>
                <a:srgbClr val="ffffff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                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571920" y="2500200"/>
            <a:ext cx="271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Franklin Gothic Book"/>
              </a:rPr>
              <a:t>БАВД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6" descr="1F1"/>
          <p:cNvPicPr/>
          <p:nvPr/>
        </p:nvPicPr>
        <p:blipFill>
          <a:blip r:embed="rId1"/>
          <a:stretch/>
        </p:blipFill>
        <p:spPr>
          <a:xfrm>
            <a:off x="2214720" y="3643200"/>
            <a:ext cx="42177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Сколько звуков [т'] в словах предложения?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Franklin Gothic Book"/>
              </a:rPr>
              <a:t>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Franklin Gothic Book"/>
              </a:rPr>
              <a:t>Держи тетрадь в чистоте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     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89" name="Group 19"/>
          <p:cNvGrpSpPr/>
          <p:nvPr/>
        </p:nvGrpSpPr>
        <p:grpSpPr>
          <a:xfrm>
            <a:off x="571680" y="3500280"/>
            <a:ext cx="8071920" cy="1856520"/>
            <a:chOff x="571680" y="3500280"/>
            <a:chExt cx="8071920" cy="1856520"/>
          </a:xfrm>
        </p:grpSpPr>
        <p:grpSp>
          <p:nvGrpSpPr>
            <p:cNvPr id="90" name="Group 18"/>
            <p:cNvGrpSpPr/>
            <p:nvPr/>
          </p:nvGrpSpPr>
          <p:grpSpPr>
            <a:xfrm>
              <a:off x="985320" y="3500280"/>
              <a:ext cx="5173920" cy="1856520"/>
              <a:chOff x="985320" y="3500280"/>
              <a:chExt cx="5173920" cy="1856520"/>
            </a:xfrm>
          </p:grpSpPr>
          <p:pic>
            <p:nvPicPr>
              <p:cNvPr id="91" name="Picture 13" descr="STAR1"/>
              <p:cNvPicPr/>
              <p:nvPr/>
            </p:nvPicPr>
            <p:blipFill>
              <a:blip r:embed="rId1"/>
              <a:stretch/>
            </p:blipFill>
            <p:spPr>
              <a:xfrm>
                <a:off x="5815440" y="4277160"/>
                <a:ext cx="343800" cy="66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10" descr="STAR1"/>
              <p:cNvPicPr/>
              <p:nvPr/>
            </p:nvPicPr>
            <p:blipFill>
              <a:blip r:embed="rId2"/>
              <a:stretch/>
            </p:blipFill>
            <p:spPr>
              <a:xfrm>
                <a:off x="985320" y="4691880"/>
                <a:ext cx="343800" cy="66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1" descr="STAR1"/>
              <p:cNvPicPr/>
              <p:nvPr/>
            </p:nvPicPr>
            <p:blipFill>
              <a:blip r:embed="rId3"/>
              <a:stretch/>
            </p:blipFill>
            <p:spPr>
              <a:xfrm>
                <a:off x="3539520" y="3500280"/>
                <a:ext cx="343800" cy="66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5" descr="STAR1"/>
              <p:cNvPicPr/>
              <p:nvPr/>
            </p:nvPicPr>
            <p:blipFill>
              <a:blip r:embed="rId4"/>
              <a:stretch/>
            </p:blipFill>
            <p:spPr>
              <a:xfrm>
                <a:off x="1882800" y="3500280"/>
                <a:ext cx="343800" cy="664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5" name="Group 17"/>
            <p:cNvGrpSpPr/>
            <p:nvPr/>
          </p:nvGrpSpPr>
          <p:grpSpPr>
            <a:xfrm>
              <a:off x="571680" y="3500280"/>
              <a:ext cx="8071920" cy="1441800"/>
              <a:chOff x="571680" y="3500280"/>
              <a:chExt cx="8071920" cy="1441800"/>
            </a:xfrm>
          </p:grpSpPr>
          <p:pic>
            <p:nvPicPr>
              <p:cNvPr id="96" name="Picture 12" descr="STAR1"/>
              <p:cNvPicPr/>
              <p:nvPr/>
            </p:nvPicPr>
            <p:blipFill>
              <a:blip r:embed="rId5"/>
              <a:stretch/>
            </p:blipFill>
            <p:spPr>
              <a:xfrm>
                <a:off x="7472520" y="3722760"/>
                <a:ext cx="343440" cy="66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8" descr="STAR1"/>
              <p:cNvPicPr/>
              <p:nvPr/>
            </p:nvPicPr>
            <p:blipFill>
              <a:blip r:embed="rId6"/>
              <a:stretch/>
            </p:blipFill>
            <p:spPr>
              <a:xfrm>
                <a:off x="8299800" y="4277160"/>
                <a:ext cx="343800" cy="66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9" descr="STAR1"/>
              <p:cNvPicPr/>
              <p:nvPr/>
            </p:nvPicPr>
            <p:blipFill>
              <a:blip r:embed="rId7"/>
              <a:stretch/>
            </p:blipFill>
            <p:spPr>
              <a:xfrm>
                <a:off x="571680" y="3500280"/>
                <a:ext cx="343800" cy="66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4" descr="STAR1"/>
              <p:cNvPicPr/>
              <p:nvPr/>
            </p:nvPicPr>
            <p:blipFill>
              <a:blip r:embed="rId8"/>
              <a:stretch/>
            </p:blipFill>
            <p:spPr>
              <a:xfrm>
                <a:off x="4987800" y="3722760"/>
                <a:ext cx="343800" cy="66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16" descr="STAR1"/>
              <p:cNvPicPr/>
              <p:nvPr/>
            </p:nvPicPr>
            <p:blipFill>
              <a:blip r:embed="rId9"/>
              <a:stretch/>
            </p:blipFill>
            <p:spPr>
              <a:xfrm>
                <a:off x="2366640" y="4277160"/>
                <a:ext cx="343800" cy="66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Отметь вариант с ошибкой в окончании имени прилагательного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Franklin Gothic Book"/>
              </a:rPr>
              <a:t>                   </a:t>
            </a:r>
            <a:r>
              <a:rPr b="0" lang="ru-RU" sz="3300" spc="-1" strike="noStrike">
                <a:solidFill>
                  <a:srgbClr val="ffffff"/>
                </a:solidFill>
                <a:latin typeface="Franklin Gothic Book"/>
              </a:rPr>
              <a:t>1)  солнечный луч </a:t>
            </a:r>
            <a:endParaRPr b="0" lang="en-US" sz="33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Franklin Gothic Book"/>
              </a:rPr>
              <a:t>                  </a:t>
            </a:r>
            <a:r>
              <a:rPr b="0" lang="ru-RU" sz="3300" spc="-1" strike="noStrike">
                <a:solidFill>
                  <a:srgbClr val="ffffff"/>
                </a:solidFill>
                <a:latin typeface="Franklin Gothic Book"/>
              </a:rPr>
              <a:t>2)  весеннем утром </a:t>
            </a:r>
            <a:endParaRPr b="0" lang="en-US" sz="33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Franklin Gothic Book"/>
              </a:rPr>
              <a:t>                  </a:t>
            </a:r>
            <a:r>
              <a:rPr b="0" lang="ru-RU" sz="3300" spc="-1" strike="noStrike">
                <a:solidFill>
                  <a:srgbClr val="ffffff"/>
                </a:solidFill>
                <a:latin typeface="Franklin Gothic Book"/>
              </a:rPr>
              <a:t>3)  свежую газету </a:t>
            </a:r>
            <a:endParaRPr b="0" lang="en-US" sz="33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Franklin Gothic Book"/>
              </a:rPr>
              <a:t>                  </a:t>
            </a:r>
            <a:r>
              <a:rPr b="0" lang="ru-RU" sz="3300" spc="-1" strike="noStrike">
                <a:solidFill>
                  <a:srgbClr val="ffffff"/>
                </a:solidFill>
                <a:latin typeface="Franklin Gothic Book"/>
              </a:rPr>
              <a:t>4)  от утреннего тумана </a:t>
            </a:r>
            <a:endParaRPr b="0" lang="en-US" sz="33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      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Весенним утром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03" name="Picture 6" descr="POPPIES"/>
          <p:cNvPicPr/>
          <p:nvPr/>
        </p:nvPicPr>
        <p:blipFill>
          <a:blip r:embed="rId1"/>
          <a:stretch/>
        </p:blipFill>
        <p:spPr>
          <a:xfrm>
            <a:off x="1571760" y="4429080"/>
            <a:ext cx="135720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Укажи правильное значение выражения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Franklin Gothic Book"/>
              </a:rPr>
              <a:t>Зарубить на носу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1)  зазнаваться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2)  ходить важно, гордо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3)  запомнить крепко-накрепко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4)  поцарапать нос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Запомнить крепко - накрепко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06" name="Picture 11" descr="6"/>
          <p:cNvPicPr/>
          <p:nvPr/>
        </p:nvPicPr>
        <p:blipFill>
          <a:blip r:embed="rId1"/>
          <a:stretch/>
        </p:blipFill>
        <p:spPr>
          <a:xfrm>
            <a:off x="4143240" y="3500280"/>
            <a:ext cx="14288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Выбери правильный вариант продолжения утверждения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Franklin Gothic Book"/>
              </a:rPr>
              <a:t>мягкий знак на конце слова в начальной фор­ме после шипящих пишется ... 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Franklin Gothic Book"/>
              </a:rPr>
              <a:t>2) у имен существительных 1-го, 2-го и 3-го 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Franklin Gothic Book"/>
              </a:rPr>
              <a:t>склонений 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Franklin Gothic Book"/>
              </a:rPr>
              <a:t>3) у имен существительных 1-го склонения 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Franklin Gothic Book"/>
              </a:rPr>
              <a:t>4) у имен существительных 2-го склонения 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Franklin Gothic Book"/>
              </a:rPr>
              <a:t>5) у имен существительных 3-го склонения 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У имен существительных 3-го склонения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09" name="Picture 9" descr="cat"/>
          <p:cNvPicPr/>
          <p:nvPr/>
        </p:nvPicPr>
        <p:blipFill>
          <a:blip r:embed="rId1"/>
          <a:stretch/>
        </p:blipFill>
        <p:spPr>
          <a:xfrm>
            <a:off x="1857240" y="4429080"/>
            <a:ext cx="25005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Franklin Gothic Book"/>
              </a:rPr>
              <a:t>запивать лекарство водой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6" name="Picture 14" descr="FIREWRK6"/>
          <p:cNvPicPr/>
          <p:nvPr/>
        </p:nvPicPr>
        <p:blipFill>
          <a:blip r:embed="rId1"/>
          <a:stretch/>
        </p:blipFill>
        <p:spPr>
          <a:xfrm>
            <a:off x="3500280" y="2786040"/>
            <a:ext cx="3286440" cy="3191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CACTUS1"/>
          <p:cNvPicPr/>
          <p:nvPr/>
        </p:nvPicPr>
        <p:blipFill>
          <a:blip r:embed="rId2"/>
          <a:stretch/>
        </p:blipFill>
        <p:spPr>
          <a:xfrm>
            <a:off x="642960" y="3000240"/>
            <a:ext cx="150012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Укажи, какие части слова, кроме корня, есть в слове выдумка.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1)  приставка и суффикс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2)  приставка, суффикс и окончание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3)  суффикс и окончание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4)  приставка и окончание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приставка, суффикс и окончание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12" name="Picture 18" descr="STAR7"/>
          <p:cNvPicPr/>
          <p:nvPr/>
        </p:nvPicPr>
        <p:blipFill>
          <a:blip r:embed="rId1"/>
          <a:stretch/>
        </p:blipFill>
        <p:spPr>
          <a:xfrm>
            <a:off x="1000080" y="457200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Спасибо за правильные ответы!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Franklin Gothic Medium"/>
              </a:rPr>
              <a:t>В каком варианте в окончании глагола пропущена буква о?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56840" y="1857240"/>
            <a:ext cx="6286680" cy="33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1) гроза приближал _ сь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2) распустил _ сь  ландыши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3) показал_ сь  солнце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4) туристы выглянул_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2143080" y="228600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Показалось   солн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6" descr="132"/>
          <p:cNvPicPr/>
          <p:nvPr/>
        </p:nvPicPr>
        <p:blipFill>
          <a:blip r:embed="rId1"/>
          <a:stretch/>
        </p:blipFill>
        <p:spPr>
          <a:xfrm>
            <a:off x="714240" y="3357720"/>
            <a:ext cx="250056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Укажи вариант, в котором верно указаны главные члены предложения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1) </a:t>
            </a:r>
            <a:r>
              <a:rPr b="0" i="1" lang="ru-RU" sz="3200" spc="-1" strike="noStrike">
                <a:solidFill>
                  <a:srgbClr val="ffffff"/>
                </a:solidFill>
                <a:latin typeface="Franklin Gothic Book"/>
              </a:rPr>
              <a:t>первые листочки на берёзе сверкают, переливаются на солнышке.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Franklin Gothic Book"/>
              </a:rPr>
              <a:t>2) первые листочки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Franklin Gothic Book"/>
              </a:rPr>
              <a:t>3) листочки сверкают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Franklin Gothic Book"/>
              </a:rPr>
              <a:t>4) листочки на березе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Franklin Gothic Book"/>
              </a:rPr>
              <a:t>5) листочки сверкают, переливаются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листочки сверкают, переливаются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56" name="Group 19"/>
          <p:cNvGrpSpPr/>
          <p:nvPr/>
        </p:nvGrpSpPr>
        <p:grpSpPr>
          <a:xfrm>
            <a:off x="428760" y="500040"/>
            <a:ext cx="7581240" cy="4204800"/>
            <a:chOff x="428760" y="500040"/>
            <a:chExt cx="7581240" cy="4204800"/>
          </a:xfrm>
        </p:grpSpPr>
        <p:pic>
          <p:nvPicPr>
            <p:cNvPr id="57" name="Picture 5" descr="DOVE2"/>
            <p:cNvPicPr/>
            <p:nvPr/>
          </p:nvPicPr>
          <p:blipFill>
            <a:blip r:embed="rId1"/>
            <a:stretch/>
          </p:blipFill>
          <p:spPr>
            <a:xfrm>
              <a:off x="6662520" y="500040"/>
              <a:ext cx="127620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8" descr="1F2"/>
            <p:cNvPicPr/>
            <p:nvPr/>
          </p:nvPicPr>
          <p:blipFill>
            <a:blip r:embed="rId2"/>
            <a:stretch/>
          </p:blipFill>
          <p:spPr>
            <a:xfrm>
              <a:off x="500040" y="3928680"/>
              <a:ext cx="723600" cy="70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0" descr="1F2"/>
            <p:cNvPicPr/>
            <p:nvPr/>
          </p:nvPicPr>
          <p:blipFill>
            <a:blip r:embed="rId3"/>
            <a:stretch/>
          </p:blipFill>
          <p:spPr>
            <a:xfrm>
              <a:off x="7286400" y="4000320"/>
              <a:ext cx="723600" cy="70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1" descr="1F2"/>
            <p:cNvPicPr/>
            <p:nvPr/>
          </p:nvPicPr>
          <p:blipFill>
            <a:blip r:embed="rId4"/>
            <a:stretch/>
          </p:blipFill>
          <p:spPr>
            <a:xfrm>
              <a:off x="3857400" y="3714480"/>
              <a:ext cx="723600" cy="70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2" descr="1F2"/>
            <p:cNvPicPr/>
            <p:nvPr/>
          </p:nvPicPr>
          <p:blipFill>
            <a:blip r:embed="rId5"/>
            <a:stretch/>
          </p:blipFill>
          <p:spPr>
            <a:xfrm>
              <a:off x="5572080" y="3786120"/>
              <a:ext cx="723600" cy="70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4" descr="1F2"/>
            <p:cNvPicPr/>
            <p:nvPr/>
          </p:nvPicPr>
          <p:blipFill>
            <a:blip r:embed="rId6"/>
            <a:stretch/>
          </p:blipFill>
          <p:spPr>
            <a:xfrm>
              <a:off x="1928880" y="3786120"/>
              <a:ext cx="723240" cy="70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5" descr="1F2"/>
            <p:cNvPicPr/>
            <p:nvPr/>
          </p:nvPicPr>
          <p:blipFill>
            <a:blip r:embed="rId7"/>
            <a:stretch/>
          </p:blipFill>
          <p:spPr>
            <a:xfrm>
              <a:off x="428760" y="1357200"/>
              <a:ext cx="723600" cy="70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8" descr="1F2"/>
            <p:cNvPicPr/>
            <p:nvPr/>
          </p:nvPicPr>
          <p:blipFill>
            <a:blip r:embed="rId8"/>
            <a:stretch/>
          </p:blipFill>
          <p:spPr>
            <a:xfrm>
              <a:off x="7286400" y="1357200"/>
              <a:ext cx="723600" cy="704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Укажи цифры, на месте которых в предложении должны стоять запятые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За ночь зайчишки мои отогрелись(1) высохли(2) выспались(З) плотно наелись.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Franklin Gothic Book"/>
              </a:rPr>
              <a:t>              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Franklin Gothic Book"/>
              </a:rPr>
              <a:t>               </a:t>
            </a:r>
            <a:r>
              <a:rPr b="1" lang="ru-RU" sz="5400" spc="-1" strike="noStrike">
                <a:solidFill>
                  <a:srgbClr val="ffffff"/>
                </a:solidFill>
                <a:latin typeface="Franklin Gothic Book"/>
              </a:rPr>
              <a:t>1  2  3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67" name="Picture 5" descr="BIRD13"/>
          <p:cNvPicPr/>
          <p:nvPr/>
        </p:nvPicPr>
        <p:blipFill>
          <a:blip r:embed="rId1"/>
          <a:stretch/>
        </p:blipFill>
        <p:spPr>
          <a:xfrm>
            <a:off x="1000080" y="3214800"/>
            <a:ext cx="2070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08:52:07Z</dcterms:created>
  <dc:creator>Азат</dc:creator>
  <dc:description/>
  <dc:language>en-US</dc:language>
  <cp:lastModifiedBy>Гузельбаева Л.Н.</cp:lastModifiedBy>
  <dcterms:modified xsi:type="dcterms:W3CDTF">2012-03-10T18:29:19Z</dcterms:modified>
  <cp:revision>18</cp:revision>
  <dc:subject/>
  <dc:title>В каком варианте в выделенном слове пропущена буква и?   1) обб _жать вокруг дерева  2) зап_ вал   песню  3) зап_ вать лекарство водой  4) сл_ зать с дерева  </dc:title>
</cp:coreProperties>
</file>