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B11E-C4EE-4393-A68D-82E9642FE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0F4E-9993-4284-99BE-15AB5259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3914-0133-47AA-A2E7-4D1CEA47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E4E9-63C9-4048-BE0B-67DE65FDE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EB9F-563A-417D-B1B0-7DEC130F3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9467-0A4E-427D-A7A6-2D8AB6E7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4D68-FF26-4B6F-BF8A-AE5B6CAC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7038-9421-447A-96E8-591B9D8D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5585-4BC9-4BEB-8158-A90EF257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5EF1-BC81-4ECE-B1E2-610F2095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81A2-9EBC-4B23-A299-EDA8EFDC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3849-708F-47BA-974A-39B1379D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741D-A451-4098-B77C-29F029FA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2806-1204-4393-8231-DDE5D696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6B1C-9A27-4FB5-BC18-24EF0901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EBC7-F709-4F95-A5B1-4C96E4CB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D5EC-5BE1-45BD-AD04-AFEFAAA5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0E733-09E0-4A61-ACA8-CAA317D7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7AF5D-A9C9-410E-BE3D-AE05C8A7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5C56C-0C08-42B0-8950-F03576AE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23821-EBB1-49D5-A563-5437C59C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3C18D-0F24-4F7C-BB0D-4D7F24F0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B4A3-C072-4439-80CC-44BBA80B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E7283-134B-417C-B395-0F2C54E3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A19B7-6FE0-4B7F-A32E-496AD4D7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A0724-D0F9-4D50-ACA0-2DA05594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1880C-496A-49FA-8B24-D65FEF0E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3763D-39A0-4142-8B44-FC54CA92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7020B-E2B6-4C5D-B6E0-2F3716B0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2BFD9-1709-4D91-9CFF-DED41191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AB7F5-14EB-4540-BDF7-2E0C169C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02448-9F8C-47F1-8108-BB5520C8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05D58-7FF9-4196-BA1C-308275E4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1B5A-B5FA-4F57-BB01-01C9D521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18C02-4788-41DD-857D-6C12E9F9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0A79E-1BDE-4F55-9BC4-C1449D43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AE72D-DA5E-4CBC-AE96-2B5E5BEB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20DC5-887A-41EA-9DF2-48DB4AA9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139AF-2441-47D0-8EE2-AF5304E1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696CC-45F6-4EDD-950E-A2885A71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8B2BD-D5AA-47E9-8217-E7D41454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2BE83-200A-43D1-9C96-DEACAC03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70781-2BC5-4906-B49D-CCBEFFC6C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A2460-FB97-42AA-AF25-EA4E3CB6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C1CA-59B8-48B4-B268-B32A6797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B0561-6090-4111-AF13-589B3DD6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2635F-CDD4-4AD6-9F20-C1AA146B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A36C7-F136-45F4-839A-52D8D087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73DD6-8C91-4ACE-B815-1887E781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8BBBC-63D8-4489-B297-89DB939B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3A364-50CD-418B-A36C-FDDE7F6D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B7E2E-5E13-43D3-9D28-D03971A1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078D8-F7D2-44A2-A19B-87CFB49C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0A37F-C1CF-456F-9A36-A1FBB740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D2FB8-1B03-44D3-B3F9-6D0EBB0D1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83A6-CF64-437C-9995-56FEE0EF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609C9-8D35-40E9-8960-4BDC1A02C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5EC8FA-0C9B-4D95-A81E-4D23BD537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CAAA5C-CFBA-42F5-89B6-95C8169A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F3E0DF-9BA7-4BF6-8B3F-8E2BC771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C9FEEA-D6F6-4A6E-87B4-77A8930F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943FE8-06B2-4694-AD93-0E94CE7F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169BF7-6E7E-4A6E-8631-2436FB87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80C6A3-C297-47B5-A5E8-778066E5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3082AB-2279-4BC5-9A45-9A10F66A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08088D-1C26-4202-A9D3-DA23DB03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C224-6EC9-412D-BD0D-5AFC76E4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F56FD1-0D13-4EE7-B411-1E086C4F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FB99F6-C51B-4F61-8896-CCB02D164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D70373-1A70-4B84-847E-FE726EC8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2A84-5595-46C7-B23D-4E2B1595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D436-772A-4470-9C24-D206BF10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AEC7-73A8-4F7C-9918-57497FC907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DC59-E17F-4A18-ACBD-7D18EC1E1B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5045-2DA7-4598-A587-3866EB28F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A846-7E31-44BB-9796-87CA76A45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A11E-8555-453F-80A7-C87B8450FF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F658-513C-47FF-A07C-363D4C8424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ibreria.ru/aphorismes/autors/1112/" TargetMode="External"/><Relationship Id="rId3" Type="http://schemas.openxmlformats.org/officeDocument/2006/relationships/hyperlink" Target="http://www.libreria.ru/aphorismes/autors/299/" TargetMode="External"/><Relationship Id="rId4" Type="http://schemas.openxmlformats.org/officeDocument/2006/relationships/hyperlink" Target="http://www.libreria.ru/aphorismes/autors/299/" TargetMode="External"/><Relationship Id="rId5" Type="http://schemas.openxmlformats.org/officeDocument/2006/relationships/hyperlink" Target="http://www.libreria.ru/aphorismes/autors/1316/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Урок развития ре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Описание внешности человек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Внешность и характер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Лицо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Смуглое, круглое; загорелое; белое как снег; загорелое золотистым загаром; продолговатое; улыбающееся; заросшее щетиной; широкое, большеносое; краснощекое; конопатое; усеянное веснушк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Глаза, взгляд, взор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Ясный, умный взор; небольшие, темные глаза; бегающие, карие; длинные ресницы; любящий взгляд; прямой добрый взгляд; светлые, добрые, широко расставленные, прищуренные, голубые глаза; испуганные; бутылочного цвета с рыжеватым отливом; пушистые рыжие ресниц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Брови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Нависшие; сморщенные; тонкие, высокие; белесоватые, насупившиеся; вечно нахмуренны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Лоб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Белый, как слоновая кость; высокий с двумя бугр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Улыбка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Расплылась по морщинкам, необычная, смущенна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Нос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Слегка вздернутый; прямой, с легкой горбинко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олосы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Черноволосые; темно-русые с проседью, густые; русые; белокурые, пепельного цвета; тщательно причесанные; длинные; растрепаны; гладко причесаны; черноголовый; огненно, ярко-рыж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Осанка, фигура, рост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Важная осанка; худощавый, стройный; длинный; высокий, толстый; небольшого роста, изящно сложенная, как выточенная; приземистый; худенький; долговязы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оходка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Медлительная; слегка прихрамывающа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уки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Мягкие, белы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Одежда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Одевающаяся по моде; в туфлях на босу ногу; пиджак; распахнутый ворот рубашки; измятая фуражка, ботинки не чищены, хлястик оторван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Общее впечатление, вид, оценка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Приятное (лицо), ослепительная (красота), довольно красивый; ничего не выражающее лицо; недурна собой; выражение лица было просто и кротко, так грустно и так полно детского недоумения перед собственной грустью; отталкивающий вид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4400" spc="-1" strike="noStrike">
                <a:solidFill>
                  <a:srgbClr val="000000"/>
                </a:solidFill>
                <a:latin typeface="Calibri"/>
              </a:rPr>
              <a:t>Словарные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стремлены прямо на зрител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лицо широкое книзу, как бывает у физически крепких людей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згляд внимательный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олосы седы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685800" y="380880"/>
            <a:ext cx="7829640" cy="579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одилась  пригожа, да по нраву негож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на́та Мура́товна Литви́нов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«Твоя красота это твой внутренний мир, и как ты над ним работаешь, как ты себя хранишь, какую ты имеешь внутри себя культуру, так ты и выглядишь.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1676520" y="1523880"/>
            <a:ext cx="6248160" cy="51055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нешность обманчи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alibri"/>
              </a:rPr>
              <a:t>Красота спасет мир… А война начинается из-за стремлений к красоте…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Владимир Борисов</a:t>
            </a:r>
            <a:r>
              <a:rPr b="0" lang="ru-RU" sz="3200" spc="-1" strike="noStrike">
                <a:solidFill>
                  <a:srgbClr val="0066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alibri"/>
              </a:rPr>
              <a:t>Всем нравится прекрасная лошадь, но почему-то совершенно нет желающих ею стать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Аврелий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 Августин</a:t>
            </a:r>
            <a:r>
              <a:rPr b="0" lang="ru-RU" sz="3200" spc="-1" strike="noStrike">
                <a:solidFill>
                  <a:srgbClr val="0066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alibri"/>
              </a:rPr>
              <a:t>Всё красивое делается страшно медленно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Георгий Александров</a:t>
            </a:r>
            <a:r>
              <a:rPr b="0" lang="ru-RU" sz="3200" spc="-1" strike="noStrike">
                <a:solidFill>
                  <a:srgbClr val="0066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4400" spc="-1" strike="noStrike">
                <a:solidFill>
                  <a:srgbClr val="000000"/>
                </a:solidFill>
                <a:latin typeface="Calibri"/>
              </a:rPr>
              <a:t>Генка-фото 1987 г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Текст 2" descr=""/>
          <p:cNvPicPr/>
          <p:nvPr/>
        </p:nvPicPr>
        <p:blipFill>
          <a:blip r:embed="rId2"/>
          <a:stretch/>
        </p:blipFill>
        <p:spPr>
          <a:xfrm>
            <a:off x="1981080" y="1295280"/>
            <a:ext cx="5029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0" lang="ba-RU" sz="6000" spc="-1" strike="noStrike">
                <a:solidFill>
                  <a:srgbClr val="000000"/>
                </a:solidFill>
                <a:latin typeface="Calibri"/>
              </a:rPr>
              <a:t>смешной вид</a:t>
            </a:r>
            <a:br>
              <a:rPr sz="6000"/>
            </a:br>
            <a:br>
              <a:rPr sz="6000"/>
            </a:br>
            <a:r>
              <a:rPr b="0" lang="ba-RU" sz="6000" spc="-1" strike="noStrike">
                <a:solidFill>
                  <a:srgbClr val="000000"/>
                </a:solidFill>
                <a:latin typeface="Calibri"/>
              </a:rPr>
              <a:t>смешливый характе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ba-RU" sz="4400" spc="-1" strike="noStrike">
                <a:solidFill>
                  <a:srgbClr val="000000"/>
                </a:solidFill>
                <a:latin typeface="Calibri"/>
              </a:rPr>
              <a:t>оставим таблицу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ущественные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есуществен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685800" y="1676520"/>
          <a:ext cx="7238880" cy="4662360"/>
        </p:xfrm>
        <a:graphic>
          <a:graphicData uri="http://schemas.openxmlformats.org/drawingml/2006/table">
            <a:tbl>
              <a:tblPr/>
              <a:tblGrid>
                <a:gridCol w="3581280"/>
                <a:gridCol w="36576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имеющий существенного значени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стоящее имя Януша Корчака – Генрик Гольдшмид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Текст 2" descr=""/>
          <p:cNvPicPr/>
          <p:nvPr/>
        </p:nvPicPr>
        <p:blipFill>
          <a:blip r:embed="rId2"/>
          <a:stretch/>
        </p:blipFill>
        <p:spPr>
          <a:xfrm>
            <a:off x="2057400" y="1523880"/>
            <a:ext cx="5410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Хемингуэй – американский писате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Текст 2" descr=""/>
          <p:cNvPicPr/>
          <p:nvPr/>
        </p:nvPicPr>
        <p:blipFill>
          <a:blip r:embed="rId2"/>
          <a:stretch/>
        </p:blipFill>
        <p:spPr>
          <a:xfrm>
            <a:off x="1905120" y="1828800"/>
            <a:ext cx="5715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8:33:36Z</dcterms:created>
  <dc:creator>Гулия</dc:creator>
  <dc:description/>
  <dc:language>en-US</dc:language>
  <cp:lastModifiedBy>Гулия</cp:lastModifiedBy>
  <dcterms:modified xsi:type="dcterms:W3CDTF">2011-12-13T04:12:4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