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37E-DE2A-4D94-89A5-EF59F931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A4F-F585-4D77-9F93-AE82C07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BB5-0FB8-453B-9777-CB826D27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9CA-2A80-4820-AF8E-117E0FE7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D31-383B-493D-90D2-36E130F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57C-3CA6-4C5C-90FD-06F99A1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6D5C-F4DB-4215-96CE-5F9227C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4247-12B9-4BF3-BBE5-954FAED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9204-7E9E-40DB-8A3B-6C203E4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50A-7493-42A5-A8FD-E0796B2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936-3758-4417-A742-6BC36E6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BAB-3153-47A2-97A1-2BDE92E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504-39AA-4A14-92FC-8A4EBB9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63B-3CEC-49E6-B571-4114316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BE2-7C8D-4197-8508-097D3DA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669-370F-478F-81CE-B7315786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C44F-006C-41F8-B07C-D76A97CD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BDA-C9D4-4B21-A5CE-9D3834CD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BCE-C6EA-4406-8C43-CCC23106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C5D-FCED-4B91-9B86-3233BEF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3F6-63F9-4013-BA80-51B01E4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381-2B70-4008-B7F0-705F2E9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CDB-12A4-4EB9-B57B-A0F58DF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D6C-EA24-4C33-8366-1EB53F9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065-078B-4DCA-A2CA-AF5069F24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5E2F-2B05-4931-9910-5D29CDD4F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04000" cy="1065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ДЕЯТЕЛЬНОСТНО-КОМПЕТЕНТНОСТНЫЙ ПОДХОД В РАЗВИТИИ ТВОРЧЕСКИХ СПОСОБНОСТЕЙ НА УРОКАХ РУССКОГО ЯЗЫКА И ЛИТЕРАТУРЫ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11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ркова Наталья  Виктор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валификационной категор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ОУ «Гимназия №25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род Нижнекамск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спублика Татарста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007 г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IMG_5207"/>
          <p:cNvPicPr/>
          <p:nvPr/>
        </p:nvPicPr>
        <p:blipFill>
          <a:blip r:embed="rId1"/>
          <a:stretch/>
        </p:blipFill>
        <p:spPr>
          <a:xfrm>
            <a:off x="2700360" y="1557360"/>
            <a:ext cx="424800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2" descr="100"/>
          <p:cNvPicPr/>
          <p:nvPr/>
        </p:nvPicPr>
        <p:blipFill>
          <a:blip r:embed="rId1"/>
          <a:stretch/>
        </p:blipFill>
        <p:spPr>
          <a:xfrm rot="20934000">
            <a:off x="468000" y="333360"/>
            <a:ext cx="3908520" cy="537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7" name="Picture 13" descr="10 1000"/>
          <p:cNvPicPr/>
          <p:nvPr/>
        </p:nvPicPr>
        <p:blipFill>
          <a:blip r:embed="rId2"/>
          <a:stretch/>
        </p:blipFill>
        <p:spPr>
          <a:xfrm>
            <a:off x="4356000" y="0"/>
            <a:ext cx="2371680" cy="3240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68" name="Picture 16" descr="7"/>
          <p:cNvPicPr/>
          <p:nvPr/>
        </p:nvPicPr>
        <p:blipFill>
          <a:blip r:embed="rId3"/>
          <a:stretch/>
        </p:blipFill>
        <p:spPr>
          <a:xfrm rot="593400">
            <a:off x="5796000" y="3357720"/>
            <a:ext cx="2386080" cy="3284280"/>
          </a:xfrm>
          <a:prstGeom prst="rect">
            <a:avLst/>
          </a:prstGeom>
          <a:ln w="9360">
            <a:solidFill>
              <a:srgbClr val="00b200"/>
            </a:solidFill>
            <a:miter/>
          </a:ln>
        </p:spPr>
      </p:pic>
    </p:spTree>
  </p:cSld>
  <p:transition spd="med" advTm="2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532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«Само развитие творческого воображения обусловлено в какой-то мере техникой, и её отсутствие или несовершенство, её неадекватность творческим задачам художника…может сковать его воображение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С.Л. Рубинштей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78487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Найти новую формулировку проблемы, зада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Поставить к исследуемой проблеме вопрос: «А что, если…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Помнить о том, что юмор – показатель абстрактного мышления, поэтому не нужно бояться шуточных импровиза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Не бояться самых разных аналогий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Мои карагот"/>
          <p:cNvPicPr/>
          <p:nvPr/>
        </p:nvPicPr>
        <p:blipFill>
          <a:blip r:embed="rId1"/>
          <a:stretch/>
        </p:blipFill>
        <p:spPr>
          <a:xfrm>
            <a:off x="900000" y="765000"/>
            <a:ext cx="7377120" cy="51120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7920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«Стремление ребёнка показать себя существом изображающим, представляющим должно быть для нас священно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                   </a:t>
            </a: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Ф. Фребе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«Проблема творчества – один из участков педагогической целины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               </a:t>
            </a: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В.А.Сухомлинск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0 (116)"/>
          <p:cNvPicPr/>
          <p:nvPr/>
        </p:nvPicPr>
        <p:blipFill>
          <a:blip r:embed="rId1"/>
          <a:stretch/>
        </p:blipFill>
        <p:spPr>
          <a:xfrm>
            <a:off x="826920" y="692280"/>
            <a:ext cx="7689960" cy="532908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88930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3200" spc="-1" strike="noStrike">
                <a:solidFill>
                  <a:srgbClr val="003399"/>
                </a:solidFill>
                <a:latin typeface="Comic Sans MS"/>
              </a:rPr>
              <a:t>«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Весь смысл жизни заключается в бесконечном завоевании неизвестного, в вечном усилии познать больше»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         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003399"/>
                </a:solidFill>
                <a:latin typeface="Comic Sans MS"/>
              </a:rPr>
              <a:t>Э. Зо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IMG_5202"/>
          <p:cNvPicPr/>
          <p:nvPr/>
        </p:nvPicPr>
        <p:blipFill>
          <a:blip r:embed="rId1"/>
          <a:stretch/>
        </p:blipFill>
        <p:spPr>
          <a:xfrm>
            <a:off x="900000" y="765000"/>
            <a:ext cx="7853400" cy="52563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35000" y="1795680"/>
            <a:ext cx="887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т + лес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ор + ель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л + каска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з + соло + сеть + нить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н + меч + тир + ось + ель + сад + по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PICT1174"/>
          <p:cNvPicPr/>
          <p:nvPr/>
        </p:nvPicPr>
        <p:blipFill>
          <a:blip r:embed="rId1"/>
          <a:stretch/>
        </p:blipFill>
        <p:spPr>
          <a:xfrm>
            <a:off x="971640" y="549360"/>
            <a:ext cx="7416720" cy="5560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806436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3200" spc="-1" strike="noStrike">
                <a:solidFill>
                  <a:srgbClr val="003399"/>
                </a:solidFill>
                <a:latin typeface="Comic Sans MS"/>
              </a:rPr>
              <a:t>Семеро сверчков смотрели страшный спектакль. Скоро старшему стало смешно, седьмому стало скучно. Сверчки старательно скрывали своё стремление сбежать.     «Странно, стало совсем скучно», - сказал старший. Седьмой сверчок смело спал, скрипя стул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Comic Sans MS"/>
              </a:rPr>
              <a:t>                               </a:t>
            </a:r>
            <a:r>
              <a:rPr b="1" i="1" lang="ru-RU" sz="3200" spc="-1" strike="noStrike">
                <a:solidFill>
                  <a:srgbClr val="003399"/>
                </a:solidFill>
                <a:latin typeface="Comic Sans MS"/>
              </a:rPr>
              <a:t>Макс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Емельянова Ксюша 9 е"/>
          <p:cNvPicPr/>
          <p:nvPr/>
        </p:nvPicPr>
        <p:blipFill>
          <a:blip r:embed="rId1"/>
          <a:stretch/>
        </p:blipFill>
        <p:spPr>
          <a:xfrm rot="20368200">
            <a:off x="1547280" y="404640"/>
            <a:ext cx="4113360" cy="595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Алия 2"/>
          <p:cNvPicPr/>
          <p:nvPr/>
        </p:nvPicPr>
        <p:blipFill>
          <a:blip r:embed="rId2"/>
          <a:stretch/>
        </p:blipFill>
        <p:spPr>
          <a:xfrm rot="5956800">
            <a:off x="5959440" y="-118800"/>
            <a:ext cx="2151000" cy="377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3903480"/>
            <a:ext cx="822960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0" descr="Алия 3"/>
          <p:cNvPicPr/>
          <p:nvPr/>
        </p:nvPicPr>
        <p:blipFill>
          <a:blip r:embed="rId3"/>
          <a:stretch/>
        </p:blipFill>
        <p:spPr>
          <a:xfrm rot="4976400">
            <a:off x="6645240" y="3515400"/>
            <a:ext cx="1644840" cy="276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Алия 4"/>
          <p:cNvPicPr/>
          <p:nvPr/>
        </p:nvPicPr>
        <p:blipFill>
          <a:blip r:embed="rId4"/>
          <a:stretch/>
        </p:blipFill>
        <p:spPr>
          <a:xfrm rot="4749600">
            <a:off x="-318600" y="4386240"/>
            <a:ext cx="27907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0:11:19Z</dcterms:created>
  <dc:creator>ИРО</dc:creator>
  <dc:description/>
  <dc:language>en-US</dc:language>
  <cp:lastModifiedBy>ПК</cp:lastModifiedBy>
  <dcterms:modified xsi:type="dcterms:W3CDTF">2008-05-06T22:22:31Z</dcterms:modified>
  <cp:revision>49</cp:revision>
  <dc:subject/>
  <dc:title>Слайд 1</dc:title>
</cp:coreProperties>
</file>