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0BA-D9EB-4FA6-B5E4-D3A78B84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075-CD4A-4B41-BEC9-A61BBD76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619-1AF2-451B-ABD9-16F08614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FD6-9687-473A-BAEE-F42DC434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AAFC-CD87-423D-9C55-0E8B7882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2F75-2274-4A39-BB2C-47ADD561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604F-6EBD-40BF-9B96-D6547876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F2E0-E7E9-43BC-ADB2-1C314315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CE59-8782-4962-AD59-C5969B06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E4EC-24EC-458F-A509-BEFE26BC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6BDF-4847-4EB0-A008-65197DA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B17-FBF4-4486-8259-107169AF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485F-699F-4201-9851-5E195EC1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0CDC-49A1-4C69-B023-40620938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2A12-91F6-43D9-9D15-5196D979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22E1-943C-4EE1-9447-EAD04A50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E7C4-8D42-4C06-9B22-DF32D744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19562-1ACD-44A0-B452-BFB78CAE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1AB3E-2053-4AED-B538-6099DDE2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02E43-097A-4D66-964C-7FCF333B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4705A-7252-489B-B393-3C025885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F714A-CACD-4D89-BACE-F008FF0D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845-03D9-4EF1-83DE-41480CBF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E8B26-CD9E-4834-B6AA-DF0AB7EE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CE8EF-AEA5-4A73-BF0F-38F3E5E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1B8DF-B47A-470B-8D7F-EED2002E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B3CE2-FF78-4FBD-BAD3-FF52DE26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81A3F-2D75-4E0C-8A1A-9423CDDF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2EECD-B8C2-4168-8063-DE13AB62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67530-DF47-40CF-9A6D-2B2B1722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75170-D798-425C-ABD8-0EA8EF5D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C316-379B-4140-9D4A-73218D32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6486-BD08-4F9A-AA8E-4406A210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464-7F9B-4AA1-9448-003BB514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B528-02FB-4F15-ABD4-9B8B6AA2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A527-9EA2-4C91-80D0-0DF2EB9E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52CB9-9189-4CF8-A5E5-9FF5C1B7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6A741-F94D-4C0F-819B-B2FEC55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1065F-0CFE-4B0E-B96E-816C8290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2702-E9FF-4BFF-AA7A-9C0C93C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9D6C-1DDE-4541-861C-864267DC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9B86-7A70-40B3-A451-E2B2A44A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7FCF0-32C8-41E0-BC21-D9163B9E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230A5-0E49-480A-8729-DAE27F1C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F15-266C-45CA-8E83-48909C7B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99359-DEBE-4130-BF80-D83B3427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CA7CB-6FD9-4136-9FC3-D10AE6A8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2B4E0-E699-48EA-B255-9000FC03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530CD-9207-4335-B107-ADAF203E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36167-C74A-4F22-9C6C-FF354AE9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5BF68-A9C8-4299-9ECA-8EB984BB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C8AE7-DACE-44C3-9EF7-C86E9F2D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B7835-3BFD-455C-AE18-4333F17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71F7A-8B88-4A2B-B33F-E88E2891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E5054-E262-4C8B-A12C-1471A26A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8A4-14B8-4A5D-8367-D0C1AD30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51AB0-CB07-472B-A991-D0B80A32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9D0D3-88AB-4087-8F46-04818CC4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1D852-8B3F-4A7F-BA5F-08CF75AC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C601C-E023-4747-8F40-2DB259AD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7B2FA-1CE0-4426-9B85-D6C23B00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51D30-C6E2-447F-AEF6-01511561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7793F-A5E5-4D62-B41A-8CB0A0FC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5B5B0-6909-4080-8436-0DFA8F0F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D6443-11F2-4016-AD89-C6A5CAC4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690C0-9D8D-44DD-8CFC-FF89A6E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C86-2B8F-4AF3-B61D-3F03481C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8BB02-43A8-4B54-BB3B-89095BB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6EE87-3BD9-431D-A0DA-2D8A04B5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F3E5A-FF52-4CDC-8A63-E0C8C106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0722F-1585-4B9B-B7FF-05926DE1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1AED4-33A1-4166-B3CF-C37FE2A8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6A675-0753-4527-A4E4-0A384F39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B5B2F-0722-4660-8AA5-73C6E1B2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08690-BDC8-4EE7-A140-957CC4F9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D6BC4-B312-406A-BA0D-D094A72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569EF-5CE1-446E-9DE5-77550154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3BB-ACDA-4F8B-BB9C-F822260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A4B16-EE1D-4E89-A602-A9A29299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287AF-E7F3-46B0-9E92-5175614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98A26-A5B6-44D3-BB2F-EF8CB171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060F1-DBF0-4F92-989A-5FBB27C3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D592D-74B1-4A62-958B-68FEAE26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10C-420A-4C5C-B26A-5C05D75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3d9b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7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5a35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3d9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d4c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3d9b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EC0F-B145-4C94-9B0E-63F2A0237D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3d9b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de6d3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de6d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6f3e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3d9b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6f3e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3d9b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3d9b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7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5a35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3d9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d4c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2AE5-EC42-47F1-92D1-B8B764E03C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3d9b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3d9b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7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5a35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3d9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d4c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10CF-7BDD-422E-9C4F-794E149A3E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3d9b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de6d3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de6d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6f3e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3d9b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6f3e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3d9b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3d9b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7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5a35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3d9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d4c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9AE-8D92-432F-B72E-1B8E7DD39D1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3d9b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3d9b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7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5a35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3d9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d4c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9484-DF50-43DA-869D-3C676C41A9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3d9b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3d9b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7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5a35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3d9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d4c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EE76-9AD2-4187-B75F-F1208785C5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3d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3d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7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5a35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3d9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d4c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853E-9BFA-414A-BC76-BEA8679B8FC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69676d"/>
                </a:solidFill>
                <a:latin typeface="Century Schoolbook"/>
              </a:rPr>
              <a:t>ТВОРЧЕСКИЙ ПРОЕКТ</a:t>
            </a:r>
            <a:br>
              <a:rPr sz="2700"/>
            </a:br>
            <a:r>
              <a:rPr b="1" i="1" lang="ru-RU" sz="2700" spc="-1" strike="noStrike">
                <a:solidFill>
                  <a:srgbClr val="69676d"/>
                </a:solidFill>
                <a:latin typeface="Century Schoolbook"/>
              </a:rPr>
              <a:t>ПО ТЕХНОЛОГИИ</a:t>
            </a:r>
            <a:br>
              <a:rPr sz="2700"/>
            </a:br>
            <a:r>
              <a:rPr b="1" i="1" lang="ru-RU" sz="2700" spc="-1" strike="noStrike">
                <a:solidFill>
                  <a:srgbClr val="69676d"/>
                </a:solidFill>
                <a:latin typeface="Century Schoolbook"/>
              </a:rPr>
              <a:t> </a:t>
            </a:r>
            <a:endParaRPr b="0" lang="en-US" sz="27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ема: «Изготовление светильника»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Выполнил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ченик  11 кла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Шханоков Ал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: З.Г.Мухамеджано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9676d"/>
                </a:solidFill>
                <a:latin typeface="Century Schoolbook"/>
              </a:rPr>
              <a:t>ВЫВОДЫ</a:t>
            </a: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Светильник изготовлен в качестве подарка для мамы, безопасен, компактен, при желании можно менять тканевую часть абажур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Основа светильника - старая ваза, с орнаментом, под цвет орнамента подобран цвет абажура зеленого цвета (зеленый цвет происходит от слияние синего и желтого, при этом взаимодополняются качества того и другого. Отсюда появляется покой и неподвижность. В зеленом всегда заложена жизненная возможность, он не обладает действующей во вне энергией, но содержит в себе потенциальную энергию – не покоится, а отражает внутреннее напряженное состояние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Он выражает отношение человека к самому себе; ничего не требует и никуда не зовет (смотрит мимо всех). В себе скрывает все свои тайны, вдохновляет стабильность. Символизирует процветание и новые начинани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Зеленый нейтрализует действие остальных цветов; помогает рассеивать негативные эмоции.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носит спокойствие и умиротворенность, помогает сконцентрироваться и принять решение, помогает при шоке и обладает снотворным действием.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69676d"/>
                </a:solidFill>
                <a:latin typeface="Century Schoolbook"/>
              </a:rPr>
              <a:t>СПИСОК ИСПОЛЬЗОВАННОЙ ЛИТЕРАТУРЫ</a:t>
            </a:r>
            <a:br>
              <a:rPr sz="2700"/>
            </a:br>
            <a:endParaRPr b="0" lang="en-US" sz="27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рлова Н. Техника: энциклопедия. – М.: 000 «Росмен-издат», 2000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уравьев Е. М. Технология обработки металлов. – М.: Просвещение, 1998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рабанов И. А. Справочник по трудовому обучению. – М.: Просвещение, 1991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мба В. В. Световые приборы. – М., 1972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орелов В. В. Охрана труда и техника безопасности в общеобразовательной школе М.: Просвещение, 1985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рабанов И. А. Технология обработки древесины. – М.: Просвещение, 1995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нциклопедия «Домоводство», М.: Колос, 1998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76d"/>
                </a:solidFill>
                <a:latin typeface="Century Schoolbook"/>
              </a:rPr>
              <a:t>АНОТАЦИЯ</a:t>
            </a:r>
            <a:br>
              <a:rPr sz="3000"/>
            </a:b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стольная лампа выполнена из отходов старых вещей. Которые уже не использовались в быту, а так же из материалов, утративших свое назначение. При изготовлении лампы материалы не меняли своих физических и химических свойств, вредные вещества не выделялись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основании вышеизложенного, считаю, что изготовление настольной лампы не влечет за собой изменений в окружающей среде, нарушений в жизнедеятельности человека. Лампу можно использовать как в быту, так и наглядным пособием на уроках технологии в разделе « Новая жизнь – старым вещам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69676d"/>
                </a:solidFill>
                <a:latin typeface="Century Schoolbook"/>
              </a:rPr>
              <a:t>ВЫБОР И ОБОСНОВАНИЕ ПРОЕКТА</a:t>
            </a:r>
            <a:br>
              <a:rPr sz="2700"/>
            </a:br>
            <a:endParaRPr b="0" lang="en-US" sz="27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изнь современного человека немыслима без использования электрической энергии. Она освещает наше жильё, на ней работают швейные машины, холодильники, телевизоры и др. бытовая техника . Она значительно облегчает домашний труд , сокращает затраты времени на выполнение домашней работы , создаёт уют и комфорт в быт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76d"/>
                </a:solidFill>
                <a:latin typeface="Century Schoolbook"/>
              </a:rPr>
              <a:t>ИСТОРИЯ РАЗВИТИЯ СВЕТИЛЬНИКА</a:t>
            </a:r>
            <a:br>
              <a:rPr sz="3000"/>
            </a:b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ревнейшие светильники (неглубокие каменные плошки) найдены на стоянках мадленской эпохи палеолита. В энеолите известны глиняные светильники в виде плоских чаш на поддонах. В дальнейшем появились светильники с закрытым резервуаром, имеющим 2 отверстия – для фитиля и для наливания жира. В Древней Греции и Риме применялись глиняные и бронзовые светильники, в которые наливали оливковое масло. В Древней Руси были и многоярусные светильники – несколько глиняных блюдец, укрепленных одно над друг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9676d"/>
                </a:solidFill>
                <a:latin typeface="Century Schoolbook"/>
              </a:rPr>
              <a:t>ФОТО ИЗДЕЛИЯ</a:t>
            </a:r>
            <a:br>
              <a:rPr sz="3000"/>
            </a:b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P1160388"/>
          <p:cNvPicPr/>
          <p:nvPr/>
        </p:nvPicPr>
        <p:blipFill>
          <a:blip r:embed="rId1"/>
          <a:stretch/>
        </p:blipFill>
        <p:spPr>
          <a:xfrm>
            <a:off x="142920" y="1571760"/>
            <a:ext cx="4714920" cy="4143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P1160386"/>
          <p:cNvPicPr/>
          <p:nvPr/>
        </p:nvPicPr>
        <p:blipFill>
          <a:blip r:embed="rId2"/>
          <a:stretch/>
        </p:blipFill>
        <p:spPr>
          <a:xfrm>
            <a:off x="4786200" y="1571760"/>
            <a:ext cx="3929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69676d"/>
                </a:solidFill>
                <a:latin typeface="Century Schoolbook"/>
              </a:rPr>
              <a:t>ТЕХНОЛОГИЧЕСКАЯ КАРТА</a:t>
            </a:r>
            <a:br>
              <a:rPr sz="2700"/>
            </a:br>
            <a:endParaRPr b="0" lang="en-US" sz="2700" spc="-1" strike="noStrike">
              <a:solidFill>
                <a:srgbClr val="69676d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28760" y="1143000"/>
          <a:ext cx="8229600" cy="5397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оследовательность выполнения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брал заготовку (старая ваз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сверлил отвер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ерло, д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крепил патрон и соединительный шн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уруповерт, шуру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готовить из проволоки каркас абаж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л. паяльник, припой, флюс, зубило, апильник, молоток, инейка, плоскогубцы, слесарные ножниц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42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готовить абажур:раскроить из ткани детали абажура с припуском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извести сборку лам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ей, отвертка, ключ 1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, индикатор напряжения, нитка, иго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69676d"/>
                </a:solidFill>
                <a:latin typeface="Century Schoolbook"/>
              </a:rPr>
              <a:t>ТЕХНИКА БЕЗОПАСНОСТИ ПРИ ВЫПОЛНЕНИИ РАБОТ</a:t>
            </a:r>
            <a:br>
              <a:rPr sz="2700"/>
            </a:br>
            <a:endParaRPr b="0" lang="en-US" sz="27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. Соблюдай безопасные прием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аботы на сверлильном станк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чинай работу на станке только с разрешения учител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 установи сверл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авно и равномерно подавай сверл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концу сверления уменьшай нажим на сверл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сверлении глубоких отверстий периодически выводи сверло из отверстия и очищай его от струж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отри типовую инструкцию в прилож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9676d"/>
                </a:solidFill>
                <a:latin typeface="Century Schoolbook"/>
              </a:rPr>
              <a:t>ТЕХНИКА БЕЗОПАСНОСТИ ПРИ ВЫПОЛНЕНИИ РАБОТ</a:t>
            </a:r>
            <a:endParaRPr b="0" lang="en-US" sz="30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2. Безопасные прием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аботы при электропаян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йте паяльники с безопасным напряжением 36-42 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йте вентиляцию для удаления пыли и вредных пар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торожно обращайтесь с горячим паяльником, нагретыми деталями и расплавленным припо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ле окончания работы вымойте руки водой с мыл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 типовую инструкцию в прилож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800" spc="-1" strike="noStrike">
                <a:solidFill>
                  <a:srgbClr val="69676d"/>
                </a:solidFill>
                <a:latin typeface="Century Schoolbook"/>
              </a:rPr>
              <a:t>ЭКОЛОГО-ЭКОНОМИЧЕСКОЕ ОБОСНОВАНИЕ ИЗДЕЛИЯ</a:t>
            </a:r>
            <a:br>
              <a:rPr sz="2800"/>
            </a:br>
            <a:r>
              <a:rPr b="1" lang="ru-RU" sz="2800" spc="-1" strike="noStrike">
                <a:solidFill>
                  <a:srgbClr val="69676d"/>
                </a:solidFill>
                <a:latin typeface="Century Schoolbook"/>
              </a:rPr>
              <a:t>В КОНКРЕТНОМ СЛУЧАЕ</a:t>
            </a:r>
            <a:br>
              <a:rPr sz="2700"/>
            </a:br>
            <a:endParaRPr b="0" lang="en-US" sz="2800" spc="-1" strike="noStrike">
              <a:solidFill>
                <a:srgbClr val="6967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Для изготовления этой настольной лампы я купил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кань – 18 руб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Бахрома – 3 руб. 75 коп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Электропатрон – 9 руб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рипой – 7 руб. 80 коп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люминевый скотч – 60 руб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того материальные затраты составили: 98 руб. 52 коп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Для изготовления других деталей использовал  старую вазу,проволоки, и качественные детали изделий, пришедших в негодность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траты на электроэнергию составили 0 руб. 38 коп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аким образом экономические затраты на изготовление изделия составили 98 руб.52 коп.+0 руб. 38 коп.=98 руб. 90 коп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ри средней цене настольной лампы в магазине 400 рублей. Я сэкономил для семейного бюджета 400 руб.-38 руб. 90 коп.=361 руб. 10 коп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9:52:14Z</dcterms:created>
  <dc:creator>UserXP</dc:creator>
  <dc:description/>
  <dc:language>en-US</dc:language>
  <cp:lastModifiedBy>UserXP</cp:lastModifiedBy>
  <dcterms:modified xsi:type="dcterms:W3CDTF">2011-12-19T20:10:51Z</dcterms:modified>
  <cp:revision>2</cp:revision>
  <dc:subject/>
  <dc:title> ТВОРЧЕСКИЙ ПРОЕКТ ПО ТЕХНОЛОГИИ  </dc:title>
</cp:coreProperties>
</file>