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gif" ContentType="image/gif"/>
  <Override PartName="/ppt/media/image6.jpeg" ContentType="image/jpeg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5956-F434-46AD-B493-BCC5FF08B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4BA9-CAC8-4813-A24B-BB88BF4F9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21BA-6CD3-44AA-903E-5DFA0E869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39A4-A7D8-42C2-B49A-987F166A6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2A8E-81C1-4523-AE14-39C241651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8BA7-2550-4231-8CE5-ECFB46DAF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FAB4-7BD2-41AE-9ACB-70B3CCD79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3FE6-4293-42A8-8279-C97E22CF0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8F3F-8F0E-4C51-A470-321F2EEAD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FFC4-7EAF-494E-A268-FDC8DDC4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5617-EA54-450F-A64B-20B7B6E58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9060-5D74-4065-B4CC-673F5B4D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99EDB-506D-4734-A67A-A6AF78AAEC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76360" y="4653000"/>
            <a:ext cx="6337440" cy="18288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Платонов Андрей Платонови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pp_055"/>
          <p:cNvPicPr/>
          <p:nvPr/>
        </p:nvPicPr>
        <p:blipFill>
          <a:blip r:embed="rId2"/>
          <a:stretch/>
        </p:blipFill>
        <p:spPr>
          <a:xfrm>
            <a:off x="3132000" y="981000"/>
            <a:ext cx="3040200" cy="338472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p:transition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7704000" cy="38890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Андрей Платонович Платонов (настоящая фамилия – Климентов) родился в Ямской слободе, предместье г.Воронеж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Учился сначала  в церковно – приходской школе и городском училище. Он рано начал трудовую жизнь и только в 1918г. Ему удалось продолжить образование, поступив в железнодорожный политехнику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539280" y="1341360"/>
            <a:ext cx="8425080" cy="3240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Отец его – паровозный машинист, слесарь Воронежских железнодорожных мастерск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Мать – дочь часового мастера, глубоко верующая женщина. От отца Платонов унаследовал любовь к технике и всякой «потной работе», от матери – понимание души русского православного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ffffff"/>
            </a:gs>
            <a:gs pos="100000">
              <a:srgbClr val="8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Литературная рабо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Платонов литературой начал заниматься очень рано, еще подростком. С осень 1918г. Выступает в дискуссиях и в печати, публикует стихи и рассказы в воронежских газетах и журналах. В 1920г. Был делегатом 1 Всероссийского съезда пролетарских писателей в Москве. В Воронеже выходят его книги и среди них сборник стихотворений «Голубая глубин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книга"/>
          <p:cNvPicPr/>
          <p:nvPr/>
        </p:nvPicPr>
        <p:blipFill>
          <a:blip r:embed="rId1"/>
          <a:stretch/>
        </p:blipFill>
        <p:spPr>
          <a:xfrm>
            <a:off x="7093080" y="189000"/>
            <a:ext cx="1728720" cy="142884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onotype Corsiva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Monotype Corsiva"/>
              </a:rPr>
              <a:t>Платонов – фронтовой корреспондент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Великая Отечественная война  сделала Платонова фронтовым корреспондентом газеты «Красная звезда «. В это время вышли четыре его книги – «Одухотворенные люди», «Рассказы о Родине», «Броня». Цензура не пропустила  его книги «О живых и мертвых», «Вся жизнь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Рисунок1"/>
          <p:cNvPicPr/>
          <p:nvPr/>
        </p:nvPicPr>
        <p:blipFill>
          <a:blip r:embed="rId2"/>
          <a:stretch/>
        </p:blipFill>
        <p:spPr>
          <a:xfrm>
            <a:off x="6300720" y="4581360"/>
            <a:ext cx="2016360" cy="160020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8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39640" y="1628280"/>
            <a:ext cx="8064720" cy="3457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Андрей Платонов прожил недолгую жизнь. Он умер в 1951год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в атмосфере непризнания, житейских невзгод, мучимый туберкулезом, наследием фронтовых дорог и сверхнапряжений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1T21:09:10Z</dcterms:created>
  <dc:creator>ALINA</dc:creator>
  <dc:description/>
  <dc:language>en-US</dc:language>
  <cp:lastModifiedBy>Люба</cp:lastModifiedBy>
  <dcterms:modified xsi:type="dcterms:W3CDTF">2012-03-10T06:47:48Z</dcterms:modified>
  <cp:revision>9</cp:revision>
  <dc:subject/>
  <dc:title>Платонов Андрей Платонович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