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7F8-6D90-4981-B28B-FEC61B5D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58E-B498-42E9-852E-F5368EE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3D4-5D98-4E49-86F6-223038C4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F41-4366-4279-A0CC-ED2EC431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3DC-14C1-44D2-9EF8-4AEFFE5E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56B-99BA-4A0D-BF55-C86F452F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F1A-A05A-4679-B0BD-DF044315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E3D-480C-4B49-A33D-3B5C2B1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B67-25A2-4A62-B643-D0129CAF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CDB-DA94-4935-AB81-5588EFE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0C4-7315-4269-A372-20581C15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B65-BE97-4E48-87A7-F187C50A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F21B-AA0B-4792-AD17-65331B6E0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48;&#1079;&#1086;&#1073;&#1088;&#1072;&#1078;&#1077;&#1085;&#1080;&#1077;:Battle_of_moscow03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ru.wikipedia.org/wiki/&#1048;&#1079;&#1086;&#1073;&#1088;&#1072;&#1078;&#1077;&#1085;&#1080;&#1077;:Kukr_kleshi_1941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итва под Москвой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1" i="1" lang="ru-RU" sz="4800" spc="-1" strike="noStrike">
                <a:solidFill>
                  <a:srgbClr val="000066"/>
                </a:solidFill>
                <a:latin typeface="Monotype Corsiva"/>
              </a:rPr>
              <a:t>Коренной перелом </a:t>
            </a:r>
            <a:br>
              <a:rPr sz="4800"/>
            </a:br>
            <a:r>
              <a:rPr b="1" i="1" lang="ru-RU" sz="4800" spc="-1" strike="noStrike">
                <a:solidFill>
                  <a:srgbClr val="000066"/>
                </a:solidFill>
                <a:latin typeface="Monotype Corsiva"/>
              </a:rPr>
              <a:t>в Великой отечественной вой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840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30 сентября 1941                    - 20 апреля 194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Парад 7 ноября 1941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?id=2285282&amp;tov=4"/>
          <p:cNvPicPr/>
          <p:nvPr/>
        </p:nvPicPr>
        <p:blipFill>
          <a:blip r:embed="rId1"/>
          <a:stretch/>
        </p:blipFill>
        <p:spPr>
          <a:xfrm>
            <a:off x="1187280" y="1459080"/>
            <a:ext cx="69850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attle_of_moscow10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?id=38598897&amp;tov=0"/>
          <p:cNvPicPr/>
          <p:nvPr/>
        </p:nvPicPr>
        <p:blipFill>
          <a:blip r:embed="rId1"/>
          <a:stretch/>
        </p:blipFill>
        <p:spPr>
          <a:xfrm>
            <a:off x="4859280" y="549360"/>
            <a:ext cx="3745080" cy="21621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88" name="Picture 6" descr="i?id=3029619&amp;tov=2"/>
          <p:cNvPicPr/>
          <p:nvPr/>
        </p:nvPicPr>
        <p:blipFill>
          <a:blip r:embed="rId2"/>
          <a:stretch/>
        </p:blipFill>
        <p:spPr>
          <a:xfrm>
            <a:off x="4859280" y="3357720"/>
            <a:ext cx="3745080" cy="26064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89" name="Picture 7" descr="i?id=85932722&amp;tov=2"/>
          <p:cNvPicPr/>
          <p:nvPr/>
        </p:nvPicPr>
        <p:blipFill>
          <a:blip r:embed="rId3"/>
          <a:stretch/>
        </p:blipFill>
        <p:spPr>
          <a:xfrm>
            <a:off x="250920" y="549360"/>
            <a:ext cx="3887640" cy="22161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0" name="Picture 8" descr="120px-Battle_of_moscow14"/>
          <p:cNvPicPr/>
          <p:nvPr/>
        </p:nvPicPr>
        <p:blipFill>
          <a:blip r:embed="rId4"/>
          <a:stretch/>
        </p:blipFill>
        <p:spPr>
          <a:xfrm>
            <a:off x="250920" y="3357720"/>
            <a:ext cx="3889440" cy="2689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1" name="AutoShape 9"/>
          <p:cNvSpPr/>
          <p:nvPr/>
        </p:nvSpPr>
        <p:spPr>
          <a:xfrm>
            <a:off x="8101080" y="6381720"/>
            <a:ext cx="863640" cy="28728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481" y="1400"/>
                </a:lnTo>
                <a:lnTo>
                  <a:pt x="1400" y="140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481" y="20200"/>
                </a:lnTo>
                <a:lnTo>
                  <a:pt x="63481" y="140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81" y="2020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81" h="21600">
                <a:moveTo>
                  <a:pt x="32441" y="3837"/>
                </a:moveTo>
                <a:lnTo>
                  <a:pt x="35017" y="6448"/>
                </a:lnTo>
                <a:lnTo>
                  <a:pt x="35017" y="4707"/>
                </a:lnTo>
                <a:lnTo>
                  <a:pt x="36792" y="4707"/>
                </a:lnTo>
                <a:lnTo>
                  <a:pt x="36792" y="8224"/>
                </a:lnTo>
                <a:lnTo>
                  <a:pt x="39404" y="10800"/>
                </a:lnTo>
                <a:lnTo>
                  <a:pt x="37750" y="10800"/>
                </a:lnTo>
                <a:lnTo>
                  <a:pt x="37750" y="17989"/>
                </a:lnTo>
                <a:lnTo>
                  <a:pt x="27131" y="17989"/>
                </a:lnTo>
                <a:lnTo>
                  <a:pt x="27131" y="10800"/>
                </a:lnTo>
                <a:lnTo>
                  <a:pt x="25478" y="10800"/>
                </a:lnTo>
                <a:close/>
              </a:path>
              <a:path fill="darkenLess" w="64881" h="21600">
                <a:moveTo>
                  <a:pt x="35017" y="6448"/>
                </a:moveTo>
                <a:lnTo>
                  <a:pt x="35017" y="4707"/>
                </a:lnTo>
                <a:lnTo>
                  <a:pt x="36792" y="4707"/>
                </a:lnTo>
                <a:lnTo>
                  <a:pt x="36792" y="8224"/>
                </a:lnTo>
                <a:close/>
              </a:path>
              <a:path fill="darkenLess" w="64881" h="21600">
                <a:moveTo>
                  <a:pt x="31518" y="14299"/>
                </a:moveTo>
                <a:lnTo>
                  <a:pt x="33363" y="14299"/>
                </a:lnTo>
                <a:lnTo>
                  <a:pt x="33363" y="17989"/>
                </a:lnTo>
                <a:lnTo>
                  <a:pt x="37750" y="17989"/>
                </a:lnTo>
                <a:lnTo>
                  <a:pt x="37750" y="10800"/>
                </a:lnTo>
                <a:lnTo>
                  <a:pt x="27131" y="10800"/>
                </a:lnTo>
                <a:lnTo>
                  <a:pt x="27131" y="17989"/>
                </a:lnTo>
                <a:lnTo>
                  <a:pt x="3151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4241cbc0730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1990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3" name="Picture 8" descr="752ovlevV_Pt_GenPanfilova"/>
          <p:cNvPicPr/>
          <p:nvPr/>
        </p:nvPicPr>
        <p:blipFill>
          <a:blip r:embed="rId2"/>
          <a:stretch/>
        </p:blipFill>
        <p:spPr>
          <a:xfrm>
            <a:off x="468360" y="4508640"/>
            <a:ext cx="1792080" cy="21859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94" name="Picture 9" descr="i?id=1884409&amp;tov=2"/>
          <p:cNvPicPr/>
          <p:nvPr/>
        </p:nvPicPr>
        <p:blipFill>
          <a:blip r:embed="rId3"/>
          <a:stretch/>
        </p:blipFill>
        <p:spPr>
          <a:xfrm>
            <a:off x="6978600" y="4508640"/>
            <a:ext cx="1701720" cy="216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5" name="Text Box 10"/>
          <p:cNvSpPr/>
          <p:nvPr/>
        </p:nvSpPr>
        <p:spPr>
          <a:xfrm>
            <a:off x="2411280" y="4581360"/>
            <a:ext cx="439272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ДВИГ ПАНФИЛОВ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Велика Россия , а отступать некуда– позади Москва!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340000" y="64422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И.В.Панфилов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227640" y="6453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В.И.Клочков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>
            <a:hlinkClick r:id="" action="ppaction://hlinkshowjump?jump=previousslide"/>
          </p:cNvPr>
          <p:cNvSpPr/>
          <p:nvPr/>
        </p:nvSpPr>
        <p:spPr>
          <a:xfrm>
            <a:off x="4284720" y="6381720"/>
            <a:ext cx="865080" cy="333360"/>
          </a:xfrm>
          <a:custGeom>
            <a:avLst/>
            <a:gdLst>
              <a:gd name="textAreaLeft" fmla="*/ 21600 w 865080"/>
              <a:gd name="textAreaRight" fmla="*/ 843480 w 865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6016" h="21600">
                <a:moveTo>
                  <a:pt x="0" y="0"/>
                </a:moveTo>
                <a:lnTo>
                  <a:pt x="56016" y="0"/>
                </a:lnTo>
                <a:lnTo>
                  <a:pt x="56016" y="21600"/>
                </a:lnTo>
                <a:lnTo>
                  <a:pt x="0" y="21600"/>
                </a:lnTo>
                <a:close/>
              </a:path>
              <a:path fill="lightenLess" w="56016" h="21600">
                <a:moveTo>
                  <a:pt x="0" y="0"/>
                </a:moveTo>
                <a:lnTo>
                  <a:pt x="56016" y="0"/>
                </a:lnTo>
                <a:lnTo>
                  <a:pt x="54616" y="1400"/>
                </a:lnTo>
                <a:lnTo>
                  <a:pt x="1400" y="1400"/>
                </a:lnTo>
                <a:close/>
              </a:path>
              <a:path fill="darken" w="56016" h="21600">
                <a:moveTo>
                  <a:pt x="56016" y="0"/>
                </a:moveTo>
                <a:lnTo>
                  <a:pt x="56016" y="21600"/>
                </a:lnTo>
                <a:lnTo>
                  <a:pt x="54616" y="20200"/>
                </a:lnTo>
                <a:lnTo>
                  <a:pt x="54616" y="1400"/>
                </a:lnTo>
                <a:close/>
              </a:path>
              <a:path fill="darkenLess" w="56016" h="21600">
                <a:moveTo>
                  <a:pt x="56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16" y="20200"/>
                </a:lnTo>
                <a:close/>
              </a:path>
              <a:path fill="lighten" w="56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16" h="21600">
                <a:moveTo>
                  <a:pt x="21001" y="7493"/>
                </a:moveTo>
                <a:lnTo>
                  <a:pt x="24509" y="7493"/>
                </a:lnTo>
                <a:lnTo>
                  <a:pt x="24509" y="12828"/>
                </a:lnTo>
                <a:cubicBezTo>
                  <a:pt x="24509" y="13751"/>
                  <a:pt x="25310" y="14482"/>
                  <a:pt x="26345" y="14482"/>
                </a:cubicBezTo>
                <a:lnTo>
                  <a:pt x="28008" y="14482"/>
                </a:lnTo>
                <a:cubicBezTo>
                  <a:pt x="29044" y="14482"/>
                  <a:pt x="29844" y="13751"/>
                  <a:pt x="29844" y="12828"/>
                </a:cubicBezTo>
                <a:lnTo>
                  <a:pt x="29844" y="7493"/>
                </a:lnTo>
                <a:lnTo>
                  <a:pt x="28008" y="7493"/>
                </a:lnTo>
                <a:lnTo>
                  <a:pt x="31515" y="3985"/>
                </a:lnTo>
                <a:lnTo>
                  <a:pt x="35188" y="7493"/>
                </a:lnTo>
                <a:lnTo>
                  <a:pt x="33352" y="7493"/>
                </a:lnTo>
                <a:lnTo>
                  <a:pt x="33352" y="12828"/>
                </a:lnTo>
                <a:cubicBezTo>
                  <a:pt x="33352" y="15596"/>
                  <a:pt x="30776" y="18155"/>
                  <a:pt x="28008" y="18155"/>
                </a:cubicBezTo>
                <a:lnTo>
                  <a:pt x="26345" y="18155"/>
                </a:lnTo>
                <a:cubicBezTo>
                  <a:pt x="23578" y="18155"/>
                  <a:pt x="21001" y="15596"/>
                  <a:pt x="2100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34"/>
          <p:cNvSpPr txBox="1"/>
          <p:nvPr/>
        </p:nvSpPr>
        <p:spPr>
          <a:xfrm>
            <a:off x="1547640" y="189000"/>
            <a:ext cx="62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отношение сил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2 декабря 1941 год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1341360"/>
          <a:ext cx="8136000" cy="4694400"/>
        </p:xfrm>
        <a:graphic>
          <a:graphicData uri="http://schemas.openxmlformats.org/drawingml/2006/table">
            <a:tbl>
              <a:tblPr/>
              <a:tblGrid>
                <a:gridCol w="3379680"/>
                <a:gridCol w="1233720"/>
                <a:gridCol w="1482480"/>
                <a:gridCol w="204012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илы и средств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РК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Вермах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оотнош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Личный состав (тыс. чел.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1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70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Орудия и мином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6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3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Тан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1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амол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,6: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азгром фашистов под Моск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3600720" cy="23036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ашисты отброшены от Москвы на100-250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вобождено  11 тысяч населенны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ах плана «Барбаро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Untitled-Scanned-01"/>
          <p:cNvPicPr/>
          <p:nvPr/>
        </p:nvPicPr>
        <p:blipFill>
          <a:blip r:embed="rId1"/>
          <a:stretch/>
        </p:blipFill>
        <p:spPr>
          <a:xfrm>
            <a:off x="3995640" y="836640"/>
            <a:ext cx="4641840" cy="57610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104" name="Picture 8" descr="Soviet_Offensive_Moscow_December_1941"/>
          <p:cNvPicPr/>
          <p:nvPr/>
        </p:nvPicPr>
        <p:blipFill>
          <a:blip r:embed="rId2"/>
          <a:stretch/>
        </p:blipFill>
        <p:spPr>
          <a:xfrm>
            <a:off x="179280" y="3573360"/>
            <a:ext cx="3608640" cy="26924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чало коренного перелома в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вое крупное поражение немецких во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ал «молниеносной»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каз Японии вступать в войну против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атяжной характер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начение разгрома фашистов под Моск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5652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перация «ТАЙФУ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02"/>
          <p:cNvPicPr/>
          <p:nvPr/>
        </p:nvPicPr>
        <p:blipFill>
          <a:blip r:embed="rId1"/>
          <a:stretch/>
        </p:blipFill>
        <p:spPr>
          <a:xfrm>
            <a:off x="179280" y="765000"/>
            <a:ext cx="4546800" cy="5950080"/>
          </a:xfrm>
          <a:prstGeom prst="rect">
            <a:avLst/>
          </a:prstGeom>
          <a:ln w="19080">
            <a:solidFill>
              <a:srgbClr val="0066ff"/>
            </a:solidFill>
            <a:miter/>
          </a:ln>
        </p:spPr>
      </p:pic>
      <p:pic>
        <p:nvPicPr>
          <p:cNvPr id="45" name="Picture 17" descr="генерал-полковник Федор фон Бок в 1939 году"/>
          <p:cNvPicPr/>
          <p:nvPr/>
        </p:nvPicPr>
        <p:blipFill>
          <a:blip r:embed="rId2"/>
          <a:srcRect l="0" t="0" r="4812" b="0"/>
          <a:stretch/>
        </p:blipFill>
        <p:spPr>
          <a:xfrm>
            <a:off x="5003640" y="907920"/>
            <a:ext cx="126072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8" descr="200px-Guenther_von_Kluge_portrait"/>
          <p:cNvPicPr/>
          <p:nvPr/>
        </p:nvPicPr>
        <p:blipFill>
          <a:blip r:embed="rId3"/>
          <a:stretch/>
        </p:blipFill>
        <p:spPr>
          <a:xfrm>
            <a:off x="6372360" y="907920"/>
            <a:ext cx="122544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Picture 20" descr="Konev_ivan"/>
          <p:cNvPicPr/>
          <p:nvPr/>
        </p:nvPicPr>
        <p:blipFill>
          <a:blip r:embed="rId4"/>
          <a:stretch/>
        </p:blipFill>
        <p:spPr>
          <a:xfrm>
            <a:off x="5003640" y="4869000"/>
            <a:ext cx="126864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21" descr="Буденный"/>
          <p:cNvPicPr/>
          <p:nvPr/>
        </p:nvPicPr>
        <p:blipFill>
          <a:blip r:embed="rId5"/>
          <a:stretch/>
        </p:blipFill>
        <p:spPr>
          <a:xfrm>
            <a:off x="7812000" y="4869000"/>
            <a:ext cx="1190880" cy="17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22" descr="Georgi_Zhukov_in_1940"/>
          <p:cNvPicPr/>
          <p:nvPr/>
        </p:nvPicPr>
        <p:blipFill>
          <a:blip r:embed="rId6"/>
          <a:stretch/>
        </p:blipFill>
        <p:spPr>
          <a:xfrm>
            <a:off x="6372360" y="4869000"/>
            <a:ext cx="1373040" cy="17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Text Box 23"/>
          <p:cNvSpPr/>
          <p:nvPr/>
        </p:nvSpPr>
        <p:spPr>
          <a:xfrm>
            <a:off x="5003640" y="4365720"/>
            <a:ext cx="1224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Генерал И.С.Конев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командующий Западным фронтом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6372360" y="4365720"/>
            <a:ext cx="13683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ЖУКОВ Г. К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Командующий Западным фронтом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"/>
          <p:cNvSpPr/>
          <p:nvPr/>
        </p:nvSpPr>
        <p:spPr>
          <a:xfrm>
            <a:off x="7740720" y="4365720"/>
            <a:ext cx="14032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Генерал Буденный С.М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командующий Резервным фронтом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6"/>
          <p:cNvSpPr/>
          <p:nvPr/>
        </p:nvSpPr>
        <p:spPr>
          <a:xfrm>
            <a:off x="6372360" y="2708280"/>
            <a:ext cx="1224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фон Клюге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командующий            4  танковой армией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5003640" y="270828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Ф.фон Бок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– командующий группой армий «ЦЕНТР»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7740720" y="2708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Г. Гудериан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командующий          2- танковой армией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9" descr="Хайнц Вильгельм Гудериан"/>
          <p:cNvPicPr/>
          <p:nvPr/>
        </p:nvPicPr>
        <p:blipFill>
          <a:blip r:embed="rId7"/>
          <a:srcRect l="48081" t="0" r="0" b="3313"/>
          <a:stretch/>
        </p:blipFill>
        <p:spPr>
          <a:xfrm>
            <a:off x="7740720" y="907920"/>
            <a:ext cx="127476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1341360"/>
          <a:ext cx="7920000" cy="4884840"/>
        </p:xfrm>
        <a:graphic>
          <a:graphicData uri="http://schemas.openxmlformats.org/drawingml/2006/table">
            <a:tbl>
              <a:tblPr/>
              <a:tblGrid>
                <a:gridCol w="3093840"/>
                <a:gridCol w="1127160"/>
                <a:gridCol w="1830240"/>
                <a:gridCol w="186876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илы и средств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РК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Вермах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оотнош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Личный состав (тыс. чел.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2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8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Орудия и мином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76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Более 14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Тан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9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7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1,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Самолет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Около 13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: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58" name="WordArt 192"/>
          <p:cNvSpPr txBox="1"/>
          <p:nvPr/>
        </p:nvSpPr>
        <p:spPr>
          <a:xfrm>
            <a:off x="1547640" y="189000"/>
            <a:ext cx="62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отношение сил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30 сентября 1941 год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тапы битвы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нительные с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0 сентября-2 ноября 1941г. - перв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5-16 ноября – 4 декабря 1941г.- второ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Контрнаступление советских войс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декабря 1941г.- 20 апреля 194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Все на защиту родной Москвы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?id=4849729&amp;tov=0"/>
          <p:cNvPicPr/>
          <p:nvPr/>
        </p:nvPicPr>
        <p:blipFill>
          <a:blip r:embed="rId1"/>
          <a:stretch/>
        </p:blipFill>
        <p:spPr>
          <a:xfrm>
            <a:off x="826920" y="4076640"/>
            <a:ext cx="189864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9" descr="Untitled-Scanned-01"/>
          <p:cNvPicPr/>
          <p:nvPr/>
        </p:nvPicPr>
        <p:blipFill>
          <a:blip r:embed="rId2"/>
          <a:srcRect l="0" t="0" r="0" b="3436"/>
          <a:stretch/>
        </p:blipFill>
        <p:spPr>
          <a:xfrm>
            <a:off x="4788000" y="1484280"/>
            <a:ext cx="3671640" cy="24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10" descr="300px-Battle_of_moscow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075200"/>
            <a:ext cx="3671640" cy="25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14" descr="2232"/>
          <p:cNvPicPr/>
          <p:nvPr/>
        </p:nvPicPr>
        <p:blipFill>
          <a:blip r:embed="rId5"/>
          <a:stretch/>
        </p:blipFill>
        <p:spPr>
          <a:xfrm>
            <a:off x="826920" y="1484280"/>
            <a:ext cx="3672000" cy="24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15" descr="150px-Kukr_kleshi_194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4076640"/>
            <a:ext cx="167004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02"/>
          <p:cNvPicPr/>
          <p:nvPr/>
        </p:nvPicPr>
        <p:blipFill>
          <a:blip r:embed="rId1"/>
          <a:srcRect l="3007" t="15178" r="1597" b="125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8"/>
          <p:cNvSpPr/>
          <p:nvPr/>
        </p:nvSpPr>
        <p:spPr>
          <a:xfrm>
            <a:off x="5292720" y="98100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3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2"/>
                </a:lnTo>
                <a:lnTo>
                  <a:pt x="180182" y="275291"/>
                </a:lnTo>
                <a:lnTo>
                  <a:pt x="68823" y="360362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724360" y="393372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3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2"/>
                </a:lnTo>
                <a:lnTo>
                  <a:pt x="180182" y="275291"/>
                </a:lnTo>
                <a:lnTo>
                  <a:pt x="68823" y="360362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6372360" y="148428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7667640" y="126828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5003640" y="134136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667640" y="6308640"/>
            <a:ext cx="1297080" cy="360360"/>
          </a:xfrm>
          <a:custGeom>
            <a:avLst/>
            <a:gdLst>
              <a:gd name="textAreaLeft" fmla="*/ 23040 w 1297080"/>
              <a:gd name="textAreaRight" fmla="*/ 1274040 w 1297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91" h="21600">
                <a:moveTo>
                  <a:pt x="0" y="0"/>
                </a:moveTo>
                <a:lnTo>
                  <a:pt x="77691" y="0"/>
                </a:lnTo>
                <a:lnTo>
                  <a:pt x="77691" y="21600"/>
                </a:lnTo>
                <a:lnTo>
                  <a:pt x="0" y="21600"/>
                </a:lnTo>
                <a:close/>
              </a:path>
              <a:path fill="lightenLess" w="77691" h="21600">
                <a:moveTo>
                  <a:pt x="0" y="0"/>
                </a:moveTo>
                <a:lnTo>
                  <a:pt x="77691" y="0"/>
                </a:lnTo>
                <a:lnTo>
                  <a:pt x="76291" y="1400"/>
                </a:lnTo>
                <a:lnTo>
                  <a:pt x="1400" y="1400"/>
                </a:lnTo>
                <a:close/>
              </a:path>
              <a:path fill="darken" w="77691" h="21600">
                <a:moveTo>
                  <a:pt x="77691" y="0"/>
                </a:moveTo>
                <a:lnTo>
                  <a:pt x="77691" y="21600"/>
                </a:lnTo>
                <a:lnTo>
                  <a:pt x="76291" y="20200"/>
                </a:lnTo>
                <a:lnTo>
                  <a:pt x="76291" y="1400"/>
                </a:lnTo>
                <a:close/>
              </a:path>
              <a:path fill="darkenLess" w="77691" h="21600">
                <a:moveTo>
                  <a:pt x="77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91" y="20200"/>
                </a:lnTo>
                <a:close/>
              </a:path>
              <a:path fill="lighten" w="77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-6 ДЕКАБР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двиг советского на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.К. Роккосовс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енерал-лейтен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мандующий 16-й армией в районе Волоколам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RokossovskyKK"/>
          <p:cNvPicPr/>
          <p:nvPr/>
        </p:nvPicPr>
        <p:blipFill>
          <a:blip r:embed="rId1"/>
          <a:stretch/>
        </p:blipFill>
        <p:spPr>
          <a:xfrm>
            <a:off x="5435640" y="1628640"/>
            <a:ext cx="318780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previousslide"/>
          </p:cNvPr>
          <p:cNvSpPr/>
          <p:nvPr/>
        </p:nvSpPr>
        <p:spPr>
          <a:xfrm>
            <a:off x="7812000" y="645336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7493"/>
                </a:moveTo>
                <a:lnTo>
                  <a:pt x="39701" y="7493"/>
                </a:lnTo>
                <a:lnTo>
                  <a:pt x="39701" y="12828"/>
                </a:lnTo>
                <a:cubicBezTo>
                  <a:pt x="39701" y="13751"/>
                  <a:pt x="40502" y="14482"/>
                  <a:pt x="41538" y="14482"/>
                </a:cubicBezTo>
                <a:lnTo>
                  <a:pt x="43200" y="14482"/>
                </a:lnTo>
                <a:cubicBezTo>
                  <a:pt x="44236" y="14482"/>
                  <a:pt x="45036" y="13751"/>
                  <a:pt x="45036" y="12828"/>
                </a:cubicBezTo>
                <a:lnTo>
                  <a:pt x="45036" y="7493"/>
                </a:lnTo>
                <a:lnTo>
                  <a:pt x="43200" y="7493"/>
                </a:lnTo>
                <a:lnTo>
                  <a:pt x="46708" y="3985"/>
                </a:lnTo>
                <a:lnTo>
                  <a:pt x="50381" y="7493"/>
                </a:lnTo>
                <a:lnTo>
                  <a:pt x="48544" y="7493"/>
                </a:lnTo>
                <a:lnTo>
                  <a:pt x="48544" y="12828"/>
                </a:lnTo>
                <a:cubicBezTo>
                  <a:pt x="48544" y="15596"/>
                  <a:pt x="45968" y="18155"/>
                  <a:pt x="43200" y="18155"/>
                </a:cubicBezTo>
                <a:lnTo>
                  <a:pt x="41538" y="18155"/>
                </a:lnTo>
                <a:cubicBezTo>
                  <a:pt x="38770" y="18155"/>
                  <a:pt x="36194" y="15596"/>
                  <a:pt x="361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t3485"/>
          <p:cNvPicPr/>
          <p:nvPr/>
        </p:nvPicPr>
        <p:blipFill>
          <a:blip r:embed="rId1"/>
          <a:stretch/>
        </p:blipFill>
        <p:spPr>
          <a:xfrm>
            <a:off x="1403280" y="765000"/>
            <a:ext cx="6337440" cy="4615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9" name="WordArt 5"/>
          <p:cNvSpPr txBox="1"/>
          <p:nvPr/>
        </p:nvSpPr>
        <p:spPr>
          <a:xfrm>
            <a:off x="4067280" y="5661000"/>
            <a:ext cx="96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 - 3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AutoShape 6">
            <a:hlinkClick r:id="" action="ppaction://hlinkshowjump?jump=previousslide"/>
          </p:cNvPr>
          <p:cNvSpPr/>
          <p:nvPr/>
        </p:nvSpPr>
        <p:spPr>
          <a:xfrm>
            <a:off x="8244000" y="6237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7493"/>
                </a:moveTo>
                <a:lnTo>
                  <a:pt x="18090" y="7493"/>
                </a:lnTo>
                <a:lnTo>
                  <a:pt x="18090" y="12828"/>
                </a:lnTo>
                <a:cubicBezTo>
                  <a:pt x="18090" y="13751"/>
                  <a:pt x="18891" y="14482"/>
                  <a:pt x="19927" y="14482"/>
                </a:cubicBezTo>
                <a:lnTo>
                  <a:pt x="21589" y="14482"/>
                </a:lnTo>
                <a:cubicBezTo>
                  <a:pt x="22625" y="14482"/>
                  <a:pt x="23426" y="13751"/>
                  <a:pt x="23426" y="12828"/>
                </a:cubicBezTo>
                <a:lnTo>
                  <a:pt x="23426" y="7493"/>
                </a:lnTo>
                <a:lnTo>
                  <a:pt x="21589" y="7493"/>
                </a:lnTo>
                <a:lnTo>
                  <a:pt x="25097" y="3985"/>
                </a:lnTo>
                <a:lnTo>
                  <a:pt x="28770" y="7493"/>
                </a:lnTo>
                <a:lnTo>
                  <a:pt x="26933" y="7493"/>
                </a:lnTo>
                <a:lnTo>
                  <a:pt x="26933" y="12828"/>
                </a:lnTo>
                <a:cubicBezTo>
                  <a:pt x="26933" y="15596"/>
                  <a:pt x="24357" y="18155"/>
                  <a:pt x="21589" y="18155"/>
                </a:cubicBezTo>
                <a:lnTo>
                  <a:pt x="19927" y="18155"/>
                </a:lnTo>
                <a:cubicBezTo>
                  <a:pt x="17159" y="18155"/>
                  <a:pt x="14583" y="15596"/>
                  <a:pt x="1458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800px-PODOLSK-3"/>
          <p:cNvPicPr/>
          <p:nvPr/>
        </p:nvPicPr>
        <p:blipFill>
          <a:blip r:embed="rId1"/>
          <a:stretch/>
        </p:blipFill>
        <p:spPr>
          <a:xfrm>
            <a:off x="611280" y="260280"/>
            <a:ext cx="7920000" cy="5515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82" name="WordArt 5"/>
          <p:cNvSpPr txBox="1"/>
          <p:nvPr/>
        </p:nvSpPr>
        <p:spPr>
          <a:xfrm>
            <a:off x="395280" y="5950080"/>
            <a:ext cx="8353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ник курсантам подольских училищ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6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720720" cy="260280"/>
          </a:xfrm>
          <a:custGeom>
            <a:avLst/>
            <a:gdLst>
              <a:gd name="textAreaLeft" fmla="*/ 16560 w 720720"/>
              <a:gd name="textAreaRight" fmla="*/ 704160 w 720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9758" h="21600">
                <a:moveTo>
                  <a:pt x="0" y="0"/>
                </a:moveTo>
                <a:lnTo>
                  <a:pt x="59758" y="0"/>
                </a:lnTo>
                <a:lnTo>
                  <a:pt x="59758" y="21600"/>
                </a:lnTo>
                <a:lnTo>
                  <a:pt x="0" y="21600"/>
                </a:lnTo>
                <a:close/>
              </a:path>
              <a:path fill="lightenLess" w="59758" h="21600">
                <a:moveTo>
                  <a:pt x="0" y="0"/>
                </a:moveTo>
                <a:lnTo>
                  <a:pt x="59758" y="0"/>
                </a:lnTo>
                <a:lnTo>
                  <a:pt x="58358" y="1400"/>
                </a:lnTo>
                <a:lnTo>
                  <a:pt x="1400" y="1400"/>
                </a:lnTo>
                <a:close/>
              </a:path>
              <a:path fill="darken" w="59758" h="21600">
                <a:moveTo>
                  <a:pt x="59758" y="0"/>
                </a:moveTo>
                <a:lnTo>
                  <a:pt x="59758" y="21600"/>
                </a:lnTo>
                <a:lnTo>
                  <a:pt x="58358" y="20200"/>
                </a:lnTo>
                <a:lnTo>
                  <a:pt x="58358" y="1400"/>
                </a:lnTo>
                <a:close/>
              </a:path>
              <a:path fill="darkenLess" w="59758" h="21600">
                <a:moveTo>
                  <a:pt x="59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58" y="20200"/>
                </a:lnTo>
                <a:close/>
              </a:path>
              <a:path fill="lighten" w="59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758" h="21600">
                <a:moveTo>
                  <a:pt x="22873" y="7493"/>
                </a:moveTo>
                <a:lnTo>
                  <a:pt x="26380" y="7493"/>
                </a:lnTo>
                <a:lnTo>
                  <a:pt x="26380" y="12828"/>
                </a:lnTo>
                <a:cubicBezTo>
                  <a:pt x="26380" y="13751"/>
                  <a:pt x="27181" y="14482"/>
                  <a:pt x="28217" y="14482"/>
                </a:cubicBezTo>
                <a:lnTo>
                  <a:pt x="29879" y="14482"/>
                </a:lnTo>
                <a:cubicBezTo>
                  <a:pt x="30915" y="14482"/>
                  <a:pt x="31715" y="13751"/>
                  <a:pt x="31715" y="12828"/>
                </a:cubicBezTo>
                <a:lnTo>
                  <a:pt x="31715" y="7493"/>
                </a:lnTo>
                <a:lnTo>
                  <a:pt x="29879" y="7493"/>
                </a:lnTo>
                <a:lnTo>
                  <a:pt x="33387" y="3985"/>
                </a:lnTo>
                <a:lnTo>
                  <a:pt x="37060" y="7493"/>
                </a:lnTo>
                <a:lnTo>
                  <a:pt x="35223" y="7493"/>
                </a:lnTo>
                <a:lnTo>
                  <a:pt x="35223" y="12828"/>
                </a:lnTo>
                <a:cubicBezTo>
                  <a:pt x="35223" y="15596"/>
                  <a:pt x="32647" y="18155"/>
                  <a:pt x="29879" y="18155"/>
                </a:cubicBezTo>
                <a:lnTo>
                  <a:pt x="28217" y="18155"/>
                </a:lnTo>
                <a:cubicBezTo>
                  <a:pt x="25449" y="18155"/>
                  <a:pt x="22873" y="15596"/>
                  <a:pt x="228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6:14:33Z</dcterms:created>
  <dc:creator>Директор</dc:creator>
  <dc:description/>
  <dc:language>en-US</dc:language>
  <cp:lastModifiedBy>1</cp:lastModifiedBy>
  <dcterms:modified xsi:type="dcterms:W3CDTF">2010-12-03T07:58:28Z</dcterms:modified>
  <cp:revision>14</cp:revision>
  <dc:subject/>
  <dc:title>Битва под Москвой. Разгром немецко-фашистских войск под</dc:title>
</cp:coreProperties>
</file>