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683-0A5E-4987-B8BC-38BC73E9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CE0-1992-4175-96B5-E995872F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346-B274-495A-B5CC-37E9B758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A3A-1FEB-4F94-B26C-BC9D8868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9177-0F2D-4185-81C7-5A31699A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6992-FF76-428F-BA92-190F26AF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161A-2DD8-45C2-AF58-AE2C3AE3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F7AD-658D-4754-BE16-CB686D8C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C316-B5EE-4BFB-AE0F-3D7E9767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3246-A31C-4C0F-BA66-2074CBD4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EF16-8126-4BD6-B0A1-432BA9FC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453-1508-4B73-B757-C759DCF6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66E0-16E7-4A22-AED3-1340EF74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F15A-E582-4696-9154-14F92937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299B-7049-4D19-BFBF-3EBE85C3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3EDA-10BD-478A-B846-4C6571C0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028C-0FF1-4FBF-8CC5-8F4EA8B6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A99-E002-4B4D-8BB5-8E9E4EC5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B653-A9CC-452B-8CAA-DA0205E8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F66-481C-40AC-92A5-172FAF17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2C2-1B37-40A0-B6C4-7ABEBF63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3783-7900-4467-BE2B-B731D155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BB4-D9B1-4F85-BC4E-0B40A022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584-662C-4850-857F-870C91B9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C2C0-C828-42C1-9331-90FCFE8703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BD7A-9AAB-4F1B-829A-3E6D6F86DC36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681.photobucket.com/albums/vv173/estrella-lv/Venki/DSC_0020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6840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Times New Roman"/>
              </a:rPr>
              <a:t>Венок в подарок</a:t>
            </a:r>
            <a:endParaRPr b="1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Презентацию подготовил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МОБУ СОШ №50, г.АБАЗА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Кошляк Жанна Ивановн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880000" cy="28735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2194200" cy="28796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Конфетный венок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626160" cy="5040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1" name="Rectangle 4"/>
          <p:cNvSpPr/>
          <p:nvPr/>
        </p:nvSpPr>
        <p:spPr>
          <a:xfrm>
            <a:off x="32400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Сделаем в подарок маме веночек?</a:t>
            </a:r>
            <a:br>
              <a:rPr sz="4000"/>
            </a:b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риготовим для работы: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5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Цветную бумагу и картон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К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Ножницы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Карандаш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Циркул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Picture 4" descr="P1090497"/>
          <p:cNvPicPr/>
          <p:nvPr/>
        </p:nvPicPr>
        <p:blipFill>
          <a:blip r:embed="rId1"/>
          <a:stretch/>
        </p:blipFill>
        <p:spPr>
          <a:xfrm>
            <a:off x="4356000" y="2349360"/>
            <a:ext cx="4465800" cy="33498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5" name="WordArt 5"/>
          <p:cNvSpPr txBox="1"/>
          <p:nvPr/>
        </p:nvSpPr>
        <p:spPr>
          <a:xfrm>
            <a:off x="395280" y="5226120"/>
            <a:ext cx="4392720" cy="16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омни!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Осторожно работай 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с ножницами.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44020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Этапы работы: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резать прямоугольную полоску зелёного цвета (мягкий картон) 56 х 5 см для ободка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резать лепестки (заготовка- прямоугольник 8х5 см,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а один цветок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5 лепестков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резать сердцевинки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2 c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Picture 4" descr="P1090490"/>
          <p:cNvPicPr/>
          <p:nvPr/>
        </p:nvPicPr>
        <p:blipFill>
          <a:blip r:embed="rId1"/>
          <a:stretch/>
        </p:blipFill>
        <p:spPr>
          <a:xfrm>
            <a:off x="5219640" y="3141720"/>
            <a:ext cx="3745080" cy="28098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9" name="WordArt 5"/>
          <p:cNvSpPr txBox="1"/>
          <p:nvPr/>
        </p:nvSpPr>
        <p:spPr>
          <a:xfrm>
            <a:off x="468360" y="5373720"/>
            <a:ext cx="446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Работай аккуратно!</a:t>
            </a:r>
            <a:endParaRPr b="0" lang="en-US" sz="28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14400" y="76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Закрути каждый лепесток на карандаш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Picture 4" descr="P1090492"/>
          <p:cNvPicPr/>
          <p:nvPr/>
        </p:nvPicPr>
        <p:blipFill>
          <a:blip r:embed="rId1"/>
          <a:stretch/>
        </p:blipFill>
        <p:spPr>
          <a:xfrm>
            <a:off x="1763640" y="1844640"/>
            <a:ext cx="5832720" cy="437508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757080" y="333000"/>
            <a:ext cx="66974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Собираем веночек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3" name="Picture 4" descr="P1090493"/>
          <p:cNvPicPr/>
          <p:nvPr/>
        </p:nvPicPr>
        <p:blipFill>
          <a:blip r:embed="rId1"/>
          <a:stretch/>
        </p:blipFill>
        <p:spPr>
          <a:xfrm>
            <a:off x="5148360" y="692280"/>
            <a:ext cx="3816360" cy="28620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64" name="Picture 5" descr="P1090495"/>
          <p:cNvPicPr/>
          <p:nvPr/>
        </p:nvPicPr>
        <p:blipFill>
          <a:blip r:embed="rId2"/>
          <a:stretch/>
        </p:blipFill>
        <p:spPr>
          <a:xfrm>
            <a:off x="5148360" y="3789360"/>
            <a:ext cx="3816360" cy="2862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65" name="Picture 6" descr="P1090496"/>
          <p:cNvPicPr/>
          <p:nvPr/>
        </p:nvPicPr>
        <p:blipFill>
          <a:blip r:embed="rId3"/>
          <a:stretch/>
        </p:blipFill>
        <p:spPr>
          <a:xfrm>
            <a:off x="395280" y="1916280"/>
            <a:ext cx="3349800" cy="44654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Готовое изделие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7" name="Picture 2" descr="C:\Documents and Settings\Admin\Рабочий стол\Фото106.jpg"/>
          <p:cNvPicPr/>
          <p:nvPr/>
        </p:nvPicPr>
        <p:blipFill>
          <a:blip r:embed="rId1"/>
          <a:stretch/>
        </p:blipFill>
        <p:spPr>
          <a:xfrm>
            <a:off x="4429080" y="3143160"/>
            <a:ext cx="4092480" cy="3068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C:\Documents and Settings\Admin\Рабочий стол\Фото103.jpg"/>
          <p:cNvPicPr/>
          <p:nvPr/>
        </p:nvPicPr>
        <p:blipFill>
          <a:blip r:embed="rId2"/>
          <a:stretch/>
        </p:blipFill>
        <p:spPr>
          <a:xfrm>
            <a:off x="357120" y="1357200"/>
            <a:ext cx="395280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65920" y="188640"/>
            <a:ext cx="3178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Ресурсы: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82296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i681.photobucket.com/albums/vv173/estrella-lv/Venki/DSC_0020.jpg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конфетный ве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sad4you.ru/images/stories/Floristic/2_Radost_dlya_dushi/20_Kupelskiy_venok/1.jpg венок из полевых цвет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etost.ru/day/8marta/istor.shtml из истории праздник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img0.liveinternet.ru/images/attach/c/0/48/214/48214552_1216831591374514066629.jpg хоровод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stihi.ru/pics/2009/09/02/5012.jpg девушка в венке из ромаше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img0.liveinternet.ru/images/attach/c/0/51/618/51618096_berloga_net_279532722.jpg розы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chitalnya.ru/work.php?work=62869 стихотворени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Андрей - Виктория Андреев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dek-pri.narod.ru/decor_prikl/batik/kalash_bat12_b.jpg венок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s39.radikal.ru/i085/0903/ae/e8a330e01284.jpg  8 март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slovari.yandex.ru/dict/shansky/article/1/sha-0434.htm словарь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megalife.com.ua/uploads/posts/2009-12/thumbs/1261596585_6.jpg девушка в венке из осенних листье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photogorky.ru/photos/740047c3de9938013aa6c3c8a907373f.jp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девушка у вод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content.foto.mail.ru/mail/rovager/1417/i-1452.jpg Храм богини Весты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im6-tub.yandex.net/i?id=223373506&amp;tov=6 девочка с венком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images.cards.mail.ru/6c/49/303aae1f6acf9bd89672daf563ce496c.jpg Иван Купал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sai.msu.su/cjackson/waterhou/grafx/waterho1.jpg  фреска – женщины с цветам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fr.academic.ru/pictures/frwiki/80/Pompejanischer_Maler_um_60_v._Chr._001.jpg  фреск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8028000" y="4292640"/>
            <a:ext cx="911160" cy="1368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181440" y="549000"/>
            <a:ext cx="49690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Скоро праздник!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7200" y="2860560"/>
            <a:ext cx="3676680" cy="20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 России 8 марта празднуется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с 1913 год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859280" y="907920"/>
            <a:ext cx="3898800" cy="5472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Древние модницы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3899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Уже в древнем Риме существовал женский день. Облачённые в лучшие одежды, с благоухающими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Times New Roman"/>
              </a:rPr>
              <a:t>венками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на головах, римлянки приходили в храм богини Весты - хранительницы домашнего очага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449600" cy="44640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Что такое венок?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4825800" cy="35622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32" name="Rectangle 5"/>
          <p:cNvSpPr/>
          <p:nvPr/>
        </p:nvSpPr>
        <p:spPr>
          <a:xfrm>
            <a:off x="179280" y="2133720"/>
            <a:ext cx="39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Венец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буквально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"украшение, сплетённое, свитое" (из листьев, цветов)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040040" y="566100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Венок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раздничный головной убор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Храм богини Весты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6040440" cy="407988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624040" cy="5373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Праздник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Ивана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Купала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 был присущ многим славянским народам.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33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упальские праздники совершались во времена язычества в честь Бога Солнца, супругой которого была светоносная Заряда, красная девица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146840" cy="40320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40" name="WordArt 6"/>
          <p:cNvSpPr txBox="1"/>
          <p:nvPr/>
        </p:nvSpPr>
        <p:spPr>
          <a:xfrm>
            <a:off x="5796000" y="6237360"/>
            <a:ext cx="1838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7 июля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Девушки бросали в воду 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венки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, по ним гадали, скоро ли замуж?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5327640" cy="398916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264120" cy="48956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14400" y="549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В пряди чёрных волос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Заплетаю цветы: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Сто одиннадцать роз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Для твоей красоты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                           И вокруг головы 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                           Из ромашек венок –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                           Оберег от молвы, 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                 Чтоб никто сглазить не мог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3456000" cy="2592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752560" cy="352908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Венок из полевых цветов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201080" cy="47563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8:03:38Z</dcterms:created>
  <dc:creator>Tania</dc:creator>
  <dc:description/>
  <dc:language>en-US</dc:language>
  <cp:lastModifiedBy>Admin</cp:lastModifiedBy>
  <dcterms:modified xsi:type="dcterms:W3CDTF">2012-03-11T10:29:58Z</dcterms:modified>
  <cp:revision>16</cp:revision>
  <dc:subject/>
  <dc:title>Слайд 1</dc:title>
</cp:coreProperties>
</file>