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gif" ContentType="image/gif"/>
  <Override PartName="/ppt/media/image12.jpeg" ContentType="image/jpeg"/>
  <Override PartName="/ppt/media/image9.gif" ContentType="image/gif"/>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17.jpeg" ContentType="image/jpeg"/>
  <Override PartName="/ppt/media/image2.gif" ContentType="image/gif"/>
  <Override PartName="/ppt/media/image24.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C9302-060A-46C7-B1B2-F269EA00B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83B28-11D0-4F1E-8B94-FF8AD0F9A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145CC-ED52-47F6-91A9-BAD7F80CD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1E33C-7F56-4397-BFA7-24247EB26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F3A6B-5EDA-496F-B096-D8F432136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B1BAE-939F-463B-A4F3-D5BCC29DC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08B5E-C23E-4DD8-9C0E-8383F0CC2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78824-AD76-4FA7-80BC-A53F53300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41372-04C7-43C9-9B1F-CFB594474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D8156-1370-4B1B-802D-47C221727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05091-EDD2-4AFC-B2FE-FD2039FA9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DBB69-7F85-41B9-B456-AB92BD2DC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0027B-98F4-443F-BB0E-487AC1B4E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0BB3-504B-4B4C-858F-5C0292181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90D55-15EA-48F0-91FA-D098F7D03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CA171-DC35-4610-91F3-E87949AD9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DFF1E-8AF4-4A98-B154-CB363DC34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6DC30-A78E-40CA-A39D-B6975CF9E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EB0DB-709D-4325-BFED-3F960B0E1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C85D0-1868-4743-99CE-A21B405C3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0E966-22D2-47EA-B469-8F1A421C8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FD99D-FE9F-408F-9DF5-1A3F45857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E5D12-E148-43B2-8ACA-81C2A1F8E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76EF0-8633-4A8B-AAF5-47304FB23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FD50-91C4-48C7-92E9-527CCAF9BAF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3635-1E3B-4F4B-A69B-60700931570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044.radikal.ru/0902/72/ea38c2a6de39.gif" TargetMode="Externa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ifmania.ru/Animated-Gifs-Love/Animations-Valentines-Day/Images-Valentines-Day-Messages/saint-valentine17.gif" TargetMode="External"/><Relationship Id="rId2" Type="http://schemas.openxmlformats.org/officeDocument/2006/relationships/image" Target="../media/image9.gif"/><Relationship Id="rId3" Type="http://schemas.openxmlformats.org/officeDocument/2006/relationships/hyperlink" Target="http://up.3ros.net/get-7-2010-tho5zbt9.gif" TargetMode="External"/><Relationship Id="rId4" Type="http://schemas.openxmlformats.org/officeDocument/2006/relationships/image" Target="../media/image10.gif"/><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open.az/uploads/posts/2009-12/1260137539_18187.jpe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nemcy.info/wp-content/uploads/2011/01/podarok.jpg.pagespeed.ce.5Pnq23_Pbe.jpg" TargetMode="External"/><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hyperlink" Target="http://img-fotki.yandex.ru/get/5802/flabad.52/0_4cc19_fb172fd2_XL"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g-fotki.yandex.ru/get/5800/flabad.52/0_4cc1b_77440c_XL"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daypic.ru/holiday/28675/attachment/20-302"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gorod.turizm.ru/germany/curort210.html"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g0.liveinternet.ru/images/attach/c/2/70/553/70553921_6.jpg" TargetMode="External"/><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hyperlink" Target="http://pics.livejournal.com/vestigator/pic/0010qgdz" TargetMode="External"/><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img261.imageshack.us/img261/4209/225504711333ded1303bbbspn4.jpg"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303area.com/images/valentines_gifts.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images.marthastewart.com/images/content/pub/ms_living/2003Q1/ft_feb03heart01_xl.jpg" TargetMode="External"/><Relationship Id="rId2" Type="http://schemas.openxmlformats.org/officeDocument/2006/relationships/image" Target="../media/image24.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m10100.narod.ru/15-22.jpg" TargetMode="External"/><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День Святого Валентина в Германии</a:t>
            </a:r>
            <a:br>
              <a:rPr sz="4800"/>
            </a:b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 descr="Картинка 95 из 5664">
            <a:hlinkClick r:id="rId1"/>
          </p:cNvPr>
          <p:cNvPicPr/>
          <p:nvPr/>
        </p:nvPicPr>
        <p:blipFill>
          <a:blip r:embed="rId2"/>
          <a:stretch/>
        </p:blipFill>
        <p:spPr>
          <a:xfrm>
            <a:off x="4643280" y="3048120"/>
            <a:ext cx="4500720" cy="3809880"/>
          </a:xfrm>
          <a:prstGeom prst="rect">
            <a:avLst/>
          </a:prstGeom>
          <a:ln w="0">
            <a:noFill/>
          </a:ln>
        </p:spPr>
      </p:pic>
      <p:pic>
        <p:nvPicPr>
          <p:cNvPr id="91" name="" descr="Картинка 103 из 5664"/>
          <p:cNvPicPr/>
          <p:nvPr/>
        </p:nvPicPr>
        <p:blipFill>
          <a:blip r:embed="rId3"/>
          <a:stretch/>
        </p:blipFill>
        <p:spPr>
          <a:xfrm>
            <a:off x="179280" y="3357720"/>
            <a:ext cx="424980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Немецкие валентинки</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 descr="Картинка 8 из 8615">
            <a:hlinkClick r:id="rId1"/>
          </p:cNvPr>
          <p:cNvPicPr/>
          <p:nvPr/>
        </p:nvPicPr>
        <p:blipFill>
          <a:blip r:embed="rId2"/>
          <a:stretch/>
        </p:blipFill>
        <p:spPr>
          <a:xfrm>
            <a:off x="684360" y="2133720"/>
            <a:ext cx="3324240" cy="3171600"/>
          </a:xfrm>
          <a:prstGeom prst="rect">
            <a:avLst/>
          </a:prstGeom>
          <a:ln w="0">
            <a:noFill/>
          </a:ln>
        </p:spPr>
      </p:pic>
      <p:pic>
        <p:nvPicPr>
          <p:cNvPr id="114" name="" descr="Картинка 61 из 8615">
            <a:hlinkClick r:id="rId3"/>
          </p:cNvPr>
          <p:cNvPicPr/>
          <p:nvPr/>
        </p:nvPicPr>
        <p:blipFill>
          <a:blip r:embed="rId4"/>
          <a:stretch/>
        </p:blipFill>
        <p:spPr>
          <a:xfrm>
            <a:off x="4788000" y="1916280"/>
            <a:ext cx="371448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Подарки</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отличие от таких стран, как Соединенные Штаты Америки и Соединенное Королевство, День святого Валентина отмечается как праздник взрослых людей в Германии. Как и в любой другой стране, подарочные корзины из маленьких шоколадных конфет весьма популярны в Германии в День святого Валентина. Немецкие магазины наполняются разными видами подарков. Большинство из этих подарков окрашены в красный и розовый цвет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7" name="" descr="Картинка 29 из 2641">
            <a:hlinkClick r:id="rId1"/>
          </p:cNvPr>
          <p:cNvPicPr/>
          <p:nvPr/>
        </p:nvPicPr>
        <p:blipFill>
          <a:blip r:embed="rId2"/>
          <a:stretch/>
        </p:blipFill>
        <p:spPr>
          <a:xfrm>
            <a:off x="250920" y="333360"/>
            <a:ext cx="8424720" cy="619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Витрины магазинов</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 descr=""/>
          <p:cNvPicPr/>
          <p:nvPr/>
        </p:nvPicPr>
        <p:blipFill>
          <a:blip r:embed="rId1"/>
          <a:stretch/>
        </p:blipFill>
        <p:spPr>
          <a:xfrm>
            <a:off x="468360" y="1341360"/>
            <a:ext cx="8424720" cy="518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Молодые люди также экспериментируют с фотомонтажам и дарят валентинки. Люди из самых разных уголков Германии используют Интернет, как наиболее популярный способ отправить своё любовное сообщение для своих близких. Празднование Дня Святого Валентина в Германии может быть не так помпезно и громко, как в Бразилии или Америке, но достаточно элегантно и красиво.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3" name="" descr="Картинка 10 из 1053">
            <a:hlinkClick r:id="rId1"/>
          </p:cNvPr>
          <p:cNvPicPr/>
          <p:nvPr/>
        </p:nvPicPr>
        <p:blipFill>
          <a:blip r:embed="rId2"/>
          <a:stretch/>
        </p:blipFill>
        <p:spPr>
          <a:xfrm>
            <a:off x="395280" y="1484280"/>
            <a:ext cx="8064360" cy="518472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Немецкий торт с признанием в любви</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11280" y="691920"/>
            <a:ext cx="7772400" cy="2160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cc"/>
                </a:solidFill>
                <a:latin typeface="Tahoma"/>
              </a:rPr>
              <a:t>День святого Валентина</a:t>
            </a:r>
            <a:br>
              <a:rPr sz="4800"/>
            </a:br>
            <a:r>
              <a:rPr b="1" lang="ru-RU" sz="4800" spc="-1" strike="noStrike">
                <a:solidFill>
                  <a:srgbClr val="ffffcc"/>
                </a:solidFill>
                <a:latin typeface="Tahoma"/>
              </a:rPr>
              <a:t> по-немецки: “Valentinstag”</a:t>
            </a:r>
            <a:r>
              <a:rPr b="0" lang="ru-RU" sz="4800" spc="-1" strike="noStrike">
                <a:solidFill>
                  <a:srgbClr val="ffffcc"/>
                </a:solidFill>
                <a:latin typeface="Tahoma"/>
              </a:rPr>
              <a:t> </a:t>
            </a:r>
            <a:endParaRPr b="0" lang="en-US" sz="4800" spc="-1" strike="noStrike">
              <a:solidFill>
                <a:srgbClr val="ffffcc"/>
              </a:solidFill>
              <a:latin typeface="Tahoma"/>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7" name="" descr="Картинка 159 из 5664"/>
          <p:cNvPicPr/>
          <p:nvPr/>
        </p:nvPicPr>
        <p:blipFill>
          <a:blip r:embed="rId1"/>
          <a:stretch/>
        </p:blipFill>
        <p:spPr>
          <a:xfrm>
            <a:off x="250920" y="3141720"/>
            <a:ext cx="4465440" cy="3716280"/>
          </a:xfrm>
          <a:prstGeom prst="rect">
            <a:avLst/>
          </a:prstGeom>
          <a:ln w="0">
            <a:noFill/>
          </a:ln>
        </p:spPr>
      </p:pic>
      <p:pic>
        <p:nvPicPr>
          <p:cNvPr id="128" name="" descr=""/>
          <p:cNvPicPr/>
          <p:nvPr/>
        </p:nvPicPr>
        <p:blipFill>
          <a:blip r:embed="rId2"/>
          <a:stretch/>
        </p:blipFill>
        <p:spPr>
          <a:xfrm>
            <a:off x="4932360" y="3141720"/>
            <a:ext cx="4211640" cy="352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Признания в любви на немецком</a:t>
            </a:r>
            <a:endParaRPr b="0" lang="en-US" sz="4000" spc="-1" strike="noStrike">
              <a:solidFill>
                <a:srgbClr val="ffffcc"/>
              </a:solidFill>
              <a:latin typeface="Tahoma"/>
            </a:endParaRPr>
          </a:p>
        </p:txBody>
      </p:sp>
      <p:sp>
        <p:nvSpPr>
          <p:cNvPr id="130"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a:t>
            </a:r>
            <a:r>
              <a:rPr b="0" lang="ru-RU" sz="2400" spc="-1" strike="noStrike">
                <a:solidFill>
                  <a:srgbClr val="ffffff"/>
                </a:solidFill>
                <a:latin typeface="Tahoma"/>
              </a:rPr>
              <a:t>Alles Liebe zu Valentinstag!” - Всего наилучшего ко Дню святого Валентина!</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амая сильнодействующая фраза, безусловно:</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Ich liebe Dich” – Я тебя люблю</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ли “Ich liebe nur dich!” – Я люблю только тебя!</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 же чувства можно выразить, например, так:</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a:t>
            </a:r>
            <a:r>
              <a:rPr b="0" lang="ru-RU" sz="2400" spc="-1" strike="noStrike">
                <a:solidFill>
                  <a:srgbClr val="ffffff"/>
                </a:solidFill>
                <a:latin typeface="Tahoma"/>
              </a:rPr>
              <a:t>Wenn wir zusammen sind, dann weiss ich, was Liebe is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огда мы вместе, я понимаю, что такое любовь</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a:t>
            </a:r>
            <a:r>
              <a:rPr b="0" lang="ru-RU" sz="2400" spc="-1" strike="noStrike">
                <a:solidFill>
                  <a:srgbClr val="ffffff"/>
                </a:solidFill>
                <a:latin typeface="Tahoma"/>
              </a:rPr>
              <a:t>Ich denke an dich!” – Я думаю о тебе!</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a:t>
            </a:r>
            <a:r>
              <a:rPr b="0" lang="ru-RU" sz="2400" spc="-1" strike="noStrike">
                <a:solidFill>
                  <a:srgbClr val="ffffff"/>
                </a:solidFill>
                <a:latin typeface="Tahoma"/>
              </a:rPr>
              <a:t>Ich denke nur an dich!”- Я думаю только о теб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1" name="" descr="День Святого Валентина в разных странах мира: необычные традиции">
            <a:hlinkClick r:id="rId1"/>
          </p:cNvPr>
          <p:cNvPicPr/>
          <p:nvPr/>
        </p:nvPicPr>
        <p:blipFill>
          <a:blip r:embed="rId2"/>
          <a:stretch/>
        </p:blipFill>
        <p:spPr>
          <a:xfrm>
            <a:off x="684360" y="549360"/>
            <a:ext cx="7991280" cy="56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2" name="" descr="День Святого Валентина в разных странах мира: необычные традиции">
            <a:hlinkClick r:id="rId1"/>
          </p:cNvPr>
          <p:cNvPicPr/>
          <p:nvPr/>
        </p:nvPicPr>
        <p:blipFill>
          <a:blip r:embed="rId2"/>
          <a:stretch/>
        </p:blipFill>
        <p:spPr>
          <a:xfrm>
            <a:off x="324000" y="476280"/>
            <a:ext cx="8351640" cy="57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9280" y="260280"/>
            <a:ext cx="8425080" cy="640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Германия является землей, в которой выросли такие мастера литературы и философии, как Фредерик Ницше, Альберт Эйнштейн, Артур Шопенгауэр и Франц Кафка. В фильма Квентина Тарантино "Криминальное чтиво", Марцелл Уоллес говорит боксеру Буху "Гордость ранит, и никогда не помогает". Это была гордость Гитлера, которая заставила Германию, потом сильно оправдываться перед всем миром.</a:t>
            </a:r>
            <a:br>
              <a:rPr sz="2400"/>
            </a:br>
            <a:r>
              <a:rPr b="1" lang="ru-RU" sz="2400" spc="-1" strike="noStrike">
                <a:solidFill>
                  <a:srgbClr val="ffffff"/>
                </a:solidFill>
                <a:latin typeface="Tahoma"/>
              </a:rPr>
              <a:t>Будучи землёй высокой культуры, сейчас Германия является пристанищем, третьим по величине, для многочисленных эмигрантов. Немецкая зима мягкая, а лето, как правило, прохладное, хотя температура время от времени может превышать 30° С. Вклад Германии в философию и психологию является весьма значительным.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3" name="" descr="">
            <a:hlinkClick r:id="rId1"/>
          </p:cNvPr>
          <p:cNvPicPr/>
          <p:nvPr/>
        </p:nvPicPr>
        <p:blipFill>
          <a:blip r:embed="rId2"/>
          <a:stretch/>
        </p:blipFill>
        <p:spPr>
          <a:xfrm>
            <a:off x="324000" y="40464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Сердечный остров  в Германии</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Остров в виде сердца посреди Макленбургской озерной равнины всего в 100 км севернее </a:t>
            </a:r>
            <a:r>
              <a:rPr b="0" lang="ru-RU" sz="3200" spc="-1" strike="noStrike" u="sng">
                <a:solidFill>
                  <a:srgbClr val="ffcc66"/>
                </a:solidFill>
                <a:uFillTx/>
                <a:latin typeface="Tahoma"/>
                <a:hlinkClick r:id="rId1"/>
              </a:rPr>
              <a:t>Берлина</a:t>
            </a:r>
            <a:r>
              <a:rPr b="1" lang="ru-RU" sz="3200" spc="-1" strike="noStrike">
                <a:solidFill>
                  <a:srgbClr val="ffffff"/>
                </a:solidFill>
                <a:latin typeface="Tahoma"/>
              </a:rPr>
              <a:t>. </a:t>
            </a:r>
            <a:br>
              <a:rPr sz="3200"/>
            </a:br>
            <a:r>
              <a:rPr b="1" lang="ru-RU" sz="3200" spc="-1" strike="noStrike">
                <a:solidFill>
                  <a:srgbClr val="ffffff"/>
                </a:solidFill>
                <a:latin typeface="Tahoma"/>
              </a:rPr>
              <a:t>На острове площадью 40 000 кв. м проживает только семейная пара Карге. Супруги - владельцы небольшого частного отеля Inselhotel Brückentinsee. Гостиница была построена в 1993 году и располагает всего 12 номерам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37" name="" descr="Картинка 1 из 190">
            <a:hlinkClick r:id="rId1"/>
          </p:cNvPr>
          <p:cNvPicPr/>
          <p:nvPr/>
        </p:nvPicPr>
        <p:blipFill>
          <a:blip r:embed="rId2"/>
          <a:stretch/>
        </p:blipFill>
        <p:spPr>
          <a:xfrm>
            <a:off x="324000" y="1341360"/>
            <a:ext cx="8820000" cy="551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Сладости</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0" name="" descr="Картинка 12 из 2615">
            <a:hlinkClick r:id="rId1"/>
          </p:cNvPr>
          <p:cNvPicPr/>
          <p:nvPr/>
        </p:nvPicPr>
        <p:blipFill>
          <a:blip r:embed="rId2"/>
          <a:stretch/>
        </p:blipFill>
        <p:spPr>
          <a:xfrm>
            <a:off x="395280" y="1413000"/>
            <a:ext cx="8209080" cy="525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Картинка 56 из 2636">
            <a:hlinkClick r:id="rId1"/>
          </p:cNvPr>
          <p:cNvPicPr/>
          <p:nvPr/>
        </p:nvPicPr>
        <p:blipFill>
          <a:blip r:embed="rId2"/>
          <a:stretch/>
        </p:blipFill>
        <p:spPr>
          <a:xfrm>
            <a:off x="468360" y="260280"/>
            <a:ext cx="8496360" cy="612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2" name="" descr="Картинка 22 из 2639">
            <a:hlinkClick r:id="rId1"/>
          </p:cNvPr>
          <p:cNvPicPr/>
          <p:nvPr/>
        </p:nvPicPr>
        <p:blipFill>
          <a:blip r:embed="rId2"/>
          <a:stretch/>
        </p:blipFill>
        <p:spPr>
          <a:xfrm>
            <a:off x="611280" y="333360"/>
            <a:ext cx="8137440" cy="6191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День влюбленных. Германия сходит с ума и... дарит цветы </a:t>
            </a:r>
            <a:br>
              <a:rPr sz="4000"/>
            </a:br>
            <a:endParaRPr b="0" lang="en-US" sz="40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целом все выглядит традиционно: открытки с сердцами, сувениры, подарки и... а вот об этом стоит сказать отдельно – цветы. Их продают в Германии в День влюбленных столько, что сами немцы неофициально величают праздник днем цветочных магазинов. В «обязанности» каждого мужчины входит покупка любимых цветов своей половины.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В Германии запущен автобус для влюбленных, в котором не дают "расслабиться"</a:t>
            </a:r>
            <a:br>
              <a:rPr sz="4000"/>
            </a:br>
            <a:endParaRPr b="0" lang="en-US" sz="4000" spc="-1" strike="noStrike">
              <a:solidFill>
                <a:srgbClr val="ffffcc"/>
              </a:solidFill>
              <a:latin typeface="Tahoma"/>
            </a:endParaRPr>
          </a:p>
        </p:txBody>
      </p:sp>
      <p:sp>
        <p:nvSpPr>
          <p:cNvPr id="146"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7" name="" descr=""/>
          <p:cNvPicPr/>
          <p:nvPr/>
        </p:nvPicPr>
        <p:blipFill>
          <a:blip r:embed="rId1"/>
          <a:stretch/>
        </p:blipFill>
        <p:spPr>
          <a:xfrm>
            <a:off x="539640" y="1916280"/>
            <a:ext cx="8136000" cy="475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Пассажиры любовного экспресса за два с половиной часа поездки должны выбрать себе любую всемирно известную песню о любви, придумать собственные слова к популярной мелодии, сделать студийную запись этой композиции и при этом еще и снять к ней соответствующий видеоклип.</a:t>
            </a:r>
            <a:br>
              <a:rPr sz="2400"/>
            </a:br>
            <a:br>
              <a:rPr sz="2400"/>
            </a:br>
            <a:r>
              <a:rPr b="1" lang="en-US" sz="2400" spc="-1" strike="noStrike">
                <a:solidFill>
                  <a:srgbClr val="ffffff"/>
                </a:solidFill>
                <a:latin typeface="Tahoma"/>
              </a:rPr>
              <a:t>Любовный экспресс отправляется из Дортмунда и курсирует по Рурской области, которая в этом году во главе с городом Эссеном носить почетный титул европейской культурной столицы. </a:t>
            </a:r>
            <a:br>
              <a:rPr sz="2400"/>
            </a:br>
            <a:br>
              <a:rPr sz="2400"/>
            </a:b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0" name="" descr="Картинка 27 из 2641">
            <a:hlinkClick r:id="rId1"/>
          </p:cNvPr>
          <p:cNvPicPr/>
          <p:nvPr/>
        </p:nvPicPr>
        <p:blipFill>
          <a:blip r:embed="rId2"/>
          <a:stretch/>
        </p:blipFill>
        <p:spPr>
          <a:xfrm>
            <a:off x="468360" y="260280"/>
            <a:ext cx="8207280" cy="6597720"/>
          </a:xfrm>
          <a:prstGeom prst="rect">
            <a:avLst/>
          </a:prstGeom>
          <a:ln w="0">
            <a:noFill/>
          </a:ln>
        </p:spPr>
      </p:pic>
      <p:sp>
        <p:nvSpPr>
          <p:cNvPr id="151" name="PlaceHolder 1"/>
          <p:cNvSpPr>
            <a:spLocks noGrp="1"/>
          </p:cNvSpPr>
          <p:nvPr>
            <p:ph type="title"/>
          </p:nvPr>
        </p:nvSpPr>
        <p:spPr>
          <a:xfrm>
            <a:off x="611280" y="-360"/>
            <a:ext cx="77724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c0000"/>
                </a:solidFill>
                <a:latin typeface="Tahoma"/>
              </a:rPr>
              <a:t>Спасибо за внимание!</a:t>
            </a:r>
            <a:endParaRPr b="0" lang="en-US" sz="5400" spc="-1" strike="noStrike">
              <a:solidFill>
                <a:srgbClr val="ffffcc"/>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14 февраля</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День Святого Валентина в Германии отмечается 14 февраля, но не очень широко и помпезно.  Он приобрел большую популярность лишь в последние десятилетия.</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ahoma"/>
            </a:endParaRPr>
          </a:p>
        </p:txBody>
      </p:sp>
      <p:sp>
        <p:nvSpPr>
          <p:cNvPr id="95"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 descr="Картинка 21 из 2612">
            <a:hlinkClick r:id="rId1"/>
          </p:cNvPr>
          <p:cNvPicPr/>
          <p:nvPr/>
        </p:nvPicPr>
        <p:blipFill>
          <a:blip r:embed="rId2"/>
          <a:stretch/>
        </p:blipFill>
        <p:spPr>
          <a:xfrm>
            <a:off x="4716360" y="1484280"/>
            <a:ext cx="4032360" cy="43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Легенды Германии</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Есть немало памятных случаев для Дня святого Валентина на</a:t>
            </a:r>
            <a:r>
              <a:rPr b="0" lang="ru-RU" sz="2000" spc="-1" strike="noStrike">
                <a:solidFill>
                  <a:srgbClr val="ffffff"/>
                </a:solidFill>
                <a:latin typeface="Tahoma"/>
              </a:rPr>
              <a:t> </a:t>
            </a:r>
            <a:r>
              <a:rPr b="1" lang="ru-RU" sz="2000" spc="-1" strike="noStrike">
                <a:solidFill>
                  <a:srgbClr val="ffffff"/>
                </a:solidFill>
                <a:latin typeface="Tahoma"/>
              </a:rPr>
              <a:t>этой земле храбрости. Есть истории об отважной и храброй любви, связанные с этим днём. Одна история гласит, что когда-то было крестьянское восстание под руководством герцога Вельфа против короля Конрада III. Король собрал огромную армию, которая отбросила войска герцога прочь.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ffffff"/>
                </a:solidFill>
                <a:latin typeface="Tahoma"/>
              </a:rPr>
              <a:t>В результате крестьяне замка оказались в осаде. Леди Элизабет, жена герцога попросила короля, что она и другие  жёны оставят ему замок, если он разрешит им взять то, что они смогли бы унести на своей спине. Король согласился, но удивился, когда увидел, что жёны несут своих мужей на спине в день Валентина. Это одна из интересных романтических историй Германии.</a:t>
            </a:r>
            <a:br>
              <a:rPr sz="2000"/>
            </a:br>
            <a:r>
              <a:rPr b="1"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404640"/>
            <a:ext cx="7772400" cy="410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Какие подарки дарят на День святого Валентина в Германии?</a:t>
            </a:r>
            <a:br>
              <a:rPr sz="4800"/>
            </a:br>
            <a:br>
              <a:rPr sz="4800"/>
            </a:br>
            <a:endParaRPr b="0" lang="en-US" sz="4800" spc="-1" strike="noStrike">
              <a:solidFill>
                <a:srgbClr val="ffffcc"/>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Картинка 134 из 5664"/>
          <p:cNvPicPr/>
          <p:nvPr/>
        </p:nvPicPr>
        <p:blipFill>
          <a:blip r:embed="rId1"/>
          <a:stretch/>
        </p:blipFill>
        <p:spPr>
          <a:xfrm>
            <a:off x="250920" y="3068640"/>
            <a:ext cx="4464000" cy="3394080"/>
          </a:xfrm>
          <a:prstGeom prst="rect">
            <a:avLst/>
          </a:prstGeom>
          <a:ln w="0">
            <a:noFill/>
          </a:ln>
        </p:spPr>
      </p:pic>
      <p:pic>
        <p:nvPicPr>
          <p:cNvPr id="102" name="" descr="Картинка 155 из 5664"/>
          <p:cNvPicPr/>
          <p:nvPr/>
        </p:nvPicPr>
        <p:blipFill>
          <a:blip r:embed="rId2"/>
          <a:stretch/>
        </p:blipFill>
        <p:spPr>
          <a:xfrm>
            <a:off x="4788000" y="3284640"/>
            <a:ext cx="4032000" cy="302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333000"/>
            <a:ext cx="9144000" cy="57625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Вопреки распространенному мнению, немцы на самом деле весьма романтичны, особенно когда речь идет о таком праздничном дне, как День Красного Валентина. Красный цвет считается цветом любви ещё с древних времен. Как многие люди празднуют День Святого Валентина с букетами красных роз, также и Германия следует этому правилу. В Германии этот день стал ритуалом для молодых людей, которые дарят своим любимым цветы.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50920" y="333360"/>
            <a:ext cx="8713800" cy="6120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Букет красных роз</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6" name="" descr="Картинка 16 из 7875"/>
          <p:cNvPicPr/>
          <p:nvPr/>
        </p:nvPicPr>
        <p:blipFill>
          <a:blip r:embed="rId1"/>
          <a:stretch/>
        </p:blipFill>
        <p:spPr>
          <a:xfrm>
            <a:off x="4716360" y="1341360"/>
            <a:ext cx="4427640" cy="5112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Подарочные фантазии</a:t>
            </a:r>
            <a:endParaRPr b="0" lang="en-US" sz="4400" spc="-1" strike="noStrike">
              <a:solidFill>
                <a:srgbClr val="ffffcc"/>
              </a:solidFill>
              <a:latin typeface="Tahoma"/>
            </a:endParaRPr>
          </a:p>
        </p:txBody>
      </p:sp>
      <p:pic>
        <p:nvPicPr>
          <p:cNvPr id="108" name="" descr="Картинка 43 из 7915"/>
          <p:cNvPicPr/>
          <p:nvPr/>
        </p:nvPicPr>
        <p:blipFill>
          <a:blip r:embed="rId2"/>
          <a:stretch/>
        </p:blipFill>
        <p:spPr>
          <a:xfrm>
            <a:off x="468360" y="1989000"/>
            <a:ext cx="4032360" cy="445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333000"/>
            <a:ext cx="9144000" cy="57625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Этот древний символ любви по-прежнему имеет большое влияние на подростков, даже в наше время. Валентинки также очень популярны в немецком Дне святого Валентина, особенно среди детей. Они любят делать их для своих учителей, родителей и одноклассников. В Германии, очень популярны подарки, которые имеют вид любовных жетонов с прекрасными любовными посланиями. Такой подарок выглядит одновременно прекрасно и весело.</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1T16:24:51Z</dcterms:created>
  <dc:creator>Роман</dc:creator>
  <dc:description/>
  <dc:language>en-US</dc:language>
  <cp:lastModifiedBy>Роман</cp:lastModifiedBy>
  <dcterms:modified xsi:type="dcterms:W3CDTF">2012-03-11T05:42:53Z</dcterms:modified>
  <cp:revision>5</cp:revision>
  <dc:subject/>
  <dc:title>День Святого Валентина в Германии </dc:title>
</cp:coreProperties>
</file>