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8.jpeg" ContentType="image/jpeg"/>
  <Override PartName="/ppt/media/image27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26.jpeg" ContentType="image/jpeg"/>
  <Override PartName="/ppt/media/image32.jpeg" ContentType="image/jpeg"/>
  <Override PartName="/ppt/media/image6.png" ContentType="image/png"/>
  <Override PartName="/ppt/media/image3.gif" ContentType="image/gif"/>
  <Override PartName="/ppt/media/image12.jpeg" ContentType="image/jpeg"/>
  <Override PartName="/ppt/media/image10.gif" ContentType="image/gif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5.gif" ContentType="image/gif"/>
  <Override PartName="/ppt/media/image14.jpeg" ContentType="image/jpeg"/>
  <Override PartName="/ppt/media/image8.gif" ContentType="image/gif"/>
  <Override PartName="/ppt/media/image18.jpeg" ContentType="image/jpeg"/>
  <Override PartName="/ppt/media/image11.wmf" ContentType="image/x-wmf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5910-8EF1-4236-B59B-FAB4F98BD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4ADE-D841-4331-B62B-480C5D3BD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D31D-61FB-496B-9965-BEB1B74E9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074-7A98-43B0-AC92-B84ED3D2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179-9A18-49A4-A6AD-5CA258BA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82E-82D7-4E7E-9B8C-1340E7F2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C7D-39FE-471F-9FF4-BA7004F1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500-5480-4CB3-B90E-5FFFEE90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03B-9E9D-4261-B02B-A178327E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3DF-C965-401D-8D46-47D90223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842-BFC9-4201-8BFD-C60C1A0E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940-9382-42EB-B80F-60ED2C48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025-0507-4D44-B4F9-3CC6AF78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BFE-FE8F-484C-8B31-9BE304F0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E8B-4F30-4E6D-ABAD-94C8AD12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758C-43A9-4BE9-A885-60AA66824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sportal.ru/" TargetMode="External"/><Relationship Id="rId2" Type="http://schemas.openxmlformats.org/officeDocument/2006/relationships/hyperlink" Target="http://pedmir.ru/" TargetMode="External"/><Relationship Id="rId3" Type="http://schemas.openxmlformats.org/officeDocument/2006/relationships/hyperlink" Target="http://pedmir.ru/" TargetMode="External"/><Relationship Id="rId4" Type="http://schemas.openxmlformats.org/officeDocument/2006/relationships/hyperlink" Target="http://pedmir.ru/" TargetMode="External"/><Relationship Id="rId5" Type="http://schemas.openxmlformats.org/officeDocument/2006/relationships/hyperlink" Target="http://pedmir.ru/" TargetMode="External"/><Relationship Id="rId6" Type="http://schemas.openxmlformats.org/officeDocument/2006/relationships/hyperlink" Target="http://pedmir.ru/" TargetMode="External"/><Relationship Id="rId7" Type="http://schemas.openxmlformats.org/officeDocument/2006/relationships/hyperlink" Target="http://nayrok.ru/" TargetMode="External"/><Relationship Id="rId8" Type="http://schemas.openxmlformats.org/officeDocument/2006/relationships/hyperlink" Target="http://www.nsportal.ru/" TargetMode="External"/><Relationship Id="rId9" Type="http://schemas.openxmlformats.org/officeDocument/2006/relationships/hyperlink" Target="http://fossa.net.ru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zdd.1september.ru/" TargetMode="External"/><Relationship Id="rId2" Type="http://schemas.openxmlformats.org/officeDocument/2006/relationships/hyperlink" Target="http://pedmir.ru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2" descr=""/>
          <p:cNvPicPr/>
          <p:nvPr/>
        </p:nvPicPr>
        <p:blipFill>
          <a:blip r:embed="rId1"/>
          <a:stretch/>
        </p:blipFill>
        <p:spPr>
          <a:xfrm>
            <a:off x="-19080" y="0"/>
            <a:ext cx="4487760" cy="2103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00240" y="1785960"/>
            <a:ext cx="6000840" cy="57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МБОУ </a:t>
            </a:r>
            <a:r>
              <a:rPr b="1" i="1" lang="en-US" sz="24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«СОШ №7» Чистополь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муниципальн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Республики Татарстан 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Педагогический </a:t>
            </a:r>
            <a:r>
              <a:rPr b="1" i="1" lang="en-US" sz="24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стаж  2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Классный руководитель </a:t>
            </a:r>
            <a:r>
              <a:rPr b="1" i="1" lang="en-US" sz="2400" spc="-1" strike="noStrike">
                <a:solidFill>
                  <a:srgbClr val="3366ff"/>
                </a:solidFill>
                <a:latin typeface="Calibri"/>
              </a:rPr>
              <a:t>  </a:t>
            </a: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2 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Высшая</a:t>
            </a:r>
            <a:r>
              <a:rPr b="1" i="1" lang="en-US" sz="2400" spc="-1" strike="noStrike">
                <a:solidFill>
                  <a:srgbClr val="3366ff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квалификационная         </a:t>
            </a: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катег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Руководитель методического объединения учителей нач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alibri"/>
              </a:rPr>
              <a:t>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SYS\Рабочий стол\Ольга\Для презентаций\Анимации\f52.gif"/>
          <p:cNvPicPr/>
          <p:nvPr/>
        </p:nvPicPr>
        <p:blipFill>
          <a:blip r:embed="rId2"/>
          <a:stretch/>
        </p:blipFill>
        <p:spPr>
          <a:xfrm rot="3597600">
            <a:off x="7454520" y="5297400"/>
            <a:ext cx="1241640" cy="200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G:\2.JPG"/>
          <p:cNvPicPr/>
          <p:nvPr/>
        </p:nvPicPr>
        <p:blipFill>
          <a:blip r:embed="rId3"/>
          <a:stretch/>
        </p:blipFill>
        <p:spPr>
          <a:xfrm>
            <a:off x="214200" y="2071800"/>
            <a:ext cx="2714760" cy="3857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5143680" y="-214200"/>
            <a:ext cx="400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«Ищу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и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нахожу, 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думаю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и узнаю, тренируюсь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и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и  дела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А.Н.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Леонть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G:\Фото,видио-класс\ФоТо\PICT0027.JPG"/>
          <p:cNvPicPr/>
          <p:nvPr/>
        </p:nvPicPr>
        <p:blipFill>
          <a:blip r:embed="rId1"/>
          <a:stretch/>
        </p:blipFill>
        <p:spPr>
          <a:xfrm rot="428400">
            <a:off x="5874840" y="2606400"/>
            <a:ext cx="2948040" cy="16063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8"/>
          <p:cNvSpPr/>
          <p:nvPr/>
        </p:nvSpPr>
        <p:spPr>
          <a:xfrm>
            <a:off x="2071800" y="4214880"/>
            <a:ext cx="7929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- Научно-практическая конфер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«Шаг в мир науки»  –  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- «Веселый стадион»  -  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«Школа Дорожных наук» -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 I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- Сбор макулатуры  -  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II  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Конкурсы стихов и рисунков  -   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II  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Результативность во внеурочной деятельности и классного руко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Documents and Settings\user\Рабочий стол\Школа 3\19.jpg"/>
          <p:cNvPicPr/>
          <p:nvPr/>
        </p:nvPicPr>
        <p:blipFill>
          <a:blip r:embed="rId2"/>
          <a:stretch/>
        </p:blipFill>
        <p:spPr>
          <a:xfrm>
            <a:off x="1357200" y="1643040"/>
            <a:ext cx="3071880" cy="1609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Documents and Settings\root\Рабочий стол\Отсканировано 21.05.2009 13-00_000.jpg"/>
          <p:cNvPicPr/>
          <p:nvPr/>
        </p:nvPicPr>
        <p:blipFill>
          <a:blip r:embed="rId3"/>
          <a:stretch/>
        </p:blipFill>
        <p:spPr>
          <a:xfrm rot="20836200">
            <a:off x="260280" y="1315800"/>
            <a:ext cx="1857600" cy="2571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F:\Фото,видио-класс\грамота 1.jpg"/>
          <p:cNvPicPr/>
          <p:nvPr/>
        </p:nvPicPr>
        <p:blipFill>
          <a:blip r:embed="rId4"/>
          <a:stretch/>
        </p:blipFill>
        <p:spPr>
          <a:xfrm>
            <a:off x="4071960" y="1214280"/>
            <a:ext cx="1928880" cy="2571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user\Рабочий стол\YUY 002.jpg"/>
          <p:cNvPicPr/>
          <p:nvPr/>
        </p:nvPicPr>
        <p:blipFill>
          <a:blip r:embed="rId5"/>
          <a:stretch/>
        </p:blipFill>
        <p:spPr>
          <a:xfrm rot="253800">
            <a:off x="7265520" y="347760"/>
            <a:ext cx="1785960" cy="2571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D:\ффф\грамота.jpg"/>
          <p:cNvPicPr/>
          <p:nvPr/>
        </p:nvPicPr>
        <p:blipFill>
          <a:blip r:embed="rId6"/>
          <a:stretch/>
        </p:blipFill>
        <p:spPr>
          <a:xfrm>
            <a:off x="142920" y="4000680"/>
            <a:ext cx="192888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57120" y="5000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  <a:ea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428760" y="35712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озитивная динамика</a:t>
            </a: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активности     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4" descr=""/>
          <p:cNvPicPr/>
          <p:nvPr/>
        </p:nvPicPr>
        <p:blipFill>
          <a:blip r:embed="rId1"/>
          <a:stretch/>
        </p:blipFill>
        <p:spPr>
          <a:xfrm>
            <a:off x="866880" y="1587600"/>
            <a:ext cx="776268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429400" cy="5429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 flipH="1" flipV="1" rot="10800000">
            <a:off x="395280" y="4132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Здоровьесберегающие 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64a2"/>
                </a:solidFill>
                <a:latin typeface="Calibri"/>
              </a:rPr>
              <a:t>Участие в конкурсах профессионального мастерств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Диплом участника муниципального конкурса «Педагог нового времени», 2009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бедитель муниципального тура и участник республиканского тура конкурса «Использование ИКТ-технологий в образовательном процессе», 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Диплом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I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тепени республиканского конкурса авторских программ и учебно-методических пособий «50 инновационных идей в образовании», ИРО - 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1071720" y="3286080"/>
            <a:ext cx="90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071720" y="0"/>
            <a:ext cx="1334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Обобщение распростран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педагогического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F:\Фото,видио-класс\Изображение 002.jpg"/>
          <p:cNvPicPr/>
          <p:nvPr/>
        </p:nvPicPr>
        <p:blipFill>
          <a:blip r:embed="rId1"/>
          <a:stretch/>
        </p:blipFill>
        <p:spPr>
          <a:xfrm rot="20998800">
            <a:off x="1901520" y="1334880"/>
            <a:ext cx="1595520" cy="2295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F:\Фото,видио-класс\Изображение 003.jpg"/>
          <p:cNvPicPr/>
          <p:nvPr/>
        </p:nvPicPr>
        <p:blipFill>
          <a:blip r:embed="rId2"/>
          <a:stretch/>
        </p:blipFill>
        <p:spPr>
          <a:xfrm>
            <a:off x="3714840" y="5572080"/>
            <a:ext cx="1785960" cy="128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F:\Фото,видио-класс\Изображение 001.jpg"/>
          <p:cNvPicPr/>
          <p:nvPr/>
        </p:nvPicPr>
        <p:blipFill>
          <a:blip r:embed="rId3"/>
          <a:stretch/>
        </p:blipFill>
        <p:spPr>
          <a:xfrm rot="941400">
            <a:off x="7372080" y="1587600"/>
            <a:ext cx="1490400" cy="2287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7"/>
          <p:cNvSpPr/>
          <p:nvPr/>
        </p:nvSpPr>
        <p:spPr>
          <a:xfrm>
            <a:off x="571680" y="335772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C:\Documents and Settings\user\Рабочий стол\YUY 001.jpg"/>
          <p:cNvPicPr/>
          <p:nvPr/>
        </p:nvPicPr>
        <p:blipFill>
          <a:blip r:embed="rId4"/>
          <a:stretch/>
        </p:blipFill>
        <p:spPr>
          <a:xfrm rot="919200">
            <a:off x="5634000" y="1307880"/>
            <a:ext cx="1557360" cy="2301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E:\Свидетельства\diploma_1250.jpg"/>
          <p:cNvPicPr/>
          <p:nvPr/>
        </p:nvPicPr>
        <p:blipFill>
          <a:blip r:embed="rId5"/>
          <a:stretch/>
        </p:blipFill>
        <p:spPr>
          <a:xfrm>
            <a:off x="7572240" y="4572000"/>
            <a:ext cx="157176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E:\Свидетельства\Изображение 013.jpg"/>
          <p:cNvPicPr/>
          <p:nvPr/>
        </p:nvPicPr>
        <p:blipFill>
          <a:blip r:embed="rId6"/>
          <a:stretch/>
        </p:blipFill>
        <p:spPr>
          <a:xfrm>
            <a:off x="1500120" y="4214880"/>
            <a:ext cx="1546200" cy="236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E:\Свидетельства\Изображение 014.jpg"/>
          <p:cNvPicPr/>
          <p:nvPr/>
        </p:nvPicPr>
        <p:blipFill>
          <a:blip r:embed="rId7"/>
          <a:stretch/>
        </p:blipFill>
        <p:spPr>
          <a:xfrm rot="20934000">
            <a:off x="314280" y="1674360"/>
            <a:ext cx="150012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E:\Свидетельства\Изображение 015.jpg"/>
          <p:cNvPicPr/>
          <p:nvPr/>
        </p:nvPicPr>
        <p:blipFill>
          <a:blip r:embed="rId8"/>
          <a:stretch/>
        </p:blipFill>
        <p:spPr>
          <a:xfrm>
            <a:off x="3714840" y="1143000"/>
            <a:ext cx="15714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E:\Свидетельства\Изображение 016.jpg"/>
          <p:cNvPicPr/>
          <p:nvPr/>
        </p:nvPicPr>
        <p:blipFill>
          <a:blip r:embed="rId9"/>
          <a:stretch/>
        </p:blipFill>
        <p:spPr>
          <a:xfrm>
            <a:off x="0" y="4572000"/>
            <a:ext cx="150012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E:\Свидетельства 2012\Дудина1.jpg"/>
          <p:cNvPicPr/>
          <p:nvPr/>
        </p:nvPicPr>
        <p:blipFill>
          <a:blip r:embed="rId10"/>
          <a:stretch/>
        </p:blipFill>
        <p:spPr>
          <a:xfrm>
            <a:off x="6215040" y="4143240"/>
            <a:ext cx="150012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E:\Свидетельства 2012\нспартал сайт.jpg"/>
          <p:cNvPicPr/>
          <p:nvPr/>
        </p:nvPicPr>
        <p:blipFill>
          <a:blip r:embed="rId11"/>
          <a:stretch/>
        </p:blipFill>
        <p:spPr>
          <a:xfrm>
            <a:off x="3000240" y="3571920"/>
            <a:ext cx="1600200" cy="227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E:\Свидетельства 2012\К уроку.ру.jpg"/>
          <p:cNvPicPr/>
          <p:nvPr/>
        </p:nvPicPr>
        <p:blipFill>
          <a:blip r:embed="rId12"/>
          <a:stretch/>
        </p:blipFill>
        <p:spPr>
          <a:xfrm>
            <a:off x="4643280" y="3571920"/>
            <a:ext cx="16574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5"/>
          <p:cNvSpPr/>
          <p:nvPr/>
        </p:nvSpPr>
        <p:spPr>
          <a:xfrm>
            <a:off x="1643040" y="285840"/>
            <a:ext cx="6572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57120" y="164304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1571760" y="357120"/>
            <a:ext cx="6572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Научно – методиче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214200" y="785880"/>
            <a:ext cx="8929800" cy="58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стоянно выступаю с сообщениями  с использованием информационных технологий на заседаниях педагогического совета школы,  методических объединениях, перед учителями города и рай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создала личный сайт н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nsporta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являюсь руководителем школьного методического объединения учителей начальных кла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являюсь  членом педагогического клуба «Первое сентября» (Фестиваль  «Открытый урок» (Россия)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имею личный электронный кабинет на сайт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www.1 september.ru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еоднократно  печаталась  в издании «Фестиваль педагогических идей «Открытый урок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Calibri"/>
              </a:rPr>
              <a:t>», «Портфолио»,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«Открытый класс»,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4"/>
              </a:rPr>
              <a:t>pedmi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6"/>
              </a:rPr>
              <a:t>ru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  <a:ea typeface="Calibri"/>
              </a:rPr>
              <a:t>,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7"/>
              </a:rPr>
              <a:t>http://nayrok.ru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Calibri"/>
              </a:rPr>
              <a:t>,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8"/>
              </a:rPr>
              <a:t>http://www.nsportal.ru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9"/>
              </a:rPr>
              <a:t>http://fossa.net.ru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Calibri"/>
              </a:rPr>
              <a:t>,  </a:t>
            </a:r>
            <a:r>
              <a:rPr b="1" i="1" lang="ru-RU" sz="2400" spc="-1" strike="noStrike" u="sng">
                <a:solidFill>
                  <a:srgbClr val="1f497d"/>
                </a:solidFill>
                <a:uFillTx/>
                <a:latin typeface="Calibri"/>
                <a:ea typeface="Calibri"/>
              </a:rPr>
              <a:t>http://www.k-yroky.ru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  <a:ea typeface="Calibri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Calibri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В своей работе использую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 интернет-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zdd.1september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//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dmi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http://nayrok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nsportal.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http://fossa.ne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http://www.k-yroky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://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numi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Пусть говорят, что профессии разные</a:t>
            </a:r>
            <a:br>
              <a:rPr sz="3200"/>
            </a:b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 и есть профессии важнее... </a:t>
            </a:r>
            <a:br>
              <a:rPr sz="3200"/>
            </a:b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Но я убеждена: самая лучшая, </a:t>
            </a:r>
            <a:br>
              <a:rPr sz="3200"/>
            </a:b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самая славная, самая добрая, </a:t>
            </a:r>
            <a:br>
              <a:rPr sz="3200"/>
            </a:b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самая мудрая, самая первая</a:t>
            </a:r>
            <a:br>
              <a:rPr sz="3200"/>
            </a:b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 профессия на земле – </a:t>
            </a:r>
            <a:br>
              <a:rPr sz="3200"/>
            </a:b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это профессия учит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11280" y="51577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428760" y="4500720"/>
            <a:ext cx="842940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Удачи вам, коллег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SYS\Рабочий стол\Ольга\С диска №1\Линии\75f08b91c637d1890218434ed7d42cb7.gif"/>
          <p:cNvPicPr/>
          <p:nvPr/>
        </p:nvPicPr>
        <p:blipFill>
          <a:blip r:embed="rId1"/>
          <a:stretch/>
        </p:blipFill>
        <p:spPr>
          <a:xfrm>
            <a:off x="6858000" y="5857920"/>
            <a:ext cx="2286000" cy="10000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6"/>
          <p:cNvSpPr/>
          <p:nvPr/>
        </p:nvSpPr>
        <p:spPr>
          <a:xfrm>
            <a:off x="271440" y="1000080"/>
            <a:ext cx="9801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Тема самообраз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«Повышение качества образования через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использование</a:t>
            </a: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информационных</a:t>
            </a: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технолог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285840" y="0"/>
            <a:ext cx="93916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Тема  школ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«Условия внедрения инновационных технологий, формирующих конкурентно-способную лич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428760" y="3357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  <a:ea typeface="Arial"/>
              </a:rPr>
              <a:t>  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  <a:ea typeface="Arial"/>
              </a:rPr>
              <a:t>Курсы повышения квалифик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285840" y="4000680"/>
            <a:ext cx="857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Курсы повышения квалификации учителей начальных  классов  по  проблеме </a:t>
            </a:r>
            <a:br>
              <a:rPr sz="28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«Профессиональная компетентность учителя начальных классов – основа его исследовательской и творческой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при ИРО РТ г. Казань, 200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SYS\Рабочий стол\Ольга\С диска №1\Копия Сегодня\XCUTT24.gif"/>
          <p:cNvPicPr/>
          <p:nvPr/>
        </p:nvPicPr>
        <p:blipFill>
          <a:blip r:embed="rId1"/>
          <a:stretch/>
        </p:blipFill>
        <p:spPr>
          <a:xfrm>
            <a:off x="7429680" y="428760"/>
            <a:ext cx="1143000" cy="7855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642960" y="285840"/>
            <a:ext cx="7429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ое  педагогическое  кредо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57120" y="428760"/>
            <a:ext cx="842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творчество и постоянное саморазвитие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428760" y="171468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Я использую ИКТ в своей школе для того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285840" y="2714760"/>
            <a:ext cx="8429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оводить виртуальные у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бщаться с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омогать детям реализовывать свои творческие 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иобщать учеников к мировой куль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учить учеников уч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 помощью ИКТ ученики могут применять на практике полученные на уроках зн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684360" y="2142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Основная цель моей деятель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14200" y="1000080"/>
            <a:ext cx="878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именение новых передовых технологий на уроках и во вне урочное время  для развития школьника как личности, полноценно владеющей  полученными зна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оздание условий для формирования и развития личности школьника, ведущего здоровый образ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овместная работа  с  семьями  учащихся  в  процессе воспитания  и формирования  личности  учащегося – достойного гражданина своей Родин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SYS\Рабочий стол\Ольга\С диска №1\Копия Сегодня\BOLI1.gif"/>
          <p:cNvPicPr/>
          <p:nvPr/>
        </p:nvPicPr>
        <p:blipFill>
          <a:blip r:embed="rId5"/>
          <a:stretch/>
        </p:blipFill>
        <p:spPr>
          <a:xfrm rot="891000">
            <a:off x="8300880" y="5243400"/>
            <a:ext cx="38448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extBox 3" descr=""/>
          <p:cNvPicPr/>
          <p:nvPr/>
        </p:nvPicPr>
        <p:blipFill>
          <a:blip r:embed="rId1"/>
          <a:stretch/>
        </p:blipFill>
        <p:spPr>
          <a:xfrm>
            <a:off x="781200" y="-30240"/>
            <a:ext cx="7796160" cy="1273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SYS\Рабочий стол\Ольга\Для презентаций\Анимации\mouse45.gif"/>
          <p:cNvPicPr/>
          <p:nvPr/>
        </p:nvPicPr>
        <p:blipFill>
          <a:blip r:embed="rId2"/>
          <a:stretch/>
        </p:blipFill>
        <p:spPr>
          <a:xfrm>
            <a:off x="7215120" y="4857840"/>
            <a:ext cx="1573200" cy="1643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285840" y="1071720"/>
            <a:ext cx="864396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ормирование умения видеть в самом обычном явлении удивительное и необыч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развитие интереса к изучению учебных дисциплин у учащихся со слабыми учебными возможност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глубление уже имеющихся знаний у сильных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развитие твор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богащение словарного зап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2"/>
          <p:cNvSpPr/>
          <p:nvPr/>
        </p:nvSpPr>
        <p:spPr>
          <a:xfrm>
            <a:off x="428760" y="28584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Позитивная динамика учебных достижений обучающих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3"/>
          <p:cNvSpPr/>
          <p:nvPr/>
        </p:nvSpPr>
        <p:spPr>
          <a:xfrm>
            <a:off x="324000" y="1844640"/>
            <a:ext cx="327636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Эффективность работы подтверждается результатами мониторинга знаний учащихся, которая  в среднем составляет  50% - 55 % качества знаний и 100% успев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4"/>
          <p:cNvSpPr/>
          <p:nvPr/>
        </p:nvSpPr>
        <p:spPr>
          <a:xfrm>
            <a:off x="4286160" y="2759040"/>
            <a:ext cx="2571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7"/>
          <p:cNvGraphicFramePr/>
          <p:nvPr/>
        </p:nvGraphicFramePr>
        <p:xfrm>
          <a:off x="3214800" y="1704960"/>
          <a:ext cx="593244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4800" y="1704960"/>
                    <a:ext cx="593244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5"/>
          <p:cNvSpPr/>
          <p:nvPr/>
        </p:nvSpPr>
        <p:spPr>
          <a:xfrm>
            <a:off x="428760" y="142920"/>
            <a:ext cx="8001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«Самый умный третьеклассник»  -  </a:t>
            </a:r>
            <a:r>
              <a:rPr b="1" lang="en-US" sz="2800" spc="-1" strike="noStrike">
                <a:solidFill>
                  <a:srgbClr val="254061"/>
                </a:solidFill>
                <a:latin typeface="Calibri"/>
              </a:rPr>
              <a:t>II</a:t>
            </a: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 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                       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Медведев Ва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«Решение логических задач»  - </a:t>
            </a:r>
            <a:r>
              <a:rPr b="1" lang="en-US" sz="2800" spc="-1" strike="noStrike">
                <a:solidFill>
                  <a:srgbClr val="254061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254061"/>
                </a:solidFill>
                <a:latin typeface="Arial"/>
              </a:rPr>
              <a:t> 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406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:\Documents and Settings\user\Рабочий стол\YUY 004.jpg"/>
          <p:cNvPicPr/>
          <p:nvPr/>
        </p:nvPicPr>
        <p:blipFill>
          <a:blip r:embed="rId1"/>
          <a:stretch/>
        </p:blipFill>
        <p:spPr>
          <a:xfrm>
            <a:off x="1643040" y="357120"/>
            <a:ext cx="15717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Documents and Settings\user\Рабочий стол\YUY 003.jpg"/>
          <p:cNvPicPr/>
          <p:nvPr/>
        </p:nvPicPr>
        <p:blipFill>
          <a:blip r:embed="rId2"/>
          <a:stretch/>
        </p:blipFill>
        <p:spPr>
          <a:xfrm>
            <a:off x="5357880" y="3429000"/>
            <a:ext cx="1500120" cy="214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F:\новые фотки\PIC_0028.JPG"/>
          <p:cNvPicPr/>
          <p:nvPr/>
        </p:nvPicPr>
        <p:blipFill>
          <a:blip r:embed="rId3"/>
          <a:stretch/>
        </p:blipFill>
        <p:spPr>
          <a:xfrm>
            <a:off x="4000680" y="642960"/>
            <a:ext cx="1214280" cy="1643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F:\новые фотки\PIC_0030.JPG"/>
          <p:cNvPicPr/>
          <p:nvPr/>
        </p:nvPicPr>
        <p:blipFill>
          <a:blip r:embed="rId4"/>
          <a:stretch/>
        </p:blipFill>
        <p:spPr>
          <a:xfrm>
            <a:off x="3143160" y="3571920"/>
            <a:ext cx="1285920" cy="1714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2714760" y="22860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Гумеров Бул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игматуллина Ильнара 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ченица 2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E:\Свидетельства\Нигматуллиной Илнаре Линаровне.jpg"/>
          <p:cNvPicPr/>
          <p:nvPr/>
        </p:nvPicPr>
        <p:blipFill>
          <a:blip r:embed="rId1"/>
          <a:stretch/>
        </p:blipFill>
        <p:spPr>
          <a:xfrm>
            <a:off x="3286080" y="2071800"/>
            <a:ext cx="250020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9"/>
          <p:cNvSpPr/>
          <p:nvPr/>
        </p:nvSpPr>
        <p:spPr>
          <a:xfrm>
            <a:off x="500040" y="500040"/>
            <a:ext cx="97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Внеурочная деятельность по предме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500040" y="1571760"/>
            <a:ext cx="821520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занятия для учащихся 2-х классов  по  разработанной авторской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рограмме  «Учась - учись»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амках дополнительного  образования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целью повышения качества знаний учащихся со слабыми  учебными  возможностями   и  развития  креативных  способностей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личности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учащихся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 сильными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учебными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озможностями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  использованием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онных технол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4:07:18Z</dcterms:created>
  <dc:creator>Customer</dc:creator>
  <dc:description/>
  <dc:language>en-US</dc:language>
  <cp:lastModifiedBy>root</cp:lastModifiedBy>
  <dcterms:modified xsi:type="dcterms:W3CDTF">2012-02-16T15:52:03Z</dcterms:modified>
  <cp:revision>139</cp:revision>
  <dc:subject/>
  <dc:title>Слайд 1</dc:title>
</cp:coreProperties>
</file>