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2DE-536A-4CBE-BA1F-F3B384C9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4A5-AA65-443A-AE42-F6F20728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9B7-E20B-4085-8846-F46537FD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7F0-29CF-4CAF-83F4-73B0E89B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B47-B339-4947-8768-EACF42C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5D9-F27F-4A9D-BA95-8121A87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83F-234F-4261-B508-390DBE2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6B2-DAAE-411B-BF9D-E9B656D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F3E-9A1D-4712-8EBB-D79493B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A72-65AD-416A-93A7-C3D2BD2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052-CAED-44D8-8D68-B236C1A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C4C-2436-4F1B-B661-82D93A9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6FD-46D9-4B6F-87EE-497E7AAA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59520" y="907920"/>
            <a:ext cx="4737600" cy="1069920"/>
            <a:chOff x="1559520" y="907920"/>
            <a:chExt cx="4737600" cy="1069920"/>
          </a:xfrm>
        </p:grpSpPr>
        <p:sp>
          <p:nvSpPr>
            <p:cNvPr id="45" name=""/>
            <p:cNvSpPr/>
            <p:nvPr/>
          </p:nvSpPr>
          <p:spPr>
            <a:xfrm>
              <a:off x="1559520" y="907920"/>
              <a:ext cx="1183680" cy="1069920"/>
            </a:xfrm>
            <a:prstGeom prst="donut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0200" y="1175760"/>
              <a:ext cx="3256920" cy="5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= 5. R = 3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айдите площадь зеленого коль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418040" y="3084480"/>
            <a:ext cx="6216840" cy="1752480"/>
            <a:chOff x="1418040" y="3084480"/>
            <a:chExt cx="6216840" cy="1752480"/>
          </a:xfrm>
        </p:grpSpPr>
        <p:sp>
          <p:nvSpPr>
            <p:cNvPr id="48" name=""/>
            <p:cNvSpPr/>
            <p:nvPr/>
          </p:nvSpPr>
          <p:spPr>
            <a:xfrm>
              <a:off x="1418040" y="3084480"/>
              <a:ext cx="1913040" cy="1752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36640" y="3402720"/>
              <a:ext cx="795960" cy="79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93160" y="4040640"/>
              <a:ext cx="479880" cy="47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9880" y="3243600"/>
              <a:ext cx="382500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дите площадь зеленой фигуры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0" y="26035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995640" y="3573360"/>
                <a:ext cx="22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69840" y="-5582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0" y="2793960"/>
                <a:ext cx="856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28000" y="1196280"/>
            <a:ext cx="5473080" cy="1216800"/>
            <a:chOff x="828000" y="1196280"/>
            <a:chExt cx="5473080" cy="1216800"/>
          </a:xfrm>
        </p:grpSpPr>
        <p:sp>
          <p:nvSpPr>
            <p:cNvPr id="59" name=""/>
            <p:cNvSpPr/>
            <p:nvPr/>
          </p:nvSpPr>
          <p:spPr>
            <a:xfrm>
              <a:off x="828000" y="1196280"/>
              <a:ext cx="1151640" cy="1152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971640" y="1773000"/>
              <a:ext cx="432360" cy="4320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04720" y="1773000"/>
              <a:ext cx="575280" cy="143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9400" y="1818720"/>
              <a:ext cx="912960" cy="531360"/>
            </a:xfrm>
            <a:custGeom>
              <a:avLst/>
              <a:gdLst/>
              <a:ahLst/>
              <a:rect l="l" t="t" r="r" b="b"/>
              <a:pathLst>
                <a:path w="1141" h="664">
                  <a:moveTo>
                    <a:pt x="0" y="476"/>
                  </a:moveTo>
                  <a:cubicBezTo>
                    <a:pt x="71" y="428"/>
                    <a:pt x="17" y="457"/>
                    <a:pt x="105" y="431"/>
                  </a:cubicBezTo>
                  <a:cubicBezTo>
                    <a:pt x="135" y="422"/>
                    <a:pt x="195" y="401"/>
                    <a:pt x="195" y="401"/>
                  </a:cubicBezTo>
                  <a:cubicBezTo>
                    <a:pt x="310" y="286"/>
                    <a:pt x="261" y="346"/>
                    <a:pt x="345" y="221"/>
                  </a:cubicBezTo>
                  <a:cubicBezTo>
                    <a:pt x="354" y="208"/>
                    <a:pt x="352" y="190"/>
                    <a:pt x="360" y="176"/>
                  </a:cubicBezTo>
                  <a:cubicBezTo>
                    <a:pt x="378" y="144"/>
                    <a:pt x="386" y="97"/>
                    <a:pt x="420" y="86"/>
                  </a:cubicBezTo>
                  <a:cubicBezTo>
                    <a:pt x="482" y="65"/>
                    <a:pt x="452" y="80"/>
                    <a:pt x="510" y="41"/>
                  </a:cubicBezTo>
                  <a:cubicBezTo>
                    <a:pt x="520" y="56"/>
                    <a:pt x="544" y="68"/>
                    <a:pt x="540" y="86"/>
                  </a:cubicBezTo>
                  <a:cubicBezTo>
                    <a:pt x="540" y="86"/>
                    <a:pt x="465" y="198"/>
                    <a:pt x="450" y="221"/>
                  </a:cubicBezTo>
                  <a:cubicBezTo>
                    <a:pt x="384" y="320"/>
                    <a:pt x="332" y="429"/>
                    <a:pt x="255" y="521"/>
                  </a:cubicBezTo>
                  <a:cubicBezTo>
                    <a:pt x="241" y="537"/>
                    <a:pt x="165" y="604"/>
                    <a:pt x="165" y="626"/>
                  </a:cubicBezTo>
                  <a:cubicBezTo>
                    <a:pt x="165" y="647"/>
                    <a:pt x="192" y="593"/>
                    <a:pt x="210" y="581"/>
                  </a:cubicBezTo>
                  <a:cubicBezTo>
                    <a:pt x="223" y="572"/>
                    <a:pt x="241" y="574"/>
                    <a:pt x="255" y="566"/>
                  </a:cubicBezTo>
                  <a:cubicBezTo>
                    <a:pt x="287" y="548"/>
                    <a:pt x="311" y="517"/>
                    <a:pt x="345" y="506"/>
                  </a:cubicBezTo>
                  <a:cubicBezTo>
                    <a:pt x="429" y="478"/>
                    <a:pt x="507" y="455"/>
                    <a:pt x="585" y="416"/>
                  </a:cubicBezTo>
                  <a:cubicBezTo>
                    <a:pt x="637" y="390"/>
                    <a:pt x="672" y="343"/>
                    <a:pt x="720" y="311"/>
                  </a:cubicBezTo>
                  <a:cubicBezTo>
                    <a:pt x="757" y="201"/>
                    <a:pt x="728" y="243"/>
                    <a:pt x="795" y="176"/>
                  </a:cubicBezTo>
                  <a:cubicBezTo>
                    <a:pt x="768" y="96"/>
                    <a:pt x="798" y="140"/>
                    <a:pt x="735" y="176"/>
                  </a:cubicBezTo>
                  <a:cubicBezTo>
                    <a:pt x="717" y="186"/>
                    <a:pt x="695" y="186"/>
                    <a:pt x="675" y="191"/>
                  </a:cubicBezTo>
                  <a:cubicBezTo>
                    <a:pt x="604" y="239"/>
                    <a:pt x="564" y="310"/>
                    <a:pt x="495" y="356"/>
                  </a:cubicBezTo>
                  <a:cubicBezTo>
                    <a:pt x="474" y="418"/>
                    <a:pt x="444" y="440"/>
                    <a:pt x="405" y="491"/>
                  </a:cubicBezTo>
                  <a:cubicBezTo>
                    <a:pt x="383" y="519"/>
                    <a:pt x="365" y="551"/>
                    <a:pt x="345" y="581"/>
                  </a:cubicBezTo>
                  <a:cubicBezTo>
                    <a:pt x="336" y="594"/>
                    <a:pt x="316" y="633"/>
                    <a:pt x="330" y="626"/>
                  </a:cubicBezTo>
                  <a:cubicBezTo>
                    <a:pt x="363" y="610"/>
                    <a:pt x="398" y="588"/>
                    <a:pt x="435" y="581"/>
                  </a:cubicBezTo>
                  <a:cubicBezTo>
                    <a:pt x="470" y="574"/>
                    <a:pt x="505" y="571"/>
                    <a:pt x="540" y="566"/>
                  </a:cubicBezTo>
                  <a:cubicBezTo>
                    <a:pt x="600" y="526"/>
                    <a:pt x="666" y="484"/>
                    <a:pt x="735" y="461"/>
                  </a:cubicBezTo>
                  <a:cubicBezTo>
                    <a:pt x="815" y="341"/>
                    <a:pt x="710" y="486"/>
                    <a:pt x="810" y="386"/>
                  </a:cubicBezTo>
                  <a:cubicBezTo>
                    <a:pt x="849" y="347"/>
                    <a:pt x="857" y="287"/>
                    <a:pt x="870" y="236"/>
                  </a:cubicBezTo>
                  <a:cubicBezTo>
                    <a:pt x="865" y="211"/>
                    <a:pt x="861" y="186"/>
                    <a:pt x="855" y="161"/>
                  </a:cubicBezTo>
                  <a:cubicBezTo>
                    <a:pt x="851" y="146"/>
                    <a:pt x="856" y="116"/>
                    <a:pt x="840" y="116"/>
                  </a:cubicBezTo>
                  <a:cubicBezTo>
                    <a:pt x="824" y="116"/>
                    <a:pt x="832" y="147"/>
                    <a:pt x="825" y="161"/>
                  </a:cubicBezTo>
                  <a:cubicBezTo>
                    <a:pt x="750" y="312"/>
                    <a:pt x="844" y="82"/>
                    <a:pt x="765" y="266"/>
                  </a:cubicBezTo>
                  <a:cubicBezTo>
                    <a:pt x="759" y="281"/>
                    <a:pt x="758" y="297"/>
                    <a:pt x="750" y="311"/>
                  </a:cubicBezTo>
                  <a:cubicBezTo>
                    <a:pt x="732" y="343"/>
                    <a:pt x="701" y="367"/>
                    <a:pt x="690" y="401"/>
                  </a:cubicBezTo>
                  <a:cubicBezTo>
                    <a:pt x="685" y="416"/>
                    <a:pt x="685" y="434"/>
                    <a:pt x="675" y="446"/>
                  </a:cubicBezTo>
                  <a:cubicBezTo>
                    <a:pt x="649" y="479"/>
                    <a:pt x="585" y="536"/>
                    <a:pt x="585" y="536"/>
                  </a:cubicBezTo>
                  <a:cubicBezTo>
                    <a:pt x="547" y="649"/>
                    <a:pt x="603" y="514"/>
                    <a:pt x="525" y="611"/>
                  </a:cubicBezTo>
                  <a:cubicBezTo>
                    <a:pt x="515" y="623"/>
                    <a:pt x="496" y="649"/>
                    <a:pt x="510" y="656"/>
                  </a:cubicBezTo>
                  <a:cubicBezTo>
                    <a:pt x="526" y="664"/>
                    <a:pt x="539" y="635"/>
                    <a:pt x="555" y="626"/>
                  </a:cubicBezTo>
                  <a:cubicBezTo>
                    <a:pt x="574" y="615"/>
                    <a:pt x="596" y="607"/>
                    <a:pt x="615" y="596"/>
                  </a:cubicBezTo>
                  <a:cubicBezTo>
                    <a:pt x="698" y="548"/>
                    <a:pt x="780" y="512"/>
                    <a:pt x="870" y="476"/>
                  </a:cubicBezTo>
                  <a:cubicBezTo>
                    <a:pt x="961" y="385"/>
                    <a:pt x="1046" y="399"/>
                    <a:pt x="1095" y="251"/>
                  </a:cubicBezTo>
                  <a:cubicBezTo>
                    <a:pt x="1090" y="231"/>
                    <a:pt x="1096" y="203"/>
                    <a:pt x="1080" y="191"/>
                  </a:cubicBezTo>
                  <a:cubicBezTo>
                    <a:pt x="1067" y="182"/>
                    <a:pt x="1051" y="204"/>
                    <a:pt x="1035" y="206"/>
                  </a:cubicBezTo>
                  <a:cubicBezTo>
                    <a:pt x="985" y="214"/>
                    <a:pt x="935" y="216"/>
                    <a:pt x="885" y="221"/>
                  </a:cubicBezTo>
                  <a:cubicBezTo>
                    <a:pt x="829" y="277"/>
                    <a:pt x="801" y="342"/>
                    <a:pt x="735" y="386"/>
                  </a:cubicBezTo>
                  <a:cubicBezTo>
                    <a:pt x="591" y="602"/>
                    <a:pt x="697" y="471"/>
                    <a:pt x="75" y="416"/>
                  </a:cubicBezTo>
                  <a:cubicBezTo>
                    <a:pt x="34" y="412"/>
                    <a:pt x="155" y="396"/>
                    <a:pt x="195" y="386"/>
                  </a:cubicBezTo>
                  <a:cubicBezTo>
                    <a:pt x="326" y="353"/>
                    <a:pt x="466" y="375"/>
                    <a:pt x="600" y="356"/>
                  </a:cubicBezTo>
                  <a:cubicBezTo>
                    <a:pt x="739" y="336"/>
                    <a:pt x="882" y="309"/>
                    <a:pt x="1020" y="281"/>
                  </a:cubicBezTo>
                  <a:cubicBezTo>
                    <a:pt x="736" y="271"/>
                    <a:pt x="431" y="283"/>
                    <a:pt x="150" y="236"/>
                  </a:cubicBezTo>
                  <a:cubicBezTo>
                    <a:pt x="208" y="217"/>
                    <a:pt x="285" y="171"/>
                    <a:pt x="345" y="161"/>
                  </a:cubicBezTo>
                  <a:cubicBezTo>
                    <a:pt x="390" y="154"/>
                    <a:pt x="435" y="151"/>
                    <a:pt x="480" y="146"/>
                  </a:cubicBezTo>
                  <a:cubicBezTo>
                    <a:pt x="660" y="172"/>
                    <a:pt x="725" y="181"/>
                    <a:pt x="945" y="191"/>
                  </a:cubicBezTo>
                  <a:cubicBezTo>
                    <a:pt x="1005" y="231"/>
                    <a:pt x="1029" y="261"/>
                    <a:pt x="1125" y="206"/>
                  </a:cubicBezTo>
                  <a:cubicBezTo>
                    <a:pt x="1141" y="197"/>
                    <a:pt x="1107" y="174"/>
                    <a:pt x="1095" y="161"/>
                  </a:cubicBezTo>
                  <a:cubicBezTo>
                    <a:pt x="1044" y="103"/>
                    <a:pt x="1000" y="44"/>
                    <a:pt x="915" y="41"/>
                  </a:cubicBezTo>
                  <a:cubicBezTo>
                    <a:pt x="765" y="36"/>
                    <a:pt x="615" y="31"/>
                    <a:pt x="465" y="26"/>
                  </a:cubicBezTo>
                  <a:cubicBezTo>
                    <a:pt x="396" y="3"/>
                    <a:pt x="384" y="0"/>
                    <a:pt x="360" y="71"/>
                  </a:cubicBezTo>
                  <a:cubicBezTo>
                    <a:pt x="507" y="120"/>
                    <a:pt x="342" y="71"/>
                    <a:pt x="705" y="71"/>
                  </a:cubicBezTo>
                  <a:cubicBezTo>
                    <a:pt x="800" y="71"/>
                    <a:pt x="895" y="81"/>
                    <a:pt x="990" y="86"/>
                  </a:cubicBezTo>
                  <a:cubicBezTo>
                    <a:pt x="1005" y="96"/>
                    <a:pt x="1031" y="98"/>
                    <a:pt x="1035" y="116"/>
                  </a:cubicBezTo>
                  <a:cubicBezTo>
                    <a:pt x="1039" y="134"/>
                    <a:pt x="1023" y="159"/>
                    <a:pt x="1005" y="161"/>
                  </a:cubicBezTo>
                  <a:cubicBezTo>
                    <a:pt x="940" y="170"/>
                    <a:pt x="875" y="151"/>
                    <a:pt x="810" y="146"/>
                  </a:cubicBezTo>
                  <a:cubicBezTo>
                    <a:pt x="623" y="84"/>
                    <a:pt x="676" y="96"/>
                    <a:pt x="285" y="146"/>
                  </a:cubicBezTo>
                  <a:cubicBezTo>
                    <a:pt x="279" y="147"/>
                    <a:pt x="291" y="208"/>
                    <a:pt x="345" y="221"/>
                  </a:cubicBezTo>
                  <a:cubicBezTo>
                    <a:pt x="394" y="232"/>
                    <a:pt x="445" y="233"/>
                    <a:pt x="495" y="236"/>
                  </a:cubicBezTo>
                  <a:cubicBezTo>
                    <a:pt x="625" y="243"/>
                    <a:pt x="755" y="246"/>
                    <a:pt x="885" y="251"/>
                  </a:cubicBezTo>
                  <a:cubicBezTo>
                    <a:pt x="956" y="269"/>
                    <a:pt x="1024" y="293"/>
                    <a:pt x="1095" y="311"/>
                  </a:cubicBezTo>
                  <a:cubicBezTo>
                    <a:pt x="827" y="400"/>
                    <a:pt x="508" y="320"/>
                    <a:pt x="225" y="296"/>
                  </a:cubicBezTo>
                  <a:cubicBezTo>
                    <a:pt x="180" y="301"/>
                    <a:pt x="130" y="291"/>
                    <a:pt x="90" y="311"/>
                  </a:cubicBezTo>
                  <a:cubicBezTo>
                    <a:pt x="76" y="318"/>
                    <a:pt x="94" y="345"/>
                    <a:pt x="105" y="356"/>
                  </a:cubicBezTo>
                  <a:cubicBezTo>
                    <a:pt x="116" y="367"/>
                    <a:pt x="134" y="370"/>
                    <a:pt x="150" y="371"/>
                  </a:cubicBezTo>
                  <a:cubicBezTo>
                    <a:pt x="340" y="380"/>
                    <a:pt x="530" y="381"/>
                    <a:pt x="720" y="386"/>
                  </a:cubicBezTo>
                  <a:cubicBezTo>
                    <a:pt x="740" y="416"/>
                    <a:pt x="760" y="446"/>
                    <a:pt x="780" y="476"/>
                  </a:cubicBezTo>
                  <a:cubicBezTo>
                    <a:pt x="790" y="491"/>
                    <a:pt x="810" y="521"/>
                    <a:pt x="810" y="521"/>
                  </a:cubicBezTo>
                  <a:cubicBezTo>
                    <a:pt x="820" y="506"/>
                    <a:pt x="827" y="489"/>
                    <a:pt x="840" y="476"/>
                  </a:cubicBezTo>
                  <a:cubicBezTo>
                    <a:pt x="853" y="463"/>
                    <a:pt x="885" y="464"/>
                    <a:pt x="885" y="446"/>
                  </a:cubicBezTo>
                  <a:cubicBezTo>
                    <a:pt x="885" y="430"/>
                    <a:pt x="854" y="453"/>
                    <a:pt x="840" y="461"/>
                  </a:cubicBezTo>
                  <a:cubicBezTo>
                    <a:pt x="808" y="479"/>
                    <a:pt x="750" y="521"/>
                    <a:pt x="750" y="521"/>
                  </a:cubicBezTo>
                  <a:cubicBezTo>
                    <a:pt x="342" y="509"/>
                    <a:pt x="379" y="525"/>
                    <a:pt x="135" y="476"/>
                  </a:cubicBezTo>
                  <a:cubicBezTo>
                    <a:pt x="120" y="466"/>
                    <a:pt x="106" y="454"/>
                    <a:pt x="90" y="446"/>
                  </a:cubicBezTo>
                  <a:cubicBezTo>
                    <a:pt x="76" y="439"/>
                    <a:pt x="52" y="417"/>
                    <a:pt x="45" y="431"/>
                  </a:cubicBezTo>
                  <a:cubicBezTo>
                    <a:pt x="22" y="477"/>
                    <a:pt x="164" y="516"/>
                    <a:pt x="180" y="521"/>
                  </a:cubicBezTo>
                  <a:cubicBezTo>
                    <a:pt x="404" y="596"/>
                    <a:pt x="49" y="542"/>
                    <a:pt x="600" y="566"/>
                  </a:cubicBezTo>
                  <a:cubicBezTo>
                    <a:pt x="585" y="571"/>
                    <a:pt x="544" y="592"/>
                    <a:pt x="555" y="581"/>
                  </a:cubicBezTo>
                  <a:cubicBezTo>
                    <a:pt x="580" y="556"/>
                    <a:pt x="615" y="541"/>
                    <a:pt x="645" y="521"/>
                  </a:cubicBezTo>
                  <a:cubicBezTo>
                    <a:pt x="663" y="509"/>
                    <a:pt x="673" y="489"/>
                    <a:pt x="690" y="476"/>
                  </a:cubicBezTo>
                  <a:cubicBezTo>
                    <a:pt x="784" y="403"/>
                    <a:pt x="762" y="419"/>
                    <a:pt x="870" y="401"/>
                  </a:cubicBezTo>
                  <a:cubicBezTo>
                    <a:pt x="885" y="391"/>
                    <a:pt x="899" y="379"/>
                    <a:pt x="915" y="371"/>
                  </a:cubicBezTo>
                  <a:cubicBezTo>
                    <a:pt x="961" y="348"/>
                    <a:pt x="1012" y="356"/>
                    <a:pt x="885" y="356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2000" y="1773000"/>
              <a:ext cx="929160" cy="587160"/>
            </a:xfrm>
            <a:custGeom>
              <a:avLst/>
              <a:gdLst/>
              <a:ahLst/>
              <a:rect l="l" t="t" r="r" b="b"/>
              <a:pathLst>
                <a:path w="1161" h="733">
                  <a:moveTo>
                    <a:pt x="106" y="483"/>
                  </a:moveTo>
                  <a:cubicBezTo>
                    <a:pt x="168" y="471"/>
                    <a:pt x="225" y="453"/>
                    <a:pt x="286" y="438"/>
                  </a:cubicBezTo>
                  <a:cubicBezTo>
                    <a:pt x="378" y="346"/>
                    <a:pt x="274" y="436"/>
                    <a:pt x="421" y="363"/>
                  </a:cubicBezTo>
                  <a:cubicBezTo>
                    <a:pt x="489" y="329"/>
                    <a:pt x="530" y="282"/>
                    <a:pt x="601" y="258"/>
                  </a:cubicBezTo>
                  <a:cubicBezTo>
                    <a:pt x="526" y="233"/>
                    <a:pt x="571" y="238"/>
                    <a:pt x="466" y="273"/>
                  </a:cubicBezTo>
                  <a:cubicBezTo>
                    <a:pt x="385" y="300"/>
                    <a:pt x="296" y="283"/>
                    <a:pt x="211" y="288"/>
                  </a:cubicBezTo>
                  <a:cubicBezTo>
                    <a:pt x="136" y="313"/>
                    <a:pt x="171" y="288"/>
                    <a:pt x="136" y="393"/>
                  </a:cubicBezTo>
                  <a:cubicBezTo>
                    <a:pt x="131" y="408"/>
                    <a:pt x="121" y="438"/>
                    <a:pt x="121" y="438"/>
                  </a:cubicBezTo>
                  <a:cubicBezTo>
                    <a:pt x="255" y="483"/>
                    <a:pt x="411" y="479"/>
                    <a:pt x="541" y="423"/>
                  </a:cubicBezTo>
                  <a:cubicBezTo>
                    <a:pt x="576" y="408"/>
                    <a:pt x="613" y="396"/>
                    <a:pt x="646" y="378"/>
                  </a:cubicBezTo>
                  <a:cubicBezTo>
                    <a:pt x="678" y="360"/>
                    <a:pt x="736" y="318"/>
                    <a:pt x="736" y="318"/>
                  </a:cubicBezTo>
                  <a:cubicBezTo>
                    <a:pt x="746" y="303"/>
                    <a:pt x="752" y="285"/>
                    <a:pt x="766" y="273"/>
                  </a:cubicBezTo>
                  <a:cubicBezTo>
                    <a:pt x="793" y="249"/>
                    <a:pt x="856" y="213"/>
                    <a:pt x="856" y="213"/>
                  </a:cubicBezTo>
                  <a:cubicBezTo>
                    <a:pt x="810" y="198"/>
                    <a:pt x="774" y="183"/>
                    <a:pt x="721" y="183"/>
                  </a:cubicBezTo>
                  <a:cubicBezTo>
                    <a:pt x="666" y="183"/>
                    <a:pt x="501" y="198"/>
                    <a:pt x="556" y="198"/>
                  </a:cubicBezTo>
                  <a:cubicBezTo>
                    <a:pt x="676" y="198"/>
                    <a:pt x="796" y="188"/>
                    <a:pt x="916" y="183"/>
                  </a:cubicBezTo>
                  <a:cubicBezTo>
                    <a:pt x="946" y="178"/>
                    <a:pt x="984" y="190"/>
                    <a:pt x="1006" y="168"/>
                  </a:cubicBezTo>
                  <a:cubicBezTo>
                    <a:pt x="1019" y="155"/>
                    <a:pt x="993" y="130"/>
                    <a:pt x="976" y="123"/>
                  </a:cubicBezTo>
                  <a:cubicBezTo>
                    <a:pt x="929" y="103"/>
                    <a:pt x="826" y="93"/>
                    <a:pt x="826" y="93"/>
                  </a:cubicBezTo>
                  <a:cubicBezTo>
                    <a:pt x="467" y="117"/>
                    <a:pt x="322" y="117"/>
                    <a:pt x="1096" y="138"/>
                  </a:cubicBezTo>
                  <a:cubicBezTo>
                    <a:pt x="1111" y="153"/>
                    <a:pt x="1161" y="176"/>
                    <a:pt x="1141" y="183"/>
                  </a:cubicBezTo>
                  <a:cubicBezTo>
                    <a:pt x="1111" y="193"/>
                    <a:pt x="1082" y="158"/>
                    <a:pt x="1051" y="153"/>
                  </a:cubicBezTo>
                  <a:cubicBezTo>
                    <a:pt x="1021" y="148"/>
                    <a:pt x="991" y="142"/>
                    <a:pt x="961" y="138"/>
                  </a:cubicBezTo>
                  <a:cubicBezTo>
                    <a:pt x="804" y="117"/>
                    <a:pt x="729" y="109"/>
                    <a:pt x="586" y="93"/>
                  </a:cubicBezTo>
                  <a:cubicBezTo>
                    <a:pt x="440" y="56"/>
                    <a:pt x="582" y="101"/>
                    <a:pt x="601" y="63"/>
                  </a:cubicBezTo>
                  <a:cubicBezTo>
                    <a:pt x="610" y="44"/>
                    <a:pt x="541" y="33"/>
                    <a:pt x="556" y="18"/>
                  </a:cubicBezTo>
                  <a:cubicBezTo>
                    <a:pt x="574" y="0"/>
                    <a:pt x="606" y="27"/>
                    <a:pt x="631" y="33"/>
                  </a:cubicBezTo>
                  <a:cubicBezTo>
                    <a:pt x="749" y="59"/>
                    <a:pt x="790" y="79"/>
                    <a:pt x="916" y="93"/>
                  </a:cubicBezTo>
                  <a:cubicBezTo>
                    <a:pt x="881" y="98"/>
                    <a:pt x="845" y="98"/>
                    <a:pt x="811" y="108"/>
                  </a:cubicBezTo>
                  <a:cubicBezTo>
                    <a:pt x="794" y="113"/>
                    <a:pt x="783" y="131"/>
                    <a:pt x="766" y="138"/>
                  </a:cubicBezTo>
                  <a:cubicBezTo>
                    <a:pt x="733" y="152"/>
                    <a:pt x="696" y="156"/>
                    <a:pt x="661" y="168"/>
                  </a:cubicBezTo>
                  <a:cubicBezTo>
                    <a:pt x="538" y="291"/>
                    <a:pt x="490" y="278"/>
                    <a:pt x="331" y="318"/>
                  </a:cubicBezTo>
                  <a:cubicBezTo>
                    <a:pt x="436" y="348"/>
                    <a:pt x="556" y="392"/>
                    <a:pt x="661" y="333"/>
                  </a:cubicBezTo>
                  <a:cubicBezTo>
                    <a:pt x="693" y="315"/>
                    <a:pt x="717" y="284"/>
                    <a:pt x="751" y="273"/>
                  </a:cubicBezTo>
                  <a:cubicBezTo>
                    <a:pt x="781" y="263"/>
                    <a:pt x="841" y="243"/>
                    <a:pt x="841" y="243"/>
                  </a:cubicBezTo>
                  <a:cubicBezTo>
                    <a:pt x="756" y="186"/>
                    <a:pt x="664" y="220"/>
                    <a:pt x="571" y="243"/>
                  </a:cubicBezTo>
                  <a:cubicBezTo>
                    <a:pt x="514" y="328"/>
                    <a:pt x="463" y="413"/>
                    <a:pt x="406" y="498"/>
                  </a:cubicBezTo>
                  <a:cubicBezTo>
                    <a:pt x="396" y="513"/>
                    <a:pt x="420" y="461"/>
                    <a:pt x="436" y="453"/>
                  </a:cubicBezTo>
                  <a:cubicBezTo>
                    <a:pt x="456" y="443"/>
                    <a:pt x="476" y="433"/>
                    <a:pt x="496" y="423"/>
                  </a:cubicBezTo>
                  <a:cubicBezTo>
                    <a:pt x="565" y="320"/>
                    <a:pt x="477" y="445"/>
                    <a:pt x="586" y="318"/>
                  </a:cubicBezTo>
                  <a:cubicBezTo>
                    <a:pt x="607" y="294"/>
                    <a:pt x="648" y="216"/>
                    <a:pt x="661" y="198"/>
                  </a:cubicBezTo>
                  <a:cubicBezTo>
                    <a:pt x="697" y="150"/>
                    <a:pt x="754" y="120"/>
                    <a:pt x="796" y="78"/>
                  </a:cubicBezTo>
                  <a:cubicBezTo>
                    <a:pt x="783" y="156"/>
                    <a:pt x="778" y="195"/>
                    <a:pt x="736" y="258"/>
                  </a:cubicBezTo>
                  <a:cubicBezTo>
                    <a:pt x="704" y="385"/>
                    <a:pt x="747" y="256"/>
                    <a:pt x="676" y="363"/>
                  </a:cubicBezTo>
                  <a:cubicBezTo>
                    <a:pt x="667" y="376"/>
                    <a:pt x="669" y="394"/>
                    <a:pt x="661" y="408"/>
                  </a:cubicBezTo>
                  <a:cubicBezTo>
                    <a:pt x="649" y="430"/>
                    <a:pt x="631" y="448"/>
                    <a:pt x="616" y="468"/>
                  </a:cubicBezTo>
                  <a:cubicBezTo>
                    <a:pt x="608" y="491"/>
                    <a:pt x="593" y="558"/>
                    <a:pt x="556" y="558"/>
                  </a:cubicBezTo>
                  <a:cubicBezTo>
                    <a:pt x="538" y="558"/>
                    <a:pt x="536" y="528"/>
                    <a:pt x="526" y="513"/>
                  </a:cubicBezTo>
                  <a:cubicBezTo>
                    <a:pt x="552" y="409"/>
                    <a:pt x="605" y="376"/>
                    <a:pt x="691" y="333"/>
                  </a:cubicBezTo>
                  <a:cubicBezTo>
                    <a:pt x="704" y="314"/>
                    <a:pt x="762" y="239"/>
                    <a:pt x="736" y="213"/>
                  </a:cubicBezTo>
                  <a:cubicBezTo>
                    <a:pt x="724" y="201"/>
                    <a:pt x="664" y="299"/>
                    <a:pt x="661" y="303"/>
                  </a:cubicBezTo>
                  <a:cubicBezTo>
                    <a:pt x="566" y="433"/>
                    <a:pt x="610" y="397"/>
                    <a:pt x="526" y="453"/>
                  </a:cubicBezTo>
                  <a:cubicBezTo>
                    <a:pt x="504" y="485"/>
                    <a:pt x="473" y="511"/>
                    <a:pt x="451" y="543"/>
                  </a:cubicBezTo>
                  <a:cubicBezTo>
                    <a:pt x="442" y="556"/>
                    <a:pt x="425" y="577"/>
                    <a:pt x="436" y="588"/>
                  </a:cubicBezTo>
                  <a:cubicBezTo>
                    <a:pt x="447" y="599"/>
                    <a:pt x="466" y="578"/>
                    <a:pt x="481" y="573"/>
                  </a:cubicBezTo>
                  <a:cubicBezTo>
                    <a:pt x="603" y="451"/>
                    <a:pt x="748" y="361"/>
                    <a:pt x="886" y="258"/>
                  </a:cubicBezTo>
                  <a:cubicBezTo>
                    <a:pt x="921" y="263"/>
                    <a:pt x="977" y="241"/>
                    <a:pt x="991" y="273"/>
                  </a:cubicBezTo>
                  <a:cubicBezTo>
                    <a:pt x="1005" y="306"/>
                    <a:pt x="951" y="333"/>
                    <a:pt x="931" y="363"/>
                  </a:cubicBezTo>
                  <a:cubicBezTo>
                    <a:pt x="891" y="423"/>
                    <a:pt x="916" y="398"/>
                    <a:pt x="856" y="438"/>
                  </a:cubicBezTo>
                  <a:cubicBezTo>
                    <a:pt x="819" y="549"/>
                    <a:pt x="777" y="511"/>
                    <a:pt x="661" y="498"/>
                  </a:cubicBezTo>
                  <a:cubicBezTo>
                    <a:pt x="723" y="451"/>
                    <a:pt x="779" y="440"/>
                    <a:pt x="841" y="393"/>
                  </a:cubicBezTo>
                  <a:cubicBezTo>
                    <a:pt x="826" y="383"/>
                    <a:pt x="814" y="365"/>
                    <a:pt x="796" y="363"/>
                  </a:cubicBezTo>
                  <a:cubicBezTo>
                    <a:pt x="713" y="354"/>
                    <a:pt x="621" y="410"/>
                    <a:pt x="556" y="453"/>
                  </a:cubicBezTo>
                  <a:cubicBezTo>
                    <a:pt x="507" y="649"/>
                    <a:pt x="556" y="379"/>
                    <a:pt x="586" y="558"/>
                  </a:cubicBezTo>
                  <a:cubicBezTo>
                    <a:pt x="593" y="597"/>
                    <a:pt x="511" y="625"/>
                    <a:pt x="496" y="633"/>
                  </a:cubicBezTo>
                  <a:cubicBezTo>
                    <a:pt x="0" y="608"/>
                    <a:pt x="320" y="676"/>
                    <a:pt x="121" y="543"/>
                  </a:cubicBezTo>
                  <a:cubicBezTo>
                    <a:pt x="161" y="530"/>
                    <a:pt x="216" y="503"/>
                    <a:pt x="256" y="543"/>
                  </a:cubicBezTo>
                  <a:cubicBezTo>
                    <a:pt x="269" y="556"/>
                    <a:pt x="236" y="573"/>
                    <a:pt x="226" y="588"/>
                  </a:cubicBezTo>
                  <a:cubicBezTo>
                    <a:pt x="287" y="649"/>
                    <a:pt x="362" y="679"/>
                    <a:pt x="436" y="723"/>
                  </a:cubicBezTo>
                  <a:cubicBezTo>
                    <a:pt x="494" y="713"/>
                    <a:pt x="541" y="733"/>
                    <a:pt x="541" y="663"/>
                  </a:cubicBezTo>
                  <a:cubicBezTo>
                    <a:pt x="541" y="647"/>
                    <a:pt x="537" y="629"/>
                    <a:pt x="526" y="618"/>
                  </a:cubicBezTo>
                  <a:cubicBezTo>
                    <a:pt x="515" y="607"/>
                    <a:pt x="497" y="604"/>
                    <a:pt x="481" y="603"/>
                  </a:cubicBezTo>
                  <a:cubicBezTo>
                    <a:pt x="371" y="594"/>
                    <a:pt x="261" y="593"/>
                    <a:pt x="151" y="588"/>
                  </a:cubicBezTo>
                  <a:cubicBezTo>
                    <a:pt x="462" y="636"/>
                    <a:pt x="391" y="633"/>
                    <a:pt x="796" y="618"/>
                  </a:cubicBezTo>
                  <a:cubicBezTo>
                    <a:pt x="864" y="601"/>
                    <a:pt x="886" y="603"/>
                    <a:pt x="946" y="543"/>
                  </a:cubicBezTo>
                  <a:cubicBezTo>
                    <a:pt x="976" y="513"/>
                    <a:pt x="1036" y="453"/>
                    <a:pt x="1036" y="453"/>
                  </a:cubicBezTo>
                  <a:cubicBezTo>
                    <a:pt x="1041" y="438"/>
                    <a:pt x="1058" y="422"/>
                    <a:pt x="1051" y="408"/>
                  </a:cubicBezTo>
                  <a:cubicBezTo>
                    <a:pt x="1044" y="394"/>
                    <a:pt x="1019" y="402"/>
                    <a:pt x="1006" y="393"/>
                  </a:cubicBezTo>
                  <a:cubicBezTo>
                    <a:pt x="997" y="386"/>
                    <a:pt x="996" y="373"/>
                    <a:pt x="991" y="363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23640" y="1197360"/>
              <a:ext cx="4177440" cy="8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йдите площадь сиреневого сектора , если центральный угол равен 120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=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дите площад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озового сектор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6240" y="1876320"/>
              <a:ext cx="222120" cy="279000"/>
            </a:xfrm>
            <a:custGeom>
              <a:avLst/>
              <a:gdLst/>
              <a:ahLst/>
              <a:rect l="l" t="t" r="r" b="b"/>
              <a:pathLst>
                <a:path w="278" h="349">
                  <a:moveTo>
                    <a:pt x="120" y="210"/>
                  </a:moveTo>
                  <a:cubicBezTo>
                    <a:pt x="114" y="239"/>
                    <a:pt x="107" y="333"/>
                    <a:pt x="60" y="345"/>
                  </a:cubicBezTo>
                  <a:cubicBezTo>
                    <a:pt x="45" y="349"/>
                    <a:pt x="50" y="315"/>
                    <a:pt x="45" y="300"/>
                  </a:cubicBezTo>
                  <a:cubicBezTo>
                    <a:pt x="72" y="220"/>
                    <a:pt x="86" y="176"/>
                    <a:pt x="165" y="150"/>
                  </a:cubicBezTo>
                  <a:cubicBezTo>
                    <a:pt x="245" y="30"/>
                    <a:pt x="140" y="175"/>
                    <a:pt x="240" y="75"/>
                  </a:cubicBezTo>
                  <a:cubicBezTo>
                    <a:pt x="253" y="62"/>
                    <a:pt x="278" y="46"/>
                    <a:pt x="270" y="30"/>
                  </a:cubicBezTo>
                  <a:cubicBezTo>
                    <a:pt x="263" y="16"/>
                    <a:pt x="239" y="37"/>
                    <a:pt x="225" y="45"/>
                  </a:cubicBezTo>
                  <a:cubicBezTo>
                    <a:pt x="131" y="97"/>
                    <a:pt x="124" y="116"/>
                    <a:pt x="45" y="195"/>
                  </a:cubicBezTo>
                  <a:cubicBezTo>
                    <a:pt x="30" y="210"/>
                    <a:pt x="0" y="240"/>
                    <a:pt x="0" y="240"/>
                  </a:cubicBezTo>
                  <a:cubicBezTo>
                    <a:pt x="0" y="240"/>
                    <a:pt x="30" y="210"/>
                    <a:pt x="45" y="195"/>
                  </a:cubicBezTo>
                  <a:cubicBezTo>
                    <a:pt x="60" y="180"/>
                    <a:pt x="72" y="162"/>
                    <a:pt x="90" y="150"/>
                  </a:cubicBezTo>
                  <a:cubicBezTo>
                    <a:pt x="153" y="108"/>
                    <a:pt x="202" y="53"/>
                    <a:pt x="255" y="0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37160" y="1800000"/>
              <a:ext cx="898560" cy="555840"/>
            </a:xfrm>
            <a:custGeom>
              <a:avLst/>
              <a:gdLst/>
              <a:ahLst/>
              <a:rect l="l" t="t" r="r" b="b"/>
              <a:pathLst>
                <a:path w="1124" h="695">
                  <a:moveTo>
                    <a:pt x="1" y="455"/>
                  </a:moveTo>
                  <a:cubicBezTo>
                    <a:pt x="11" y="470"/>
                    <a:pt x="14" y="494"/>
                    <a:pt x="31" y="500"/>
                  </a:cubicBezTo>
                  <a:cubicBezTo>
                    <a:pt x="79" y="516"/>
                    <a:pt x="132" y="504"/>
                    <a:pt x="181" y="515"/>
                  </a:cubicBezTo>
                  <a:cubicBezTo>
                    <a:pt x="243" y="528"/>
                    <a:pt x="234" y="553"/>
                    <a:pt x="286" y="575"/>
                  </a:cubicBezTo>
                  <a:cubicBezTo>
                    <a:pt x="305" y="583"/>
                    <a:pt x="448" y="610"/>
                    <a:pt x="271" y="575"/>
                  </a:cubicBezTo>
                  <a:cubicBezTo>
                    <a:pt x="256" y="580"/>
                    <a:pt x="226" y="574"/>
                    <a:pt x="226" y="590"/>
                  </a:cubicBezTo>
                  <a:cubicBezTo>
                    <a:pt x="226" y="636"/>
                    <a:pt x="344" y="654"/>
                    <a:pt x="376" y="665"/>
                  </a:cubicBezTo>
                  <a:cubicBezTo>
                    <a:pt x="439" y="644"/>
                    <a:pt x="571" y="620"/>
                    <a:pt x="571" y="620"/>
                  </a:cubicBezTo>
                  <a:cubicBezTo>
                    <a:pt x="698" y="535"/>
                    <a:pt x="737" y="495"/>
                    <a:pt x="886" y="470"/>
                  </a:cubicBezTo>
                  <a:cubicBezTo>
                    <a:pt x="792" y="407"/>
                    <a:pt x="860" y="460"/>
                    <a:pt x="901" y="455"/>
                  </a:cubicBezTo>
                  <a:cubicBezTo>
                    <a:pt x="923" y="452"/>
                    <a:pt x="940" y="433"/>
                    <a:pt x="961" y="425"/>
                  </a:cubicBezTo>
                  <a:cubicBezTo>
                    <a:pt x="980" y="418"/>
                    <a:pt x="1001" y="415"/>
                    <a:pt x="1021" y="410"/>
                  </a:cubicBezTo>
                  <a:cubicBezTo>
                    <a:pt x="1031" y="395"/>
                    <a:pt x="1055" y="383"/>
                    <a:pt x="1051" y="365"/>
                  </a:cubicBezTo>
                  <a:cubicBezTo>
                    <a:pt x="1047" y="347"/>
                    <a:pt x="1017" y="349"/>
                    <a:pt x="1006" y="335"/>
                  </a:cubicBezTo>
                  <a:cubicBezTo>
                    <a:pt x="996" y="323"/>
                    <a:pt x="998" y="304"/>
                    <a:pt x="991" y="290"/>
                  </a:cubicBezTo>
                  <a:cubicBezTo>
                    <a:pt x="983" y="274"/>
                    <a:pt x="971" y="260"/>
                    <a:pt x="961" y="245"/>
                  </a:cubicBezTo>
                  <a:cubicBezTo>
                    <a:pt x="966" y="230"/>
                    <a:pt x="961" y="205"/>
                    <a:pt x="976" y="200"/>
                  </a:cubicBezTo>
                  <a:cubicBezTo>
                    <a:pt x="1000" y="192"/>
                    <a:pt x="1041" y="192"/>
                    <a:pt x="1051" y="215"/>
                  </a:cubicBezTo>
                  <a:cubicBezTo>
                    <a:pt x="1063" y="244"/>
                    <a:pt x="1031" y="275"/>
                    <a:pt x="1021" y="305"/>
                  </a:cubicBezTo>
                  <a:cubicBezTo>
                    <a:pt x="1016" y="320"/>
                    <a:pt x="997" y="363"/>
                    <a:pt x="1006" y="350"/>
                  </a:cubicBezTo>
                  <a:cubicBezTo>
                    <a:pt x="1016" y="335"/>
                    <a:pt x="1028" y="321"/>
                    <a:pt x="1036" y="305"/>
                  </a:cubicBezTo>
                  <a:cubicBezTo>
                    <a:pt x="1043" y="291"/>
                    <a:pt x="1046" y="275"/>
                    <a:pt x="1051" y="260"/>
                  </a:cubicBezTo>
                  <a:cubicBezTo>
                    <a:pt x="1022" y="172"/>
                    <a:pt x="1061" y="249"/>
                    <a:pt x="976" y="200"/>
                  </a:cubicBezTo>
                  <a:cubicBezTo>
                    <a:pt x="857" y="132"/>
                    <a:pt x="1027" y="162"/>
                    <a:pt x="841" y="125"/>
                  </a:cubicBezTo>
                  <a:cubicBezTo>
                    <a:pt x="816" y="120"/>
                    <a:pt x="741" y="110"/>
                    <a:pt x="766" y="110"/>
                  </a:cubicBezTo>
                  <a:cubicBezTo>
                    <a:pt x="846" y="110"/>
                    <a:pt x="926" y="120"/>
                    <a:pt x="1006" y="125"/>
                  </a:cubicBezTo>
                  <a:cubicBezTo>
                    <a:pt x="1011" y="160"/>
                    <a:pt x="994" y="207"/>
                    <a:pt x="1021" y="230"/>
                  </a:cubicBezTo>
                  <a:cubicBezTo>
                    <a:pt x="1044" y="250"/>
                    <a:pt x="1089" y="237"/>
                    <a:pt x="1111" y="215"/>
                  </a:cubicBezTo>
                  <a:cubicBezTo>
                    <a:pt x="1124" y="202"/>
                    <a:pt x="1083" y="191"/>
                    <a:pt x="1066" y="185"/>
                  </a:cubicBezTo>
                  <a:cubicBezTo>
                    <a:pt x="1042" y="176"/>
                    <a:pt x="1016" y="175"/>
                    <a:pt x="991" y="170"/>
                  </a:cubicBezTo>
                  <a:cubicBezTo>
                    <a:pt x="898" y="108"/>
                    <a:pt x="989" y="155"/>
                    <a:pt x="811" y="155"/>
                  </a:cubicBezTo>
                  <a:cubicBezTo>
                    <a:pt x="776" y="155"/>
                    <a:pt x="741" y="145"/>
                    <a:pt x="706" y="140"/>
                  </a:cubicBezTo>
                  <a:cubicBezTo>
                    <a:pt x="640" y="96"/>
                    <a:pt x="602" y="30"/>
                    <a:pt x="526" y="5"/>
                  </a:cubicBezTo>
                  <a:cubicBezTo>
                    <a:pt x="486" y="10"/>
                    <a:pt x="441" y="0"/>
                    <a:pt x="406" y="20"/>
                  </a:cubicBezTo>
                  <a:cubicBezTo>
                    <a:pt x="372" y="39"/>
                    <a:pt x="403" y="141"/>
                    <a:pt x="406" y="155"/>
                  </a:cubicBezTo>
                  <a:cubicBezTo>
                    <a:pt x="388" y="210"/>
                    <a:pt x="348" y="238"/>
                    <a:pt x="301" y="275"/>
                  </a:cubicBezTo>
                  <a:cubicBezTo>
                    <a:pt x="273" y="297"/>
                    <a:pt x="211" y="335"/>
                    <a:pt x="211" y="335"/>
                  </a:cubicBezTo>
                  <a:cubicBezTo>
                    <a:pt x="201" y="350"/>
                    <a:pt x="198" y="373"/>
                    <a:pt x="181" y="380"/>
                  </a:cubicBezTo>
                  <a:cubicBezTo>
                    <a:pt x="144" y="395"/>
                    <a:pt x="101" y="388"/>
                    <a:pt x="61" y="395"/>
                  </a:cubicBezTo>
                  <a:cubicBezTo>
                    <a:pt x="45" y="398"/>
                    <a:pt x="0" y="410"/>
                    <a:pt x="16" y="410"/>
                  </a:cubicBezTo>
                  <a:cubicBezTo>
                    <a:pt x="41" y="410"/>
                    <a:pt x="66" y="400"/>
                    <a:pt x="91" y="395"/>
                  </a:cubicBezTo>
                  <a:cubicBezTo>
                    <a:pt x="96" y="380"/>
                    <a:pt x="96" y="362"/>
                    <a:pt x="106" y="350"/>
                  </a:cubicBezTo>
                  <a:cubicBezTo>
                    <a:pt x="184" y="253"/>
                    <a:pt x="140" y="354"/>
                    <a:pt x="136" y="365"/>
                  </a:cubicBezTo>
                  <a:cubicBezTo>
                    <a:pt x="141" y="380"/>
                    <a:pt x="135" y="410"/>
                    <a:pt x="151" y="410"/>
                  </a:cubicBezTo>
                  <a:cubicBezTo>
                    <a:pt x="169" y="410"/>
                    <a:pt x="166" y="375"/>
                    <a:pt x="181" y="365"/>
                  </a:cubicBezTo>
                  <a:cubicBezTo>
                    <a:pt x="208" y="348"/>
                    <a:pt x="241" y="345"/>
                    <a:pt x="271" y="335"/>
                  </a:cubicBezTo>
                  <a:cubicBezTo>
                    <a:pt x="288" y="329"/>
                    <a:pt x="299" y="312"/>
                    <a:pt x="316" y="305"/>
                  </a:cubicBezTo>
                  <a:cubicBezTo>
                    <a:pt x="335" y="297"/>
                    <a:pt x="356" y="295"/>
                    <a:pt x="376" y="290"/>
                  </a:cubicBezTo>
                  <a:cubicBezTo>
                    <a:pt x="354" y="378"/>
                    <a:pt x="349" y="418"/>
                    <a:pt x="271" y="470"/>
                  </a:cubicBezTo>
                  <a:cubicBezTo>
                    <a:pt x="261" y="485"/>
                    <a:pt x="255" y="504"/>
                    <a:pt x="241" y="515"/>
                  </a:cubicBezTo>
                  <a:cubicBezTo>
                    <a:pt x="229" y="525"/>
                    <a:pt x="196" y="546"/>
                    <a:pt x="196" y="530"/>
                  </a:cubicBezTo>
                  <a:cubicBezTo>
                    <a:pt x="196" y="479"/>
                    <a:pt x="331" y="455"/>
                    <a:pt x="331" y="455"/>
                  </a:cubicBezTo>
                  <a:cubicBezTo>
                    <a:pt x="336" y="440"/>
                    <a:pt x="352" y="425"/>
                    <a:pt x="346" y="410"/>
                  </a:cubicBezTo>
                  <a:cubicBezTo>
                    <a:pt x="321" y="347"/>
                    <a:pt x="281" y="393"/>
                    <a:pt x="256" y="410"/>
                  </a:cubicBezTo>
                  <a:cubicBezTo>
                    <a:pt x="236" y="440"/>
                    <a:pt x="212" y="468"/>
                    <a:pt x="196" y="500"/>
                  </a:cubicBezTo>
                  <a:cubicBezTo>
                    <a:pt x="186" y="520"/>
                    <a:pt x="148" y="547"/>
                    <a:pt x="166" y="560"/>
                  </a:cubicBezTo>
                  <a:cubicBezTo>
                    <a:pt x="190" y="578"/>
                    <a:pt x="226" y="550"/>
                    <a:pt x="256" y="545"/>
                  </a:cubicBezTo>
                  <a:cubicBezTo>
                    <a:pt x="325" y="499"/>
                    <a:pt x="364" y="497"/>
                    <a:pt x="451" y="485"/>
                  </a:cubicBezTo>
                  <a:cubicBezTo>
                    <a:pt x="466" y="470"/>
                    <a:pt x="496" y="461"/>
                    <a:pt x="496" y="440"/>
                  </a:cubicBezTo>
                  <a:cubicBezTo>
                    <a:pt x="496" y="422"/>
                    <a:pt x="469" y="413"/>
                    <a:pt x="451" y="410"/>
                  </a:cubicBezTo>
                  <a:cubicBezTo>
                    <a:pt x="426" y="406"/>
                    <a:pt x="377" y="445"/>
                    <a:pt x="361" y="455"/>
                  </a:cubicBezTo>
                  <a:cubicBezTo>
                    <a:pt x="376" y="470"/>
                    <a:pt x="385" y="497"/>
                    <a:pt x="406" y="500"/>
                  </a:cubicBezTo>
                  <a:cubicBezTo>
                    <a:pt x="466" y="508"/>
                    <a:pt x="526" y="490"/>
                    <a:pt x="586" y="485"/>
                  </a:cubicBezTo>
                  <a:cubicBezTo>
                    <a:pt x="591" y="485"/>
                    <a:pt x="601" y="485"/>
                    <a:pt x="601" y="485"/>
                  </a:cubicBezTo>
                  <a:cubicBezTo>
                    <a:pt x="590" y="489"/>
                    <a:pt x="511" y="511"/>
                    <a:pt x="511" y="530"/>
                  </a:cubicBezTo>
                  <a:cubicBezTo>
                    <a:pt x="511" y="546"/>
                    <a:pt x="541" y="540"/>
                    <a:pt x="556" y="545"/>
                  </a:cubicBezTo>
                  <a:cubicBezTo>
                    <a:pt x="566" y="530"/>
                    <a:pt x="574" y="514"/>
                    <a:pt x="586" y="500"/>
                  </a:cubicBezTo>
                  <a:cubicBezTo>
                    <a:pt x="600" y="484"/>
                    <a:pt x="646" y="470"/>
                    <a:pt x="631" y="455"/>
                  </a:cubicBezTo>
                  <a:cubicBezTo>
                    <a:pt x="615" y="439"/>
                    <a:pt x="589" y="472"/>
                    <a:pt x="571" y="485"/>
                  </a:cubicBezTo>
                  <a:cubicBezTo>
                    <a:pt x="554" y="497"/>
                    <a:pt x="542" y="516"/>
                    <a:pt x="526" y="530"/>
                  </a:cubicBezTo>
                  <a:cubicBezTo>
                    <a:pt x="512" y="542"/>
                    <a:pt x="496" y="550"/>
                    <a:pt x="481" y="560"/>
                  </a:cubicBezTo>
                  <a:cubicBezTo>
                    <a:pt x="407" y="672"/>
                    <a:pt x="502" y="535"/>
                    <a:pt x="406" y="650"/>
                  </a:cubicBezTo>
                  <a:cubicBezTo>
                    <a:pt x="394" y="664"/>
                    <a:pt x="358" y="695"/>
                    <a:pt x="376" y="695"/>
                  </a:cubicBezTo>
                  <a:cubicBezTo>
                    <a:pt x="434" y="695"/>
                    <a:pt x="434" y="631"/>
                    <a:pt x="466" y="605"/>
                  </a:cubicBezTo>
                  <a:cubicBezTo>
                    <a:pt x="478" y="595"/>
                    <a:pt x="496" y="595"/>
                    <a:pt x="511" y="590"/>
                  </a:cubicBezTo>
                  <a:cubicBezTo>
                    <a:pt x="546" y="537"/>
                    <a:pt x="590" y="488"/>
                    <a:pt x="631" y="440"/>
                  </a:cubicBezTo>
                  <a:cubicBezTo>
                    <a:pt x="645" y="424"/>
                    <a:pt x="676" y="374"/>
                    <a:pt x="676" y="395"/>
                  </a:cubicBezTo>
                  <a:cubicBezTo>
                    <a:pt x="676" y="430"/>
                    <a:pt x="570" y="511"/>
                    <a:pt x="541" y="530"/>
                  </a:cubicBezTo>
                  <a:cubicBezTo>
                    <a:pt x="521" y="560"/>
                    <a:pt x="492" y="586"/>
                    <a:pt x="481" y="620"/>
                  </a:cubicBezTo>
                  <a:cubicBezTo>
                    <a:pt x="476" y="635"/>
                    <a:pt x="452" y="658"/>
                    <a:pt x="466" y="665"/>
                  </a:cubicBezTo>
                  <a:cubicBezTo>
                    <a:pt x="489" y="676"/>
                    <a:pt x="516" y="655"/>
                    <a:pt x="541" y="650"/>
                  </a:cubicBezTo>
                  <a:cubicBezTo>
                    <a:pt x="546" y="625"/>
                    <a:pt x="552" y="600"/>
                    <a:pt x="556" y="575"/>
                  </a:cubicBezTo>
                  <a:cubicBezTo>
                    <a:pt x="562" y="540"/>
                    <a:pt x="554" y="501"/>
                    <a:pt x="571" y="470"/>
                  </a:cubicBezTo>
                  <a:cubicBezTo>
                    <a:pt x="582" y="450"/>
                    <a:pt x="612" y="452"/>
                    <a:pt x="631" y="440"/>
                  </a:cubicBezTo>
                  <a:cubicBezTo>
                    <a:pt x="717" y="388"/>
                    <a:pt x="732" y="373"/>
                    <a:pt x="826" y="350"/>
                  </a:cubicBezTo>
                  <a:cubicBezTo>
                    <a:pt x="822" y="371"/>
                    <a:pt x="810" y="444"/>
                    <a:pt x="796" y="470"/>
                  </a:cubicBezTo>
                  <a:cubicBezTo>
                    <a:pt x="778" y="502"/>
                    <a:pt x="706" y="580"/>
                    <a:pt x="736" y="560"/>
                  </a:cubicBezTo>
                  <a:cubicBezTo>
                    <a:pt x="815" y="508"/>
                    <a:pt x="884" y="448"/>
                    <a:pt x="976" y="425"/>
                  </a:cubicBezTo>
                  <a:cubicBezTo>
                    <a:pt x="951" y="350"/>
                    <a:pt x="930" y="353"/>
                    <a:pt x="856" y="335"/>
                  </a:cubicBezTo>
                  <a:cubicBezTo>
                    <a:pt x="836" y="345"/>
                    <a:pt x="801" y="343"/>
                    <a:pt x="796" y="365"/>
                  </a:cubicBezTo>
                  <a:cubicBezTo>
                    <a:pt x="792" y="382"/>
                    <a:pt x="824" y="388"/>
                    <a:pt x="841" y="395"/>
                  </a:cubicBezTo>
                  <a:cubicBezTo>
                    <a:pt x="860" y="403"/>
                    <a:pt x="880" y="410"/>
                    <a:pt x="901" y="410"/>
                  </a:cubicBezTo>
                  <a:cubicBezTo>
                    <a:pt x="917" y="410"/>
                    <a:pt x="872" y="397"/>
                    <a:pt x="856" y="395"/>
                  </a:cubicBezTo>
                  <a:cubicBezTo>
                    <a:pt x="781" y="387"/>
                    <a:pt x="706" y="385"/>
                    <a:pt x="631" y="380"/>
                  </a:cubicBezTo>
                  <a:cubicBezTo>
                    <a:pt x="566" y="337"/>
                    <a:pt x="594" y="370"/>
                    <a:pt x="571" y="290"/>
                  </a:cubicBezTo>
                  <a:cubicBezTo>
                    <a:pt x="567" y="275"/>
                    <a:pt x="541" y="251"/>
                    <a:pt x="556" y="245"/>
                  </a:cubicBezTo>
                  <a:cubicBezTo>
                    <a:pt x="584" y="234"/>
                    <a:pt x="616" y="255"/>
                    <a:pt x="646" y="260"/>
                  </a:cubicBezTo>
                  <a:cubicBezTo>
                    <a:pt x="636" y="245"/>
                    <a:pt x="612" y="232"/>
                    <a:pt x="616" y="215"/>
                  </a:cubicBezTo>
                  <a:cubicBezTo>
                    <a:pt x="620" y="200"/>
                    <a:pt x="645" y="197"/>
                    <a:pt x="661" y="200"/>
                  </a:cubicBezTo>
                  <a:cubicBezTo>
                    <a:pt x="679" y="203"/>
                    <a:pt x="689" y="224"/>
                    <a:pt x="706" y="230"/>
                  </a:cubicBezTo>
                  <a:cubicBezTo>
                    <a:pt x="720" y="235"/>
                    <a:pt x="736" y="230"/>
                    <a:pt x="751" y="230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93320" y="1843560"/>
              <a:ext cx="796680" cy="569520"/>
            </a:xfrm>
            <a:custGeom>
              <a:avLst/>
              <a:gdLst/>
              <a:ahLst/>
              <a:rect l="l" t="t" r="r" b="b"/>
              <a:pathLst>
                <a:path w="995" h="711">
                  <a:moveTo>
                    <a:pt x="410" y="10"/>
                  </a:moveTo>
                  <a:cubicBezTo>
                    <a:pt x="360" y="15"/>
                    <a:pt x="303" y="0"/>
                    <a:pt x="260" y="25"/>
                  </a:cubicBezTo>
                  <a:cubicBezTo>
                    <a:pt x="233" y="41"/>
                    <a:pt x="252" y="93"/>
                    <a:pt x="230" y="115"/>
                  </a:cubicBezTo>
                  <a:cubicBezTo>
                    <a:pt x="174" y="171"/>
                    <a:pt x="205" y="153"/>
                    <a:pt x="140" y="175"/>
                  </a:cubicBezTo>
                  <a:cubicBezTo>
                    <a:pt x="130" y="190"/>
                    <a:pt x="93" y="214"/>
                    <a:pt x="110" y="220"/>
                  </a:cubicBezTo>
                  <a:cubicBezTo>
                    <a:pt x="185" y="245"/>
                    <a:pt x="225" y="209"/>
                    <a:pt x="275" y="175"/>
                  </a:cubicBezTo>
                  <a:cubicBezTo>
                    <a:pt x="284" y="148"/>
                    <a:pt x="310" y="96"/>
                    <a:pt x="275" y="70"/>
                  </a:cubicBezTo>
                  <a:cubicBezTo>
                    <a:pt x="262" y="61"/>
                    <a:pt x="245" y="80"/>
                    <a:pt x="230" y="85"/>
                  </a:cubicBezTo>
                  <a:cubicBezTo>
                    <a:pt x="215" y="100"/>
                    <a:pt x="203" y="119"/>
                    <a:pt x="185" y="130"/>
                  </a:cubicBezTo>
                  <a:cubicBezTo>
                    <a:pt x="167" y="140"/>
                    <a:pt x="138" y="129"/>
                    <a:pt x="125" y="145"/>
                  </a:cubicBezTo>
                  <a:cubicBezTo>
                    <a:pt x="10" y="279"/>
                    <a:pt x="146" y="228"/>
                    <a:pt x="200" y="220"/>
                  </a:cubicBezTo>
                  <a:cubicBezTo>
                    <a:pt x="286" y="191"/>
                    <a:pt x="212" y="213"/>
                    <a:pt x="350" y="190"/>
                  </a:cubicBezTo>
                  <a:cubicBezTo>
                    <a:pt x="375" y="186"/>
                    <a:pt x="400" y="181"/>
                    <a:pt x="425" y="175"/>
                  </a:cubicBezTo>
                  <a:cubicBezTo>
                    <a:pt x="440" y="171"/>
                    <a:pt x="486" y="160"/>
                    <a:pt x="470" y="160"/>
                  </a:cubicBezTo>
                  <a:cubicBezTo>
                    <a:pt x="405" y="160"/>
                    <a:pt x="340" y="170"/>
                    <a:pt x="275" y="175"/>
                  </a:cubicBezTo>
                  <a:cubicBezTo>
                    <a:pt x="170" y="245"/>
                    <a:pt x="155" y="215"/>
                    <a:pt x="230" y="265"/>
                  </a:cubicBezTo>
                  <a:cubicBezTo>
                    <a:pt x="336" y="230"/>
                    <a:pt x="391" y="232"/>
                    <a:pt x="425" y="130"/>
                  </a:cubicBezTo>
                  <a:cubicBezTo>
                    <a:pt x="410" y="120"/>
                    <a:pt x="398" y="103"/>
                    <a:pt x="380" y="100"/>
                  </a:cubicBezTo>
                  <a:cubicBezTo>
                    <a:pt x="293" y="85"/>
                    <a:pt x="350" y="186"/>
                    <a:pt x="380" y="205"/>
                  </a:cubicBezTo>
                  <a:cubicBezTo>
                    <a:pt x="414" y="227"/>
                    <a:pt x="460" y="214"/>
                    <a:pt x="500" y="220"/>
                  </a:cubicBezTo>
                  <a:cubicBezTo>
                    <a:pt x="525" y="224"/>
                    <a:pt x="550" y="230"/>
                    <a:pt x="575" y="235"/>
                  </a:cubicBezTo>
                  <a:cubicBezTo>
                    <a:pt x="595" y="230"/>
                    <a:pt x="635" y="241"/>
                    <a:pt x="635" y="220"/>
                  </a:cubicBezTo>
                  <a:cubicBezTo>
                    <a:pt x="635" y="198"/>
                    <a:pt x="595" y="199"/>
                    <a:pt x="575" y="190"/>
                  </a:cubicBezTo>
                  <a:cubicBezTo>
                    <a:pt x="515" y="164"/>
                    <a:pt x="458" y="146"/>
                    <a:pt x="395" y="130"/>
                  </a:cubicBezTo>
                  <a:cubicBezTo>
                    <a:pt x="380" y="120"/>
                    <a:pt x="337" y="113"/>
                    <a:pt x="350" y="100"/>
                  </a:cubicBezTo>
                  <a:cubicBezTo>
                    <a:pt x="382" y="68"/>
                    <a:pt x="445" y="154"/>
                    <a:pt x="455" y="160"/>
                  </a:cubicBezTo>
                  <a:cubicBezTo>
                    <a:pt x="533" y="203"/>
                    <a:pt x="645" y="198"/>
                    <a:pt x="725" y="205"/>
                  </a:cubicBezTo>
                  <a:cubicBezTo>
                    <a:pt x="616" y="123"/>
                    <a:pt x="624" y="112"/>
                    <a:pt x="410" y="145"/>
                  </a:cubicBezTo>
                  <a:cubicBezTo>
                    <a:pt x="385" y="149"/>
                    <a:pt x="452" y="172"/>
                    <a:pt x="470" y="190"/>
                  </a:cubicBezTo>
                  <a:cubicBezTo>
                    <a:pt x="565" y="285"/>
                    <a:pt x="553" y="297"/>
                    <a:pt x="695" y="325"/>
                  </a:cubicBezTo>
                  <a:cubicBezTo>
                    <a:pt x="715" y="345"/>
                    <a:pt x="755" y="357"/>
                    <a:pt x="755" y="385"/>
                  </a:cubicBezTo>
                  <a:cubicBezTo>
                    <a:pt x="755" y="406"/>
                    <a:pt x="716" y="400"/>
                    <a:pt x="695" y="400"/>
                  </a:cubicBezTo>
                  <a:cubicBezTo>
                    <a:pt x="629" y="400"/>
                    <a:pt x="565" y="379"/>
                    <a:pt x="500" y="370"/>
                  </a:cubicBezTo>
                  <a:cubicBezTo>
                    <a:pt x="464" y="358"/>
                    <a:pt x="344" y="312"/>
                    <a:pt x="305" y="325"/>
                  </a:cubicBezTo>
                  <a:cubicBezTo>
                    <a:pt x="284" y="332"/>
                    <a:pt x="343" y="351"/>
                    <a:pt x="365" y="355"/>
                  </a:cubicBezTo>
                  <a:cubicBezTo>
                    <a:pt x="449" y="371"/>
                    <a:pt x="535" y="375"/>
                    <a:pt x="620" y="385"/>
                  </a:cubicBezTo>
                  <a:cubicBezTo>
                    <a:pt x="640" y="390"/>
                    <a:pt x="659" y="400"/>
                    <a:pt x="680" y="400"/>
                  </a:cubicBezTo>
                  <a:cubicBezTo>
                    <a:pt x="696" y="400"/>
                    <a:pt x="651" y="388"/>
                    <a:pt x="635" y="385"/>
                  </a:cubicBezTo>
                  <a:cubicBezTo>
                    <a:pt x="600" y="378"/>
                    <a:pt x="565" y="374"/>
                    <a:pt x="530" y="370"/>
                  </a:cubicBezTo>
                  <a:cubicBezTo>
                    <a:pt x="475" y="364"/>
                    <a:pt x="420" y="360"/>
                    <a:pt x="365" y="355"/>
                  </a:cubicBezTo>
                  <a:cubicBezTo>
                    <a:pt x="299" y="338"/>
                    <a:pt x="280" y="318"/>
                    <a:pt x="215" y="340"/>
                  </a:cubicBezTo>
                  <a:cubicBezTo>
                    <a:pt x="245" y="345"/>
                    <a:pt x="276" y="345"/>
                    <a:pt x="305" y="355"/>
                  </a:cubicBezTo>
                  <a:cubicBezTo>
                    <a:pt x="322" y="361"/>
                    <a:pt x="334" y="377"/>
                    <a:pt x="350" y="385"/>
                  </a:cubicBezTo>
                  <a:cubicBezTo>
                    <a:pt x="364" y="392"/>
                    <a:pt x="380" y="396"/>
                    <a:pt x="395" y="400"/>
                  </a:cubicBezTo>
                  <a:cubicBezTo>
                    <a:pt x="417" y="406"/>
                    <a:pt x="476" y="418"/>
                    <a:pt x="500" y="430"/>
                  </a:cubicBezTo>
                  <a:cubicBezTo>
                    <a:pt x="604" y="482"/>
                    <a:pt x="480" y="444"/>
                    <a:pt x="605" y="475"/>
                  </a:cubicBezTo>
                  <a:cubicBezTo>
                    <a:pt x="635" y="470"/>
                    <a:pt x="685" y="489"/>
                    <a:pt x="695" y="460"/>
                  </a:cubicBezTo>
                  <a:cubicBezTo>
                    <a:pt x="704" y="434"/>
                    <a:pt x="646" y="439"/>
                    <a:pt x="620" y="430"/>
                  </a:cubicBezTo>
                  <a:cubicBezTo>
                    <a:pt x="585" y="418"/>
                    <a:pt x="551" y="406"/>
                    <a:pt x="515" y="400"/>
                  </a:cubicBezTo>
                  <a:cubicBezTo>
                    <a:pt x="426" y="386"/>
                    <a:pt x="335" y="380"/>
                    <a:pt x="245" y="370"/>
                  </a:cubicBezTo>
                  <a:cubicBezTo>
                    <a:pt x="230" y="366"/>
                    <a:pt x="70" y="318"/>
                    <a:pt x="80" y="370"/>
                  </a:cubicBezTo>
                  <a:cubicBezTo>
                    <a:pt x="89" y="415"/>
                    <a:pt x="232" y="436"/>
                    <a:pt x="275" y="445"/>
                  </a:cubicBezTo>
                  <a:cubicBezTo>
                    <a:pt x="290" y="440"/>
                    <a:pt x="333" y="439"/>
                    <a:pt x="320" y="430"/>
                  </a:cubicBezTo>
                  <a:cubicBezTo>
                    <a:pt x="281" y="404"/>
                    <a:pt x="185" y="385"/>
                    <a:pt x="185" y="385"/>
                  </a:cubicBezTo>
                  <a:cubicBezTo>
                    <a:pt x="130" y="390"/>
                    <a:pt x="73" y="385"/>
                    <a:pt x="20" y="400"/>
                  </a:cubicBezTo>
                  <a:cubicBezTo>
                    <a:pt x="0" y="406"/>
                    <a:pt x="60" y="409"/>
                    <a:pt x="80" y="415"/>
                  </a:cubicBezTo>
                  <a:cubicBezTo>
                    <a:pt x="110" y="424"/>
                    <a:pt x="140" y="435"/>
                    <a:pt x="170" y="445"/>
                  </a:cubicBezTo>
                  <a:cubicBezTo>
                    <a:pt x="190" y="452"/>
                    <a:pt x="130" y="436"/>
                    <a:pt x="110" y="430"/>
                  </a:cubicBezTo>
                  <a:cubicBezTo>
                    <a:pt x="95" y="426"/>
                    <a:pt x="80" y="420"/>
                    <a:pt x="65" y="415"/>
                  </a:cubicBezTo>
                  <a:cubicBezTo>
                    <a:pt x="50" y="420"/>
                    <a:pt x="20" y="414"/>
                    <a:pt x="20" y="430"/>
                  </a:cubicBezTo>
                  <a:cubicBezTo>
                    <a:pt x="20" y="446"/>
                    <a:pt x="49" y="442"/>
                    <a:pt x="65" y="445"/>
                  </a:cubicBezTo>
                  <a:cubicBezTo>
                    <a:pt x="100" y="452"/>
                    <a:pt x="135" y="455"/>
                    <a:pt x="170" y="460"/>
                  </a:cubicBezTo>
                  <a:cubicBezTo>
                    <a:pt x="522" y="433"/>
                    <a:pt x="370" y="439"/>
                    <a:pt x="275" y="460"/>
                  </a:cubicBezTo>
                  <a:cubicBezTo>
                    <a:pt x="260" y="463"/>
                    <a:pt x="245" y="470"/>
                    <a:pt x="230" y="475"/>
                  </a:cubicBezTo>
                  <a:cubicBezTo>
                    <a:pt x="72" y="711"/>
                    <a:pt x="614" y="567"/>
                    <a:pt x="665" y="565"/>
                  </a:cubicBezTo>
                  <a:cubicBezTo>
                    <a:pt x="690" y="557"/>
                    <a:pt x="740" y="544"/>
                    <a:pt x="755" y="520"/>
                  </a:cubicBezTo>
                  <a:cubicBezTo>
                    <a:pt x="772" y="493"/>
                    <a:pt x="763" y="452"/>
                    <a:pt x="785" y="430"/>
                  </a:cubicBezTo>
                  <a:cubicBezTo>
                    <a:pt x="815" y="400"/>
                    <a:pt x="875" y="340"/>
                    <a:pt x="875" y="340"/>
                  </a:cubicBezTo>
                  <a:cubicBezTo>
                    <a:pt x="870" y="325"/>
                    <a:pt x="871" y="306"/>
                    <a:pt x="860" y="295"/>
                  </a:cubicBezTo>
                  <a:cubicBezTo>
                    <a:pt x="835" y="270"/>
                    <a:pt x="770" y="235"/>
                    <a:pt x="770" y="235"/>
                  </a:cubicBezTo>
                  <a:cubicBezTo>
                    <a:pt x="770" y="235"/>
                    <a:pt x="800" y="185"/>
                    <a:pt x="785" y="190"/>
                  </a:cubicBezTo>
                  <a:cubicBezTo>
                    <a:pt x="770" y="195"/>
                    <a:pt x="755" y="200"/>
                    <a:pt x="740" y="205"/>
                  </a:cubicBezTo>
                  <a:cubicBezTo>
                    <a:pt x="735" y="220"/>
                    <a:pt x="732" y="236"/>
                    <a:pt x="725" y="250"/>
                  </a:cubicBezTo>
                  <a:cubicBezTo>
                    <a:pt x="717" y="266"/>
                    <a:pt x="687" y="279"/>
                    <a:pt x="695" y="295"/>
                  </a:cubicBezTo>
                  <a:cubicBezTo>
                    <a:pt x="702" y="309"/>
                    <a:pt x="725" y="286"/>
                    <a:pt x="740" y="280"/>
                  </a:cubicBezTo>
                  <a:cubicBezTo>
                    <a:pt x="793" y="257"/>
                    <a:pt x="800" y="250"/>
                    <a:pt x="845" y="220"/>
                  </a:cubicBezTo>
                  <a:cubicBezTo>
                    <a:pt x="870" y="225"/>
                    <a:pt x="915" y="210"/>
                    <a:pt x="920" y="235"/>
                  </a:cubicBezTo>
                  <a:cubicBezTo>
                    <a:pt x="926" y="263"/>
                    <a:pt x="878" y="274"/>
                    <a:pt x="860" y="295"/>
                  </a:cubicBezTo>
                  <a:cubicBezTo>
                    <a:pt x="779" y="390"/>
                    <a:pt x="856" y="315"/>
                    <a:pt x="875" y="310"/>
                  </a:cubicBezTo>
                  <a:cubicBezTo>
                    <a:pt x="914" y="299"/>
                    <a:pt x="955" y="300"/>
                    <a:pt x="995" y="295"/>
                  </a:cubicBezTo>
                  <a:cubicBezTo>
                    <a:pt x="922" y="271"/>
                    <a:pt x="857" y="292"/>
                    <a:pt x="785" y="310"/>
                  </a:cubicBezTo>
                  <a:cubicBezTo>
                    <a:pt x="748" y="365"/>
                    <a:pt x="718" y="407"/>
                    <a:pt x="695" y="475"/>
                  </a:cubicBezTo>
                  <a:cubicBezTo>
                    <a:pt x="690" y="490"/>
                    <a:pt x="690" y="508"/>
                    <a:pt x="680" y="520"/>
                  </a:cubicBezTo>
                  <a:cubicBezTo>
                    <a:pt x="669" y="534"/>
                    <a:pt x="650" y="540"/>
                    <a:pt x="635" y="550"/>
                  </a:cubicBezTo>
                  <a:cubicBezTo>
                    <a:pt x="474" y="534"/>
                    <a:pt x="463" y="580"/>
                    <a:pt x="500" y="505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481640" y="2201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939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лощадь сиреневого сектора , если центральный угол равен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-21960" y="3846600"/>
            <a:ext cx="7932600" cy="1136160"/>
            <a:chOff x="-21960" y="3846600"/>
            <a:chExt cx="7932600" cy="1136160"/>
          </a:xfrm>
        </p:grpSpPr>
        <p:sp>
          <p:nvSpPr>
            <p:cNvPr id="73" name=""/>
            <p:cNvSpPr/>
            <p:nvPr/>
          </p:nvSpPr>
          <p:spPr>
            <a:xfrm>
              <a:off x="619560" y="3872160"/>
              <a:ext cx="2481480" cy="1085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256600">
              <a:off x="77760" y="3794040"/>
              <a:ext cx="1085400" cy="1241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066200">
              <a:off x="2554920" y="3793680"/>
              <a:ext cx="1085400" cy="1241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6880" y="3872160"/>
              <a:ext cx="4343760" cy="61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аметры полуокружностей 4 см и 2 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ольшая сторона прямоугольника равна 10 с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ружности касаются внешним образо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площадь фигуры, заключенной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ружности касаются внешн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площадь фигуры, заключенной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98100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98100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9162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19162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65120" y="1596960"/>
            <a:ext cx="563760" cy="696960"/>
          </a:xfrm>
          <a:custGeom>
            <a:avLst/>
            <a:gdLst/>
            <a:ahLst/>
            <a:rect l="l" t="t" r="r" b="b"/>
            <a:pathLst>
              <a:path w="355" h="439">
                <a:moveTo>
                  <a:pt x="9" y="173"/>
                </a:moveTo>
                <a:cubicBezTo>
                  <a:pt x="73" y="109"/>
                  <a:pt x="0" y="164"/>
                  <a:pt x="63" y="164"/>
                </a:cubicBezTo>
                <a:cubicBezTo>
                  <a:pt x="88" y="164"/>
                  <a:pt x="137" y="146"/>
                  <a:pt x="137" y="146"/>
                </a:cubicBezTo>
                <a:cubicBezTo>
                  <a:pt x="159" y="79"/>
                  <a:pt x="129" y="162"/>
                  <a:pt x="164" y="91"/>
                </a:cubicBezTo>
                <a:cubicBezTo>
                  <a:pt x="178" y="63"/>
                  <a:pt x="181" y="29"/>
                  <a:pt x="191" y="0"/>
                </a:cubicBezTo>
                <a:cubicBezTo>
                  <a:pt x="194" y="9"/>
                  <a:pt x="199" y="18"/>
                  <a:pt x="201" y="27"/>
                </a:cubicBezTo>
                <a:cubicBezTo>
                  <a:pt x="206" y="54"/>
                  <a:pt x="203" y="82"/>
                  <a:pt x="210" y="109"/>
                </a:cubicBezTo>
                <a:cubicBezTo>
                  <a:pt x="219" y="143"/>
                  <a:pt x="289" y="147"/>
                  <a:pt x="319" y="155"/>
                </a:cubicBezTo>
                <a:cubicBezTo>
                  <a:pt x="316" y="164"/>
                  <a:pt x="308" y="173"/>
                  <a:pt x="310" y="183"/>
                </a:cubicBezTo>
                <a:cubicBezTo>
                  <a:pt x="319" y="230"/>
                  <a:pt x="355" y="193"/>
                  <a:pt x="301" y="228"/>
                </a:cubicBezTo>
                <a:cubicBezTo>
                  <a:pt x="240" y="321"/>
                  <a:pt x="287" y="250"/>
                  <a:pt x="246" y="311"/>
                </a:cubicBezTo>
                <a:cubicBezTo>
                  <a:pt x="240" y="320"/>
                  <a:pt x="234" y="329"/>
                  <a:pt x="228" y="338"/>
                </a:cubicBezTo>
                <a:cubicBezTo>
                  <a:pt x="222" y="347"/>
                  <a:pt x="210" y="365"/>
                  <a:pt x="210" y="365"/>
                </a:cubicBezTo>
                <a:cubicBezTo>
                  <a:pt x="201" y="423"/>
                  <a:pt x="201" y="439"/>
                  <a:pt x="201" y="411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63680" y="1765440"/>
            <a:ext cx="609480" cy="550800"/>
          </a:xfrm>
          <a:custGeom>
            <a:avLst/>
            <a:gdLst/>
            <a:ahLst/>
            <a:rect l="l" t="t" r="r" b="b"/>
            <a:pathLst>
              <a:path w="384" h="347">
                <a:moveTo>
                  <a:pt x="0" y="77"/>
                </a:moveTo>
                <a:cubicBezTo>
                  <a:pt x="9" y="80"/>
                  <a:pt x="21" y="79"/>
                  <a:pt x="28" y="86"/>
                </a:cubicBezTo>
                <a:cubicBezTo>
                  <a:pt x="43" y="101"/>
                  <a:pt x="42" y="138"/>
                  <a:pt x="64" y="141"/>
                </a:cubicBezTo>
                <a:cubicBezTo>
                  <a:pt x="89" y="144"/>
                  <a:pt x="113" y="147"/>
                  <a:pt x="138" y="150"/>
                </a:cubicBezTo>
                <a:cubicBezTo>
                  <a:pt x="141" y="162"/>
                  <a:pt x="142" y="175"/>
                  <a:pt x="147" y="186"/>
                </a:cubicBezTo>
                <a:cubicBezTo>
                  <a:pt x="151" y="194"/>
                  <a:pt x="162" y="197"/>
                  <a:pt x="165" y="205"/>
                </a:cubicBezTo>
                <a:cubicBezTo>
                  <a:pt x="196" y="290"/>
                  <a:pt x="151" y="235"/>
                  <a:pt x="192" y="278"/>
                </a:cubicBezTo>
                <a:cubicBezTo>
                  <a:pt x="193" y="281"/>
                  <a:pt x="211" y="347"/>
                  <a:pt x="211" y="278"/>
                </a:cubicBezTo>
                <a:cubicBezTo>
                  <a:pt x="211" y="268"/>
                  <a:pt x="205" y="259"/>
                  <a:pt x="202" y="250"/>
                </a:cubicBezTo>
                <a:cubicBezTo>
                  <a:pt x="179" y="86"/>
                  <a:pt x="229" y="124"/>
                  <a:pt x="128" y="104"/>
                </a:cubicBezTo>
                <a:cubicBezTo>
                  <a:pt x="101" y="99"/>
                  <a:pt x="73" y="92"/>
                  <a:pt x="46" y="86"/>
                </a:cubicBezTo>
                <a:cubicBezTo>
                  <a:pt x="52" y="80"/>
                  <a:pt x="56" y="71"/>
                  <a:pt x="64" y="67"/>
                </a:cubicBezTo>
                <a:cubicBezTo>
                  <a:pt x="81" y="58"/>
                  <a:pt x="119" y="49"/>
                  <a:pt x="119" y="49"/>
                </a:cubicBezTo>
                <a:cubicBezTo>
                  <a:pt x="170" y="0"/>
                  <a:pt x="221" y="57"/>
                  <a:pt x="275" y="67"/>
                </a:cubicBezTo>
                <a:cubicBezTo>
                  <a:pt x="299" y="72"/>
                  <a:pt x="324" y="74"/>
                  <a:pt x="348" y="77"/>
                </a:cubicBezTo>
                <a:cubicBezTo>
                  <a:pt x="377" y="97"/>
                  <a:pt x="364" y="95"/>
                  <a:pt x="384" y="95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6760" y="1620720"/>
            <a:ext cx="590400" cy="530280"/>
          </a:xfrm>
          <a:custGeom>
            <a:avLst/>
            <a:gdLst/>
            <a:ahLst/>
            <a:rect l="l" t="t" r="r" b="b"/>
            <a:pathLst>
              <a:path w="372" h="334">
                <a:moveTo>
                  <a:pt x="174" y="21"/>
                </a:moveTo>
                <a:cubicBezTo>
                  <a:pt x="226" y="76"/>
                  <a:pt x="160" y="0"/>
                  <a:pt x="201" y="67"/>
                </a:cubicBezTo>
                <a:cubicBezTo>
                  <a:pt x="250" y="145"/>
                  <a:pt x="188" y="11"/>
                  <a:pt x="238" y="113"/>
                </a:cubicBezTo>
                <a:cubicBezTo>
                  <a:pt x="242" y="122"/>
                  <a:pt x="240" y="133"/>
                  <a:pt x="247" y="140"/>
                </a:cubicBezTo>
                <a:cubicBezTo>
                  <a:pt x="269" y="162"/>
                  <a:pt x="307" y="154"/>
                  <a:pt x="338" y="158"/>
                </a:cubicBezTo>
                <a:cubicBezTo>
                  <a:pt x="367" y="241"/>
                  <a:pt x="372" y="209"/>
                  <a:pt x="329" y="204"/>
                </a:cubicBezTo>
                <a:cubicBezTo>
                  <a:pt x="290" y="199"/>
                  <a:pt x="250" y="197"/>
                  <a:pt x="210" y="195"/>
                </a:cubicBezTo>
                <a:cubicBezTo>
                  <a:pt x="140" y="191"/>
                  <a:pt x="70" y="189"/>
                  <a:pt x="0" y="186"/>
                </a:cubicBezTo>
                <a:cubicBezTo>
                  <a:pt x="50" y="154"/>
                  <a:pt x="80" y="158"/>
                  <a:pt x="137" y="177"/>
                </a:cubicBezTo>
                <a:cubicBezTo>
                  <a:pt x="161" y="174"/>
                  <a:pt x="190" y="182"/>
                  <a:pt x="210" y="168"/>
                </a:cubicBezTo>
                <a:cubicBezTo>
                  <a:pt x="219" y="162"/>
                  <a:pt x="202" y="146"/>
                  <a:pt x="192" y="140"/>
                </a:cubicBezTo>
                <a:cubicBezTo>
                  <a:pt x="178" y="132"/>
                  <a:pt x="161" y="134"/>
                  <a:pt x="146" y="131"/>
                </a:cubicBezTo>
                <a:cubicBezTo>
                  <a:pt x="124" y="198"/>
                  <a:pt x="123" y="167"/>
                  <a:pt x="137" y="222"/>
                </a:cubicBezTo>
                <a:cubicBezTo>
                  <a:pt x="146" y="219"/>
                  <a:pt x="156" y="217"/>
                  <a:pt x="165" y="213"/>
                </a:cubicBezTo>
                <a:cubicBezTo>
                  <a:pt x="175" y="208"/>
                  <a:pt x="182" y="192"/>
                  <a:pt x="192" y="195"/>
                </a:cubicBezTo>
                <a:cubicBezTo>
                  <a:pt x="201" y="197"/>
                  <a:pt x="198" y="213"/>
                  <a:pt x="201" y="222"/>
                </a:cubicBezTo>
                <a:cubicBezTo>
                  <a:pt x="198" y="237"/>
                  <a:pt x="207" y="273"/>
                  <a:pt x="192" y="268"/>
                </a:cubicBezTo>
                <a:cubicBezTo>
                  <a:pt x="174" y="262"/>
                  <a:pt x="174" y="213"/>
                  <a:pt x="174" y="213"/>
                </a:cubicBezTo>
                <a:cubicBezTo>
                  <a:pt x="166" y="237"/>
                  <a:pt x="174" y="269"/>
                  <a:pt x="156" y="286"/>
                </a:cubicBezTo>
                <a:cubicBezTo>
                  <a:pt x="150" y="292"/>
                  <a:pt x="143" y="275"/>
                  <a:pt x="137" y="268"/>
                </a:cubicBezTo>
                <a:cubicBezTo>
                  <a:pt x="130" y="260"/>
                  <a:pt x="125" y="250"/>
                  <a:pt x="119" y="241"/>
                </a:cubicBezTo>
                <a:cubicBezTo>
                  <a:pt x="116" y="253"/>
                  <a:pt x="110" y="265"/>
                  <a:pt x="110" y="277"/>
                </a:cubicBezTo>
                <a:cubicBezTo>
                  <a:pt x="110" y="293"/>
                  <a:pt x="130" y="334"/>
                  <a:pt x="119" y="323"/>
                </a:cubicBezTo>
                <a:cubicBezTo>
                  <a:pt x="110" y="314"/>
                  <a:pt x="97" y="249"/>
                  <a:pt x="92" y="232"/>
                </a:cubicBezTo>
                <a:cubicBezTo>
                  <a:pt x="89" y="222"/>
                  <a:pt x="72" y="204"/>
                  <a:pt x="82" y="204"/>
                </a:cubicBezTo>
                <a:cubicBezTo>
                  <a:pt x="121" y="204"/>
                  <a:pt x="171" y="264"/>
                  <a:pt x="210" y="277"/>
                </a:cubicBezTo>
                <a:cubicBezTo>
                  <a:pt x="213" y="268"/>
                  <a:pt x="222" y="259"/>
                  <a:pt x="220" y="250"/>
                </a:cubicBezTo>
                <a:cubicBezTo>
                  <a:pt x="218" y="241"/>
                  <a:pt x="206" y="239"/>
                  <a:pt x="201" y="232"/>
                </a:cubicBezTo>
                <a:cubicBezTo>
                  <a:pt x="184" y="204"/>
                  <a:pt x="180" y="175"/>
                  <a:pt x="156" y="149"/>
                </a:cubicBezTo>
                <a:cubicBezTo>
                  <a:pt x="153" y="137"/>
                  <a:pt x="149" y="125"/>
                  <a:pt x="146" y="113"/>
                </a:cubicBezTo>
                <a:cubicBezTo>
                  <a:pt x="143" y="101"/>
                  <a:pt x="147" y="84"/>
                  <a:pt x="137" y="76"/>
                </a:cubicBezTo>
                <a:cubicBezTo>
                  <a:pt x="130" y="70"/>
                  <a:pt x="119" y="82"/>
                  <a:pt x="110" y="85"/>
                </a:cubicBezTo>
                <a:cubicBezTo>
                  <a:pt x="104" y="91"/>
                  <a:pt x="100" y="101"/>
                  <a:pt x="92" y="104"/>
                </a:cubicBezTo>
                <a:cubicBezTo>
                  <a:pt x="75" y="111"/>
                  <a:pt x="37" y="94"/>
                  <a:pt x="37" y="113"/>
                </a:cubicBezTo>
                <a:cubicBezTo>
                  <a:pt x="37" y="144"/>
                  <a:pt x="118" y="154"/>
                  <a:pt x="137" y="158"/>
                </a:cubicBezTo>
                <a:cubicBezTo>
                  <a:pt x="216" y="237"/>
                  <a:pt x="107" y="24"/>
                  <a:pt x="183" y="104"/>
                </a:cubicBezTo>
                <a:cubicBezTo>
                  <a:pt x="179" y="93"/>
                  <a:pt x="157" y="48"/>
                  <a:pt x="201" y="85"/>
                </a:cubicBezTo>
                <a:cubicBezTo>
                  <a:pt x="226" y="106"/>
                  <a:pt x="242" y="144"/>
                  <a:pt x="265" y="168"/>
                </a:cubicBezTo>
                <a:cubicBezTo>
                  <a:pt x="247" y="221"/>
                  <a:pt x="270" y="172"/>
                  <a:pt x="229" y="213"/>
                </a:cubicBezTo>
                <a:cubicBezTo>
                  <a:pt x="198" y="244"/>
                  <a:pt x="178" y="284"/>
                  <a:pt x="146" y="314"/>
                </a:cubicBezTo>
                <a:cubicBezTo>
                  <a:pt x="116" y="294"/>
                  <a:pt x="107" y="274"/>
                  <a:pt x="82" y="250"/>
                </a:cubicBezTo>
                <a:cubicBezTo>
                  <a:pt x="40" y="209"/>
                  <a:pt x="65" y="254"/>
                  <a:pt x="46" y="213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22360" y="1611360"/>
            <a:ext cx="498600" cy="493560"/>
          </a:xfrm>
          <a:custGeom>
            <a:avLst/>
            <a:gdLst/>
            <a:ahLst/>
            <a:rect l="l" t="t" r="r" b="b"/>
            <a:pathLst>
              <a:path w="314" h="311">
                <a:moveTo>
                  <a:pt x="146" y="46"/>
                </a:moveTo>
                <a:cubicBezTo>
                  <a:pt x="137" y="52"/>
                  <a:pt x="119" y="53"/>
                  <a:pt x="119" y="64"/>
                </a:cubicBezTo>
                <a:cubicBezTo>
                  <a:pt x="119" y="73"/>
                  <a:pt x="139" y="62"/>
                  <a:pt x="146" y="55"/>
                </a:cubicBezTo>
                <a:cubicBezTo>
                  <a:pt x="160" y="41"/>
                  <a:pt x="158" y="18"/>
                  <a:pt x="165" y="0"/>
                </a:cubicBezTo>
                <a:cubicBezTo>
                  <a:pt x="183" y="89"/>
                  <a:pt x="173" y="115"/>
                  <a:pt x="265" y="146"/>
                </a:cubicBezTo>
                <a:cubicBezTo>
                  <a:pt x="266" y="147"/>
                  <a:pt x="314" y="191"/>
                  <a:pt x="311" y="201"/>
                </a:cubicBezTo>
                <a:cubicBezTo>
                  <a:pt x="308" y="210"/>
                  <a:pt x="292" y="207"/>
                  <a:pt x="283" y="210"/>
                </a:cubicBezTo>
                <a:cubicBezTo>
                  <a:pt x="267" y="221"/>
                  <a:pt x="207" y="283"/>
                  <a:pt x="274" y="238"/>
                </a:cubicBezTo>
                <a:cubicBezTo>
                  <a:pt x="265" y="235"/>
                  <a:pt x="256" y="226"/>
                  <a:pt x="247" y="228"/>
                </a:cubicBezTo>
                <a:cubicBezTo>
                  <a:pt x="238" y="230"/>
                  <a:pt x="235" y="241"/>
                  <a:pt x="229" y="247"/>
                </a:cubicBezTo>
                <a:cubicBezTo>
                  <a:pt x="206" y="270"/>
                  <a:pt x="192" y="292"/>
                  <a:pt x="165" y="311"/>
                </a:cubicBezTo>
                <a:cubicBezTo>
                  <a:pt x="156" y="308"/>
                  <a:pt x="145" y="308"/>
                  <a:pt x="137" y="302"/>
                </a:cubicBezTo>
                <a:cubicBezTo>
                  <a:pt x="128" y="295"/>
                  <a:pt x="124" y="284"/>
                  <a:pt x="119" y="274"/>
                </a:cubicBezTo>
                <a:cubicBezTo>
                  <a:pt x="115" y="265"/>
                  <a:pt x="117" y="254"/>
                  <a:pt x="110" y="247"/>
                </a:cubicBezTo>
                <a:cubicBezTo>
                  <a:pt x="94" y="231"/>
                  <a:pt x="73" y="222"/>
                  <a:pt x="55" y="210"/>
                </a:cubicBezTo>
                <a:cubicBezTo>
                  <a:pt x="46" y="204"/>
                  <a:pt x="38" y="196"/>
                  <a:pt x="27" y="192"/>
                </a:cubicBezTo>
                <a:cubicBezTo>
                  <a:pt x="18" y="189"/>
                  <a:pt x="0" y="174"/>
                  <a:pt x="0" y="183"/>
                </a:cubicBezTo>
                <a:cubicBezTo>
                  <a:pt x="0" y="195"/>
                  <a:pt x="68" y="215"/>
                  <a:pt x="0" y="192"/>
                </a:cubicBezTo>
                <a:cubicBezTo>
                  <a:pt x="28" y="149"/>
                  <a:pt x="82" y="130"/>
                  <a:pt x="119" y="91"/>
                </a:cubicBezTo>
                <a:cubicBezTo>
                  <a:pt x="122" y="100"/>
                  <a:pt x="128" y="109"/>
                  <a:pt x="128" y="119"/>
                </a:cubicBezTo>
                <a:cubicBezTo>
                  <a:pt x="128" y="138"/>
                  <a:pt x="100" y="175"/>
                  <a:pt x="137" y="119"/>
                </a:cubicBezTo>
                <a:cubicBezTo>
                  <a:pt x="161" y="125"/>
                  <a:pt x="186" y="131"/>
                  <a:pt x="210" y="137"/>
                </a:cubicBezTo>
                <a:cubicBezTo>
                  <a:pt x="253" y="148"/>
                  <a:pt x="202" y="183"/>
                  <a:pt x="256" y="183"/>
                </a:cubicBezTo>
                <a:cubicBezTo>
                  <a:pt x="265" y="183"/>
                  <a:pt x="244" y="170"/>
                  <a:pt x="238" y="164"/>
                </a:cubicBezTo>
                <a:cubicBezTo>
                  <a:pt x="218" y="228"/>
                  <a:pt x="247" y="165"/>
                  <a:pt x="146" y="201"/>
                </a:cubicBezTo>
                <a:cubicBezTo>
                  <a:pt x="136" y="205"/>
                  <a:pt x="134" y="219"/>
                  <a:pt x="128" y="228"/>
                </a:cubicBezTo>
                <a:cubicBezTo>
                  <a:pt x="137" y="295"/>
                  <a:pt x="137" y="270"/>
                  <a:pt x="137" y="302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57336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50864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07664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4200" y="4354560"/>
            <a:ext cx="227160" cy="196920"/>
          </a:xfrm>
          <a:custGeom>
            <a:avLst/>
            <a:gdLst/>
            <a:ahLst/>
            <a:rect l="l" t="t" r="r" b="b"/>
            <a:pathLst>
              <a:path w="143" h="124">
                <a:moveTo>
                  <a:pt x="0" y="0"/>
                </a:moveTo>
                <a:cubicBezTo>
                  <a:pt x="14" y="43"/>
                  <a:pt x="30" y="34"/>
                  <a:pt x="73" y="46"/>
                </a:cubicBezTo>
                <a:cubicBezTo>
                  <a:pt x="79" y="52"/>
                  <a:pt x="87" y="57"/>
                  <a:pt x="92" y="64"/>
                </a:cubicBezTo>
                <a:cubicBezTo>
                  <a:pt x="97" y="72"/>
                  <a:pt x="94" y="85"/>
                  <a:pt x="101" y="91"/>
                </a:cubicBezTo>
                <a:cubicBezTo>
                  <a:pt x="143" y="124"/>
                  <a:pt x="137" y="101"/>
                  <a:pt x="137" y="82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9800" y="4340160"/>
            <a:ext cx="79560" cy="260280"/>
          </a:xfrm>
          <a:custGeom>
            <a:avLst/>
            <a:gdLst/>
            <a:ahLst/>
            <a:rect l="l" t="t" r="r" b="b"/>
            <a:pathLst>
              <a:path w="50" h="164">
                <a:moveTo>
                  <a:pt x="0" y="0"/>
                </a:moveTo>
                <a:cubicBezTo>
                  <a:pt x="49" y="48"/>
                  <a:pt x="50" y="105"/>
                  <a:pt x="9" y="164"/>
                </a:cubicBezTo>
                <a:cubicBezTo>
                  <a:pt x="9" y="164"/>
                  <a:pt x="22" y="158"/>
                  <a:pt x="28" y="155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8480" y="4465800"/>
            <a:ext cx="222480" cy="149040"/>
          </a:xfrm>
          <a:custGeom>
            <a:avLst/>
            <a:gdLst/>
            <a:ahLst/>
            <a:rect l="l" t="t" r="r" b="b"/>
            <a:pathLst>
              <a:path w="140" h="94">
                <a:moveTo>
                  <a:pt x="0" y="94"/>
                </a:moveTo>
                <a:cubicBezTo>
                  <a:pt x="6" y="85"/>
                  <a:pt x="11" y="75"/>
                  <a:pt x="18" y="67"/>
                </a:cubicBezTo>
                <a:cubicBezTo>
                  <a:pt x="26" y="57"/>
                  <a:pt x="45" y="53"/>
                  <a:pt x="45" y="40"/>
                </a:cubicBezTo>
                <a:cubicBezTo>
                  <a:pt x="45" y="30"/>
                  <a:pt x="27" y="33"/>
                  <a:pt x="18" y="30"/>
                </a:cubicBezTo>
                <a:cubicBezTo>
                  <a:pt x="27" y="24"/>
                  <a:pt x="45" y="23"/>
                  <a:pt x="45" y="12"/>
                </a:cubicBezTo>
                <a:cubicBezTo>
                  <a:pt x="45" y="3"/>
                  <a:pt x="9" y="3"/>
                  <a:pt x="18" y="3"/>
                </a:cubicBezTo>
                <a:cubicBezTo>
                  <a:pt x="31" y="3"/>
                  <a:pt x="43" y="9"/>
                  <a:pt x="55" y="12"/>
                </a:cubicBezTo>
                <a:cubicBezTo>
                  <a:pt x="113" y="50"/>
                  <a:pt x="51" y="22"/>
                  <a:pt x="109" y="3"/>
                </a:cubicBezTo>
                <a:cubicBezTo>
                  <a:pt x="118" y="0"/>
                  <a:pt x="128" y="8"/>
                  <a:pt x="137" y="12"/>
                </a:cubicBezTo>
                <a:cubicBezTo>
                  <a:pt x="140" y="13"/>
                  <a:pt x="131" y="12"/>
                  <a:pt x="128" y="12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47720" y="4411800"/>
            <a:ext cx="168480" cy="174600"/>
          </a:xfrm>
          <a:custGeom>
            <a:avLst/>
            <a:gdLst/>
            <a:ahLst/>
            <a:rect l="l" t="t" r="r" b="b"/>
            <a:pathLst>
              <a:path w="106" h="110">
                <a:moveTo>
                  <a:pt x="77" y="64"/>
                </a:moveTo>
                <a:cubicBezTo>
                  <a:pt x="77" y="64"/>
                  <a:pt x="64" y="76"/>
                  <a:pt x="59" y="83"/>
                </a:cubicBezTo>
                <a:cubicBezTo>
                  <a:pt x="52" y="92"/>
                  <a:pt x="47" y="101"/>
                  <a:pt x="41" y="110"/>
                </a:cubicBezTo>
                <a:cubicBezTo>
                  <a:pt x="38" y="98"/>
                  <a:pt x="43" y="80"/>
                  <a:pt x="32" y="74"/>
                </a:cubicBezTo>
                <a:cubicBezTo>
                  <a:pt x="24" y="70"/>
                  <a:pt x="14" y="103"/>
                  <a:pt x="23" y="101"/>
                </a:cubicBezTo>
                <a:cubicBezTo>
                  <a:pt x="44" y="96"/>
                  <a:pt x="77" y="64"/>
                  <a:pt x="77" y="64"/>
                </a:cubicBezTo>
                <a:cubicBezTo>
                  <a:pt x="0" y="12"/>
                  <a:pt x="77" y="74"/>
                  <a:pt x="77" y="37"/>
                </a:cubicBezTo>
                <a:cubicBezTo>
                  <a:pt x="77" y="26"/>
                  <a:pt x="58" y="26"/>
                  <a:pt x="50" y="19"/>
                </a:cubicBezTo>
                <a:cubicBezTo>
                  <a:pt x="43" y="13"/>
                  <a:pt x="23" y="0"/>
                  <a:pt x="32" y="0"/>
                </a:cubicBezTo>
                <a:cubicBezTo>
                  <a:pt x="43" y="0"/>
                  <a:pt x="49" y="15"/>
                  <a:pt x="59" y="19"/>
                </a:cubicBezTo>
                <a:cubicBezTo>
                  <a:pt x="105" y="39"/>
                  <a:pt x="106" y="8"/>
                  <a:pt x="77" y="6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8120" y="4383000"/>
            <a:ext cx="336600" cy="174600"/>
          </a:xfrm>
          <a:custGeom>
            <a:avLst/>
            <a:gdLst/>
            <a:ahLst/>
            <a:rect l="l" t="t" r="r" b="b"/>
            <a:pathLst>
              <a:path w="212" h="110">
                <a:moveTo>
                  <a:pt x="112" y="92"/>
                </a:moveTo>
                <a:cubicBezTo>
                  <a:pt x="103" y="98"/>
                  <a:pt x="73" y="110"/>
                  <a:pt x="84" y="110"/>
                </a:cubicBezTo>
                <a:cubicBezTo>
                  <a:pt x="96" y="110"/>
                  <a:pt x="196" y="76"/>
                  <a:pt x="212" y="73"/>
                </a:cubicBezTo>
                <a:cubicBezTo>
                  <a:pt x="183" y="63"/>
                  <a:pt x="150" y="66"/>
                  <a:pt x="121" y="55"/>
                </a:cubicBezTo>
                <a:cubicBezTo>
                  <a:pt x="100" y="47"/>
                  <a:pt x="66" y="18"/>
                  <a:pt x="66" y="18"/>
                </a:cubicBezTo>
                <a:cubicBezTo>
                  <a:pt x="0" y="42"/>
                  <a:pt x="57" y="12"/>
                  <a:pt x="57" y="46"/>
                </a:cubicBezTo>
                <a:cubicBezTo>
                  <a:pt x="57" y="55"/>
                  <a:pt x="44" y="58"/>
                  <a:pt x="38" y="64"/>
                </a:cubicBezTo>
                <a:cubicBezTo>
                  <a:pt x="45" y="70"/>
                  <a:pt x="75" y="110"/>
                  <a:pt x="66" y="55"/>
                </a:cubicBezTo>
                <a:cubicBezTo>
                  <a:pt x="64" y="44"/>
                  <a:pt x="53" y="38"/>
                  <a:pt x="48" y="28"/>
                </a:cubicBezTo>
                <a:cubicBezTo>
                  <a:pt x="44" y="19"/>
                  <a:pt x="41" y="9"/>
                  <a:pt x="38" y="0"/>
                </a:cubicBezTo>
                <a:cubicBezTo>
                  <a:pt x="8" y="20"/>
                  <a:pt x="11" y="7"/>
                  <a:pt x="11" y="28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44520" y="1538280"/>
            <a:ext cx="801720" cy="666720"/>
          </a:xfrm>
          <a:custGeom>
            <a:avLst/>
            <a:gdLst/>
            <a:ahLst/>
            <a:rect l="l" t="t" r="r" b="b"/>
            <a:pathLst>
              <a:path w="505" h="420">
                <a:moveTo>
                  <a:pt x="48" y="229"/>
                </a:moveTo>
                <a:cubicBezTo>
                  <a:pt x="141" y="291"/>
                  <a:pt x="0" y="206"/>
                  <a:pt x="112" y="238"/>
                </a:cubicBezTo>
                <a:cubicBezTo>
                  <a:pt x="124" y="241"/>
                  <a:pt x="129" y="257"/>
                  <a:pt x="139" y="265"/>
                </a:cubicBezTo>
                <a:cubicBezTo>
                  <a:pt x="171" y="292"/>
                  <a:pt x="202" y="318"/>
                  <a:pt x="231" y="348"/>
                </a:cubicBezTo>
                <a:cubicBezTo>
                  <a:pt x="232" y="354"/>
                  <a:pt x="235" y="420"/>
                  <a:pt x="267" y="412"/>
                </a:cubicBezTo>
                <a:cubicBezTo>
                  <a:pt x="277" y="410"/>
                  <a:pt x="273" y="393"/>
                  <a:pt x="277" y="384"/>
                </a:cubicBezTo>
                <a:cubicBezTo>
                  <a:pt x="282" y="374"/>
                  <a:pt x="288" y="365"/>
                  <a:pt x="295" y="357"/>
                </a:cubicBezTo>
                <a:cubicBezTo>
                  <a:pt x="336" y="311"/>
                  <a:pt x="372" y="277"/>
                  <a:pt x="432" y="265"/>
                </a:cubicBezTo>
                <a:cubicBezTo>
                  <a:pt x="458" y="248"/>
                  <a:pt x="480" y="228"/>
                  <a:pt x="505" y="210"/>
                </a:cubicBezTo>
                <a:cubicBezTo>
                  <a:pt x="452" y="192"/>
                  <a:pt x="397" y="189"/>
                  <a:pt x="341" y="183"/>
                </a:cubicBezTo>
                <a:cubicBezTo>
                  <a:pt x="350" y="186"/>
                  <a:pt x="361" y="199"/>
                  <a:pt x="368" y="192"/>
                </a:cubicBezTo>
                <a:cubicBezTo>
                  <a:pt x="375" y="185"/>
                  <a:pt x="359" y="165"/>
                  <a:pt x="359" y="165"/>
                </a:cubicBezTo>
                <a:cubicBezTo>
                  <a:pt x="337" y="96"/>
                  <a:pt x="369" y="176"/>
                  <a:pt x="322" y="119"/>
                </a:cubicBezTo>
                <a:cubicBezTo>
                  <a:pt x="316" y="112"/>
                  <a:pt x="318" y="100"/>
                  <a:pt x="313" y="92"/>
                </a:cubicBezTo>
                <a:cubicBezTo>
                  <a:pt x="309" y="84"/>
                  <a:pt x="301" y="79"/>
                  <a:pt x="295" y="73"/>
                </a:cubicBezTo>
                <a:cubicBezTo>
                  <a:pt x="292" y="60"/>
                  <a:pt x="283" y="0"/>
                  <a:pt x="258" y="28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9:21:51Z</dcterms:created>
  <dc:creator>GP</dc:creator>
  <dc:description/>
  <dc:language>en-US</dc:language>
  <cp:lastModifiedBy>GP</cp:lastModifiedBy>
  <dcterms:modified xsi:type="dcterms:W3CDTF">2012-03-11T10:25:55Z</dcterms:modified>
  <cp:revision>21</cp:revision>
  <dc:subject/>
  <dc:title>Слайд 1</dc:title>
</cp:coreProperties>
</file>