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10.wmf" ContentType="image/x-wmf"/>
  <Override PartName="/ppt/media/image31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13.jpeg" ContentType="image/jpeg"/>
  <Override PartName="/ppt/media/image8.jpeg" ContentType="image/jpeg"/>
  <Override PartName="/ppt/media/image29.jpeg" ContentType="image/jpeg"/>
  <Override PartName="/ppt/media/image18.wmf" ContentType="image/x-wmf"/>
  <Override PartName="/ppt/media/image2.jpeg" ContentType="image/jpeg"/>
  <Override PartName="/ppt/media/image25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1C06-0F1A-4A12-9B06-061A2273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23EB-A4A5-4869-99C1-6A8C4EDE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59E6-16A9-4798-B8E7-CEE95EFF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32EA-B409-4819-81DB-DBB879D7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F673D-3AE6-4107-9A8C-D61E09E36F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326A5-B9A3-4C1A-B352-A92AF6D6B9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E849A-AE48-4689-A66F-DF7EC304F9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EE2DD-30DD-4F14-9F1E-63B3DF9FD9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DBC9F-0101-4B3A-8B30-9CB7D05F73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86085-8F26-411C-AF1D-CF2FCC61E6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B1DB2-8BCB-4652-93EE-9001E61B14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5B4E-9874-4149-AE51-99B33351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2D4BA-797B-45D3-BD73-EFF3643C04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C75DF-4C66-4AD3-82AD-6CA06D6477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3A3C7-E822-4D00-A523-C299E38188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38A1C-DB17-4DB1-80F0-417078CC2A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B6EE6-6067-459C-A036-C377C49C34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5304-14D6-49BC-BDBC-2A200EEF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65C-EF84-4D55-AE54-10504890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50A3-3FDE-45D7-B687-EB71B373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FC07-595D-484C-B317-D4F991AF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8D5C-83B0-4336-AE18-85ED4669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EFE0-0039-4986-872B-5A5378A9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B43E-B07F-4217-B7C3-9A3D2646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00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15F6-38E5-48A6-80D8-D0EFE3D0A150}" type="slidenum"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7C79-562B-49D6-8FEE-C02AF2BF89A1}" type="slidenum"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9770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9770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9770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64087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История ЭВМ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3716280"/>
            <a:ext cx="6296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готовил: Гапеев Игорь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5388120"/>
            <a:ext cx="30592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ик 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а</a:t>
            </a:r>
            <a:br>
              <a:rPr sz="2400"/>
            </a:b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0360" y="1916280"/>
            <a:ext cx="32036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916360" y="1557360"/>
            <a:ext cx="3508200" cy="44528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1900-у году ранние механические калькуляторы, кассовые аппараты и счётные машины были перепроектированы с использованием электрических двигателей с представлением положения переменной как позиции шестерни. С 1930-х такие компании как Friden, Marchant и Monro начали выпускать настольные механические калькуляторы, которые могли складывать, вычитать, умножать и делить. Словом «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comput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(буквально — «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числ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) называлась должность — это были люди, которые использовали калькуляторы для выполнения математических вычислений.</a:t>
            </a: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95228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1948 году появился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r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— небольшой механический калькулятор, который можно было держать в одной руке.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 rot="21259200">
            <a:off x="5508720" y="2205000"/>
            <a:ext cx="2824200" cy="36133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1952280"/>
            <a:ext cx="4259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50-х — 1960-х годах на западном рынке появилось несколько марок подобных устройств. Первым полностью электронным настольным калькулятором был британский ANITA Мк. VII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 rot="228000">
            <a:off x="5579640" y="2612520"/>
            <a:ext cx="2952720" cy="26290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36 году, работая в изоляции в нацистской Германии, Конрад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Цуз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чал работу над своим первым вычислителем сериии Z, имеющим память и (пока ограниченную) возможность программирования. Созданная, в основном, на механической основе, но уже на базе двоичной логики, модель Z1, завершённая в 1938 году, так и не заработала достаточно надёжно, из-за недостаточной точности выполнения составных частей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224920" y="5972040"/>
            <a:ext cx="9190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7640" y="1483920"/>
            <a:ext cx="4105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ующая машина Цузе — Z3, была завершена в 1941 году. Она была построена на телефонных реле и работала вполне удовлетворительно. Тем самым, Z3 стала первым работающим компьютером, управляемым программой. Во многих отношениях Z3 была подобна современным машинам</a:t>
            </a:r>
            <a:r>
              <a:rPr b="0" lang="en-US" sz="24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21383400">
            <a:off x="4427640" y="2276280"/>
            <a:ext cx="4316400" cy="32367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4248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39 году Джон Винсент Атанасов и Клиффорд Берри из Университета штата Айова разработали Atanasoff-Berry Computer (ABC). Это был первый в мире электронный цифровой компьютер. Конструкция насчитывала более 300 электровакуумных ламп, в качестве памяти использовался вращающийся барабан. Несмотря на то, что машина ABC не была программируемой, она была первой, использующей электронные лампы в сумматоре.</a:t>
            </a: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619880" cy="3465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280" y="1628280"/>
            <a:ext cx="8229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ериканский ENIAC, который часто называют первым электронным компьютером общего назначения, публично доказал применимость электроники для масштабных вычислений. Это стало ключевым моментом в разработке вычислительных машин, прежде всего из-за огромного прироста в скорости вычислений, но также и по причине появившихся возможностей для миниатюризации. Созданная под руководством Джона Мочли и Дж. Преспера Эккерта, эта машина была в 1000 раз быстрее, чем все другие машины того времени. Разработка «ЭНИАК» продлилась с 1943 до 1945 года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1288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770a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ENIAC удавалось выполнять несколько тысяч операций в секунду в течение нескольких часов, до очередного сбоя из-за сгоревшей лампы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 rot="270000">
            <a:off x="4500360" y="2060280"/>
            <a:ext cx="4244760" cy="36734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й работающей машиной с архитектурой фон Неймана стал манчестерский «Baby» — Small-Scale Experimental Machine (Малая экспериментальная машина), созданный в Манчестерском университете в 1948 году; в 1949 году за ним последовал компьютер Манчестерский Марк I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 rot="21385800">
            <a:off x="5148000" y="333360"/>
            <a:ext cx="3673440" cy="26305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 rot="338400">
            <a:off x="5076720" y="3573000"/>
            <a:ext cx="3673440" cy="29242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ервыми приспособлениями для вычислений были, вероятно, всем известные счётные палочки, которые и сегодня используются в начальных классах многих школ для обучения счёту.</a:t>
            </a: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21155400">
            <a:off x="179280" y="188640"/>
            <a:ext cx="2700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7640" y="1341360"/>
            <a:ext cx="431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1955 году Морис Уилкс изобретает микропрограммирование, принцип, который позднее широко используется в микропроцессорах самых различных компьютеров. Микропрограммирование позволяет определять или расширять базовый набор команд с помощью встроенных программ, которые носят названия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микропрограмм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245120" cy="403200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ующим крупным шагом в истории компьютерной техники, стало изобретение транзистора в 1947 году. Они стали заменой хрупким и энергоёмким лампам. О компьютерах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а транзисто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ычно говорят как о «втором поколении», которое доминировало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 1950-х и начале 1960-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Благодаря транзисторам и печатным платам, было достигнуто значительное уменьшение размеров и объёмов потребляемой энергии, а также повышение надёжности. Однако компьютеры второго поколения по-прежнему были довольно дороги и поэтому использовались только университетами, правительствами, крупными корпорациями.</a:t>
            </a:r>
            <a:r>
              <a:rPr b="0" lang="en-US" sz="24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7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8920" y="1916280"/>
            <a:ext cx="403884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770a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«Сетунь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ыла первым компьютером на основе троичной логики, разработана в 1958 году в Советском Союзе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 rot="412800">
            <a:off x="4716360" y="2133720"/>
            <a:ext cx="4056120" cy="30430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920" y="184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рный рост использования компьютеров начался с т. н. «3-им поколением» вычислительных машин. Начало этому положило изобретение интегральных схем, которые независимо друг от друга изобрели лауреат Нобелевской премии Джек Килби и Роберт Нойс. Позже это привело к изобретению микропроцессора Тэдом Хоффом (компания Intel)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405560" y="5030640"/>
            <a:ext cx="17384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770a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явление микропроцессоров привело к разработке микрокомпьютеров — небольших недорогих компьютеров, которыми могли владеть небольшие компании или отдельные люди. Микрокомпьютеры, представители четвёртого поколения, первые из которых появился в 1970-х, стали повсеместным явлением в 1980-х и позже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тив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озня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один из основателей Apple Computer, стал известен как разработчик первого массового домашнего компьютера, а позже — первого персонального компьютера. Компьютеры на основе микрокомпьютерной архитектуры, с возможностями, добавленными от их больших собратьев, сейчас доминируют в большинстве сегментов рынка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4248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1977 году появился первый массовый персональный компьютер Apple II, что явилось предвестником бума всеобщей компьютеризации населения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машние компьютеры стали более удобными и требовали от своих пользователей уже гораздо меньшего количества технических навыков. В августе 1981 года IBM выпустила компьютерную систему IBM PC, положившую начало эпохе современных персональных компьютеров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 rot="21334800">
            <a:off x="4572000" y="2133360"/>
            <a:ext cx="4208400" cy="33019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4465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январе 1984 года начались продажи Apple Macintosh, ставшего первым по-настоящему массовым ПК с GUI. 23 июля 1985 года появился первый в мир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ультимедийный персональный компьют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miga (Amiga 1000). Персональные компьютеры Amiga, наряду с макинтошами, оставались самыми популярными и продаваемыми машинами для домашнего использования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rot="892800">
            <a:off x="5292360" y="2421000"/>
            <a:ext cx="3278160" cy="27939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02920" y="2204640"/>
            <a:ext cx="6443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овременный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ПК и его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разновидности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692360" y="1989000"/>
            <a:ext cx="5472000" cy="36975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 rot="481200">
            <a:off x="539280" y="2349000"/>
            <a:ext cx="3168720" cy="29480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Ноутбуки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 rot="20875200">
            <a:off x="4356000" y="691920"/>
            <a:ext cx="3168720" cy="25765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 rot="886800">
            <a:off x="5813280" y="4011120"/>
            <a:ext cx="2913120" cy="242100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08000" y="1628280"/>
            <a:ext cx="8245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гда людям надоело вести счёт при помощи загибания пальцев и перекладывания палочек, они изобрели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ба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счёты).</a:t>
            </a: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3141360"/>
            <a:ext cx="49690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ичество подсчитываемых предметов соответствовало числу передвинутых костяшек этого инструмента.</a:t>
            </a:r>
            <a:r>
              <a:rPr b="0" lang="en-US" sz="24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 rot="436200">
            <a:off x="4716360" y="3284640"/>
            <a:ext cx="4103640" cy="32306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4248000" cy="4032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076720" y="1844640"/>
            <a:ext cx="3816360" cy="4032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5944680" y="1413000"/>
            <a:ext cx="30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ланшетный ПК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240" y="1413000"/>
            <a:ext cx="279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рманный ПК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476360" y="2276640"/>
            <a:ext cx="59054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Конец</a:t>
            </a:r>
            <a:endParaRPr b="1" lang="en-US" sz="9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623 году Вильгельм Шикард придумал «Считающие часы» — первый механический калькулятор, умевший выполнять четыре арифметических действия. Считающими часами устройство было названо потому, что как и в настоящих часах работа механизма была основана на использовании звёздочек и шестерёнок. Практическое использование это изобретение нашло в руках друга Шикарда, философа и астронома Иоганна Кеплера.</a:t>
            </a:r>
            <a:r>
              <a:rPr b="0" lang="ru-RU" sz="28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-20880" y="5105520"/>
            <a:ext cx="1663560" cy="1658160"/>
            <a:chOff x="-20880" y="5105520"/>
            <a:chExt cx="1663560" cy="1658160"/>
          </a:xfrm>
        </p:grpSpPr>
        <p:sp>
          <p:nvSpPr>
            <p:cNvPr id="91" name="Gear"/>
            <p:cNvSpPr/>
            <p:nvPr/>
          </p:nvSpPr>
          <p:spPr>
            <a:xfrm rot="3823800">
              <a:off x="912240" y="5760000"/>
              <a:ext cx="609480" cy="6476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23800">
              <a:off x="247320" y="5216400"/>
              <a:ext cx="729000" cy="774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823800">
              <a:off x="138960" y="5779440"/>
              <a:ext cx="810360" cy="860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этим последовали машины Блеза Паскаля («Паскалина», 1642 г.) и Готфрида Вильгельма Лейбница. Примерно в 1820 году создал первый удачный, серийно выпускаемый механический калькулятор — Арифмометр Томаса, который мог складывать, вычитать, умножать и делить. В основном, он был основан на работе Лейбница. Механические калькуляторы, считающие десятичные числа, использовались до 1970-х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5" name="computr2"/>
          <p:cNvSpPr/>
          <p:nvPr/>
        </p:nvSpPr>
        <p:spPr>
          <a:xfrm>
            <a:off x="179280" y="115920"/>
            <a:ext cx="1584360" cy="16653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скалин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8840" y="1952640"/>
            <a:ext cx="7364520" cy="4032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4392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1801 году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Жозеф Мари Жакка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зработал ткацкий станок, в котором вышиваемый узор определялся перфокартами. Серия карт могла быть заменена, и смена узора не требовала изменений в механике станка. Это было важной вехой в истории программирования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3280" y="2852640"/>
            <a:ext cx="4316400" cy="21970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0920" y="1773000"/>
            <a:ext cx="40384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38 году Чарльз Бэббидж перешёл от разработки Разностной машины к проектированию более сложной аналитической машины, принципы программирования которой напрямую восходят к перфокартам Жаккара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rot="21434400">
            <a:off x="4572000" y="2133360"/>
            <a:ext cx="4316400" cy="332100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8000" y="1699920"/>
            <a:ext cx="85075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1890 году Бюро Переписи США использовало перфокарты и механизмы сортировки, разработанные  Германом Холлеритом, чтобы обработать поток данных десятилетней переписи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Холлерита в конечном счёте стала ядром IBM. Эта корпорация развила технологию перфокарт в мощный инструмент для деловой обработки данных и выпустила обширную линию специализированного оборудования для их записи. К 1950 году технология IBM стала вездесущей в промышленности и правительстве. Предупреждение, напечатанное на большинстве карт, «не сворачивать, не скручивать и не рвать», стало девизом послевоенной эр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3:07:21Z</dcterms:created>
  <dc:creator>Zver</dc:creator>
  <dc:description/>
  <cp:keywords>"PowerLexis" - Презентационное агентство</cp:keywords>
  <dc:language>en-US</dc:language>
  <cp:lastModifiedBy>Admin</cp:lastModifiedBy>
  <dcterms:modified xsi:type="dcterms:W3CDTF">2010-12-15T19:46:43Z</dcterms:modified>
  <cp:revision>10</cp:revision>
  <dc:subject/>
  <dc:title>   История ЭВ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e000000000001023620</vt:lpwstr>
  </property>
</Properties>
</file>