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AE6-1770-4C91-96DF-6CECA14F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081-8771-4503-B136-E2D840B6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D56-7D59-4C65-AB20-C99B06C0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13A-0712-46F4-BE20-7C79F4DD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6F9-E4E3-466A-9DD0-AF779B24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0BB-0BE4-428E-8683-F101F94B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724-6A18-4C85-8EA0-4B2D660B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EE9-E77E-49B0-A39C-0CE78A85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5C1-7454-4EA8-B3D4-85DE2653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6F4-B72E-4502-87AB-D97B6679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B88-1F6D-4D56-8F0F-0382AA03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80A-033E-468E-ABE9-15948840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B8EE-9AD3-40E0-8D58-CDBD3EC561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</a:rPr>
              <a:t>КОГДА ЖИЛИ </a:t>
            </a:r>
            <a:br>
              <a:rPr sz="4400"/>
            </a:br>
            <a:r>
              <a:rPr b="1" lang="ru-RU" sz="4400" spc="-1" strike="noStrike">
                <a:solidFill>
                  <a:srgbClr val="77933c"/>
                </a:solidFill>
                <a:latin typeface="Times New Roman"/>
              </a:rPr>
              <a:t>И </a:t>
            </a:r>
            <a:br>
              <a:rPr sz="4400"/>
            </a:br>
            <a:r>
              <a:rPr b="1" lang="ru-RU" sz="4400" spc="-1" strike="noStrike">
                <a:solidFill>
                  <a:srgbClr val="77933c"/>
                </a:solidFill>
                <a:latin typeface="Times New Roman"/>
              </a:rPr>
              <a:t>ПОЧЕМУ ВЫМЕРЛИ </a:t>
            </a:r>
            <a:br>
              <a:rPr sz="4400"/>
            </a:br>
            <a:r>
              <a:rPr b="1" lang="ru-RU" sz="4400" spc="-1" strike="noStrike">
                <a:solidFill>
                  <a:srgbClr val="77933c"/>
                </a:solidFill>
                <a:latin typeface="Times New Roman"/>
              </a:rPr>
              <a:t>ДИНОЗАВР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00160" y="4642920"/>
            <a:ext cx="640080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ts val="2699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ки 2 А клас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КОУ «СОШ № 2 р.п.Дергачи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аян Давид и Самохин Васил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85840" y="3786120"/>
            <a:ext cx="1738080" cy="261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7072200" y="1643040"/>
            <a:ext cx="15004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Введ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4200" y="1599840"/>
            <a:ext cx="8715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ы выбрали эту тему потому что нас всегда интересовали динозавры. Нам хотелось узнать почему они вымер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36 опрошенных нами людей- 12 сказали, что это было связано со всемирным потопом, 18 ответили, что они вымерли после столкновения Земли с огромным небесным телом, 6 человек сказали что хищные динозавры, уничтожив своих собратьев-вегетарианцев, погибли от бескормиц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м очень захотелось узнать причину  их вымир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3287160" y="385776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Times New Roman"/>
              </a:rPr>
              <a:t>ЦЕЛИ  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642960" y="4272120"/>
            <a:ext cx="807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6094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ить периоды жизни динозав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7480" indent="-6094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7480" indent="-6094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учить возможные причины вымирания динозав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7480" indent="-6094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7480" indent="-6094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рать одну, наиболее достоверную гипотезу вымирания динозав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</a:rPr>
              <a:t>Периоды жизни динозавров.</a:t>
            </a:r>
            <a:br>
              <a:rPr sz="4400"/>
            </a:br>
            <a:r>
              <a:rPr b="1" lang="ru-RU" sz="4400" spc="-1" strike="noStrike">
                <a:solidFill>
                  <a:srgbClr val="7f7f7f"/>
                </a:solidFill>
                <a:latin typeface="Times New Roman"/>
              </a:rPr>
              <a:t>Триасовый перио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3"/>
          <p:cNvPicPr/>
          <p:nvPr/>
        </p:nvPicPr>
        <p:blipFill>
          <a:blip r:embed="rId1"/>
          <a:stretch/>
        </p:blipFill>
        <p:spPr>
          <a:xfrm>
            <a:off x="214200" y="1500120"/>
            <a:ext cx="1874880" cy="192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858000" y="4429080"/>
            <a:ext cx="1895400" cy="2139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1857240" y="1571760"/>
            <a:ext cx="5072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асовый период начался около 250 млн.л.н. и закончился около 199 млн. л. н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асовый период в истории Земли ознаменовал собой начало мезозойской эры. Триасовый период - время появления первых динозав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7f7f"/>
                </a:solidFill>
                <a:latin typeface="Times New Roman"/>
              </a:rPr>
              <a:t>Юрский пери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0" descr="5"/>
          <p:cNvPicPr/>
          <p:nvPr/>
        </p:nvPicPr>
        <p:blipFill>
          <a:blip r:embed="rId1"/>
          <a:stretch/>
        </p:blipFill>
        <p:spPr>
          <a:xfrm>
            <a:off x="1000080" y="1571760"/>
            <a:ext cx="2214720" cy="2305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Macronaria"/>
          <p:cNvPicPr/>
          <p:nvPr/>
        </p:nvPicPr>
        <p:blipFill>
          <a:blip r:embed="rId2"/>
          <a:stretch/>
        </p:blipFill>
        <p:spPr>
          <a:xfrm>
            <a:off x="500040" y="3929040"/>
            <a:ext cx="3786120" cy="25779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4500720" y="1714680"/>
            <a:ext cx="421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т период начался распад единого суперконтинента Пангея на отдельные континентальные блоки. Между ними образовывались мелководные мор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</a:rPr>
              <a:t>Меловой пери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10"/>
          <p:cNvPicPr/>
          <p:nvPr/>
        </p:nvPicPr>
        <p:blipFill>
          <a:blip r:embed="rId1"/>
          <a:stretch/>
        </p:blipFill>
        <p:spPr>
          <a:xfrm>
            <a:off x="285840" y="1571760"/>
            <a:ext cx="2055600" cy="20937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3000240" y="1357200"/>
            <a:ext cx="5715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овой пери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начался 145 миллионов лет назад и закончился 65 миллионов лет назад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ловом перио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ись первые покрытосеменные - цветковые растения. Это повлекло за собой увеличение разнообразия насекомых, которые стали опылителями цветов и дало толчок к бурному развитию животного мира, в том числе и динозав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14200" y="4143240"/>
            <a:ext cx="25084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</a:rPr>
              <a:t>Причины вымирания динозав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ирный потоп можно ставить под сомнение, ведь погибли и морские живот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143680" y="3429000"/>
            <a:ext cx="339372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785880" y="3429000"/>
            <a:ext cx="28098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8548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сия о причинах исчезновения, связанная с тем, что хищники съели травоядных, тоже неубедительна. Почему не съеденными остались пресмыкающиеся, дожившие до наших дне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357880" y="2857680"/>
            <a:ext cx="3043080" cy="309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928800" y="2857680"/>
            <a:ext cx="328608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28760" y="42876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лкновения Земли с огромным небесным телом могло привести к гибели большей части обитателей планеты. Падение космического тела на поверхность земли подняло высоко огромное количество пыли. Солнечная энергия не достигала больше поверхности Земли, задерживаемая плотным слоем пыли в атмосфере. Первыми погибали растения, не получившие достаточного доступа солнечного света. Вслед за этим вымерли животные, питавшиеся растениями. Динозавры могли исчезнуть, но тогда возникает сомнение: как смогли выжить, такие чувствительные к изменениям климата, птиц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785880" y="3714840"/>
            <a:ext cx="3162240" cy="237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5214960" y="371484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озавры вымирали постепенно. Похолодание наступало неотвратимо. Катастрофа повлияла на изменение топографического рисунка земной коры. Там где раньше была суша, образовалось море, и наоборот. Изменилось соотношение температур и ритмы дня и ночи. Периодически стал наступать период полной бескормицы (зима). Подавляющее большинство ящеров оказались в неприемлемых условиях, так как была нарушена пищевая цепь. Полноценное потомство  не могло быть выведено в таких условиях. Динозавры вымирали вид за видом, к ним присоединились многие виды растений и микроорганизмов. Нас смену им постепенно приходили новые ви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6:31:45Z</dcterms:created>
  <dc:creator>Admin</dc:creator>
  <dc:description/>
  <dc:language>en-US</dc:language>
  <cp:lastModifiedBy>Admin</cp:lastModifiedBy>
  <dcterms:modified xsi:type="dcterms:W3CDTF">2012-03-11T17:43:48Z</dcterms:modified>
  <cp:revision>20</cp:revision>
  <dc:subject/>
  <dc:title>Слайд 1</dc:title>
</cp:coreProperties>
</file>