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A76-EDB0-48B2-B6D4-52257A2C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6B8-2C51-4B7B-9803-6E05BA33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239-EB45-4E64-9736-1652B693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60C-2021-4612-BA4A-498ED68F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5BE0F-0474-459F-8E47-73199B22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90B28-3DC5-440B-AFFB-6B4515BB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7C160-710B-43D5-AB04-8BAF9A4F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3ECD1-5331-4119-9D2E-E8F6DCCE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06A46-43EC-44BF-AD0B-4470F724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AAB6D-713E-4DB4-A0B7-A333E10C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A08DE-7D57-4F32-B23A-393C7983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2DC-ACB7-4967-8DD4-7AF277D9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2A017-8403-4637-8E50-134ED31C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35116-70F8-4A99-BD42-270603BC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468AA-8267-4EAD-8B01-56CD3A03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53BCA-09B7-48E3-870F-5AE77156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80966-A7B6-4DD6-B5AF-205EC2D9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4EE-9D89-4480-9E90-0E9CE84A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9E7-1341-4C67-9D30-87CDD4C1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F41-20B0-4276-84C0-2F1473A5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578-F557-49D6-88A0-086C4C2C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04B-A55A-4707-88CB-6FF9075B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19F-F646-4D71-9E79-2ABFA779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558B-09F3-4AC1-AF34-13CEA7E6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1377-CAED-4A3E-A7AD-1AAFBBB455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B8FE-97B4-4682-B1C7-F36314BC87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407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ультура Древнерусского государст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) Историческая литера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етопис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историческое произведение, запись событий по год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иевский летописный сво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996-99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овесть временных ле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события с 860 до 1110 г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4452840" y="1936800"/>
            <a:ext cx="394992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 Box 7"/>
          <p:cNvSpPr/>
          <p:nvPr/>
        </p:nvSpPr>
        <p:spPr>
          <a:xfrm>
            <a:off x="5223960" y="6211800"/>
            <a:ext cx="38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борник Святослава 1074 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) Светская литера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316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33640"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оу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Мол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ло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Поучение Владимира Мономах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Моление Даниила Заточни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Слово о полку Игореве» (1185 г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4606920" y="1700280"/>
            <a:ext cx="4537080" cy="360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4. Устное народное творчество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4038480" cy="346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Фольклор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овокупность обычаев, обрядов, песен и других явлений народного творч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ылина -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эпическая песня, охватывающая исторические события 11 - 14 ве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едущее место среди былин занимают богатырские - воспевающие героев - защитников родины, отечества, наделенных любовью к своему народу -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лью Муромца, Добрыню Никитича, Алешу Попович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912600" y="48434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Н. Караз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р у князя Влади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 Архитекту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428760" y="1428840"/>
            <a:ext cx="4038480" cy="4079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48320" y="999720"/>
            <a:ext cx="40384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X – XI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к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конца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X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 преобладает в зодчестве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изантийский стиль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яжеловесные, массивные, обильно украшенные декором зд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71680" y="557208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фийский собо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город, 1045 - 10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. Архитек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816360" cy="48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4602240" y="1401840"/>
            <a:ext cx="4333680" cy="3591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917640" y="621648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фийский собор. Кие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 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4791240" y="107172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рестово-купольный хр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367520" y="4857840"/>
            <a:ext cx="476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ово-купольная систе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перекрытия церкв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которой в центре наход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пол, опирающийся на стол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5. Архитектура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672000" cy="459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125360"/>
            <a:ext cx="4316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сятинная церковь (989 – 996 г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асский собор в Чернигове (1033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фийский собор в Киеве (1037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фийский собор в Новгороде (1045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911880" y="614052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пасский собор. Черни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ahoma"/>
              </a:rPr>
              <a:t>5. Архитектура – </a:t>
            </a:r>
            <a:r>
              <a:rPr b="1" lang="en-US" sz="4200" spc="-1" strike="noStrike">
                <a:solidFill>
                  <a:srgbClr val="ffffff"/>
                </a:solidFill>
                <a:latin typeface="Gill Sans MT"/>
              </a:rPr>
              <a:t>XII </a:t>
            </a:r>
            <a:r>
              <a:rPr b="1" lang="ru-RU" sz="4200" spc="-1" strike="noStrike">
                <a:solidFill>
                  <a:srgbClr val="ffffff"/>
                </a:solidFill>
                <a:latin typeface="Tahoma"/>
              </a:rPr>
              <a:t>вв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713880"/>
            <a:ext cx="4040280" cy="817560"/>
          </a:xfrm>
          <a:prstGeom prst="rect">
            <a:avLst/>
          </a:prstGeom>
          <a:solidFill>
            <a:srgbClr val="000099"/>
          </a:solidFill>
          <a:ln w="10800">
            <a:solidFill>
              <a:srgbClr val="000099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Владимиро-суздальский стиль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280" y="713880"/>
            <a:ext cx="4042080" cy="497160"/>
          </a:xfrm>
          <a:prstGeom prst="rect">
            <a:avLst/>
          </a:prstGeom>
          <a:solidFill>
            <a:srgbClr val="000099"/>
          </a:solidFill>
          <a:ln w="10800">
            <a:solidFill>
              <a:srgbClr val="000099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Новгородский стиль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9680" y="1571760"/>
            <a:ext cx="4040280" cy="3286080"/>
          </a:xfrm>
          <a:prstGeom prst="rect">
            <a:avLst/>
          </a:prstGeom>
          <a:noFill/>
          <a:ln w="10800">
            <a:solidFill>
              <a:srgbClr val="000099"/>
            </a:solidFill>
            <a:prstDash val="dash"/>
            <a:miter/>
          </a:ln>
        </p:spPr>
        <p:txBody>
          <a:bodyPr anchor="t">
            <a:normAutofit fontScale="94000"/>
          </a:bodyPr>
          <a:p>
            <a:pPr marL="322200" indent="-219600"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териал - белый камень- валу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219600"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стремленность   ввы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219600"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зорчат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219600"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четание христианских сюжетов с языческими мотивами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4720" y="1357200"/>
            <a:ext cx="4041720" cy="3286080"/>
          </a:xfrm>
          <a:prstGeom prst="rect">
            <a:avLst/>
          </a:prstGeom>
          <a:noFill/>
          <a:ln w="1080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92040" indent="-272880"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териал – серый известня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2040" indent="-272880"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ссивные фор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2040" indent="-272880"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дек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2040" indent="-272880"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держанность и лаконичность внутреннего убран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2040" indent="-272880"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642960" y="4714920"/>
            <a:ext cx="839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бщие черты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ьба по камн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ческое сочетание архитектур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оружений с ландшафтом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ромная крас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ahoma"/>
              </a:rPr>
              <a:t>5. Архитектура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8760" y="999720"/>
            <a:ext cx="4039920" cy="714600"/>
          </a:xfrm>
          <a:prstGeom prst="rect">
            <a:avLst/>
          </a:prstGeom>
          <a:solidFill>
            <a:srgbClr val="000099"/>
          </a:solidFill>
          <a:ln w="10800">
            <a:solidFill>
              <a:srgbClr val="000099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Церковь Покрова на Нерли, 116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5840" y="1071360"/>
            <a:ext cx="4041720" cy="639720"/>
          </a:xfrm>
          <a:prstGeom prst="rect">
            <a:avLst/>
          </a:prstGeom>
          <a:solidFill>
            <a:srgbClr val="000099"/>
          </a:solidFill>
          <a:ln w="10800">
            <a:solidFill>
              <a:srgbClr val="000099"/>
            </a:solidFill>
            <a:miter/>
          </a:ln>
        </p:spPr>
        <p:txBody>
          <a:bodyPr anchor="ctr">
            <a:normAutofit/>
          </a:bodyPr>
          <a:p>
            <a:pPr marL="63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Успенский собор. Владимир, 1158 - 1160, 1185 - 1189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3714840" cy="4429440"/>
          </a:xfrm>
          <a:prstGeom prst="rect">
            <a:avLst/>
          </a:prstGeom>
          <a:ln w="10800">
            <a:solidFill>
              <a:srgbClr val="000099"/>
            </a:solidFill>
            <a:prstDash val="dash"/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4213080" y="2317680"/>
            <a:ext cx="4019760" cy="3525840"/>
          </a:xfrm>
          <a:prstGeom prst="rect">
            <a:avLst/>
          </a:prstGeom>
          <a:ln w="10800">
            <a:solidFill>
              <a:srgbClr val="000099"/>
            </a:solidFill>
            <a:prstDash val="dash"/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ahoma"/>
              </a:rPr>
              <a:t>5. Архитектура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5357520"/>
            <a:ext cx="4039920" cy="1103400"/>
          </a:xfrm>
          <a:prstGeom prst="rect">
            <a:avLst/>
          </a:prstGeom>
          <a:solidFill>
            <a:srgbClr val="000099"/>
          </a:solidFill>
          <a:ln w="10800">
            <a:solidFill>
              <a:srgbClr val="000099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ков. Преображенский собор Мирожского монастыря, XII ве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01920" y="5500440"/>
            <a:ext cx="4041720" cy="639720"/>
          </a:xfrm>
          <a:prstGeom prst="rect">
            <a:avLst/>
          </a:prstGeom>
          <a:solidFill>
            <a:srgbClr val="000099"/>
          </a:solidFill>
          <a:ln w="10800">
            <a:solidFill>
              <a:srgbClr val="000099"/>
            </a:solidFill>
            <a:miter/>
          </a:ln>
        </p:spPr>
        <p:txBody>
          <a:bodyPr anchor="ctr">
            <a:normAutofit/>
          </a:bodyPr>
          <a:p>
            <a:pPr marL="63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Рождественский собор. Суздаль. XII 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457200" y="1260360"/>
            <a:ext cx="4022640" cy="3533760"/>
          </a:xfrm>
          <a:prstGeom prst="rect">
            <a:avLst/>
          </a:prstGeom>
          <a:ln w="10800">
            <a:solidFill>
              <a:srgbClr val="000099"/>
            </a:solidFill>
            <a:prstDash val="dash"/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4998960" y="969840"/>
            <a:ext cx="3353040" cy="4114800"/>
          </a:xfrm>
          <a:prstGeom prst="rect">
            <a:avLst/>
          </a:prstGeom>
          <a:ln w="10800">
            <a:solidFill>
              <a:srgbClr val="000099"/>
            </a:solidFill>
            <a:prstDash val="dash"/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ahoma"/>
              </a:rPr>
              <a:t>5. Архитектура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600" y="5714640"/>
            <a:ext cx="4040280" cy="888840"/>
          </a:xfrm>
          <a:prstGeom prst="rect">
            <a:avLst/>
          </a:prstGeom>
          <a:solidFill>
            <a:srgbClr val="000099"/>
          </a:solidFill>
          <a:ln w="10800">
            <a:solidFill>
              <a:srgbClr val="000099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Дмитриевский собор. Владимир. 1194 - 119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7480" y="5785920"/>
            <a:ext cx="4041720" cy="746280"/>
          </a:xfrm>
          <a:prstGeom prst="rect">
            <a:avLst/>
          </a:prstGeom>
          <a:solidFill>
            <a:srgbClr val="000099"/>
          </a:solidFill>
          <a:ln w="10800">
            <a:solidFill>
              <a:srgbClr val="000099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арая Ладога. Георгиевский собор, XII ве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857160" y="1428840"/>
            <a:ext cx="3127320" cy="4114800"/>
          </a:xfrm>
          <a:prstGeom prst="rect">
            <a:avLst/>
          </a:prstGeom>
          <a:ln w="10800">
            <a:solidFill>
              <a:srgbClr val="000099"/>
            </a:solidFill>
            <a:prstDash val="dash"/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5214960" y="1357200"/>
            <a:ext cx="2900520" cy="4114800"/>
          </a:xfrm>
          <a:prstGeom prst="rect">
            <a:avLst/>
          </a:prstGeom>
          <a:ln w="10800">
            <a:solidFill>
              <a:srgbClr val="000099"/>
            </a:solidFill>
            <a:prstDash val="dash"/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1. Этапы развития русской культуры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197000"/>
            <a:ext cx="8820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ультура восточного славянств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культура язы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ультура Киевской Рус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синтез восточнославянской и христианской культуры Визан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ультура периода раздроблен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формирование на базе предыдущего пласта местных вариантов культуры древнерусской народ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. Живопис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143000"/>
            <a:ext cx="4257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33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ые техни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кона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анковое произведение, выполненное на досках, масляными краск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заика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здание изображения из кусочков цветной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c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ьты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непрозрачного стекла), минералов, мрам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реск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живопись по сырой штукатурке водяными крас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5429160" y="1143000"/>
            <a:ext cx="3071880" cy="46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0" name="TextBox 9"/>
          <p:cNvSpPr/>
          <p:nvPr/>
        </p:nvSpPr>
        <p:spPr>
          <a:xfrm>
            <a:off x="5577840" y="584208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ая Панагия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рославская Оран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114 - около 12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. Живопись: ик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571680" y="1285920"/>
            <a:ext cx="3001680" cy="45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"/>
          <p:cNvSpPr txBox="1"/>
          <p:nvPr/>
        </p:nvSpPr>
        <p:spPr>
          <a:xfrm>
            <a:off x="4648320" y="999720"/>
            <a:ext cx="40384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собенности иконопис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ратная перспекти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рреальный фон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мволика цве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воначально преобладали византийские обра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39200" y="5929200"/>
            <a:ext cx="487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ладимирская икона Божьей мате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II 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. Живопис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71720" y="149976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зднее, в Новгородской иконописи стали проступать славянские черты л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4286520" cy="484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8" name="TextBox 8"/>
          <p:cNvSpPr/>
          <p:nvPr/>
        </p:nvSpPr>
        <p:spPr>
          <a:xfrm>
            <a:off x="932760" y="550080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пас Нерукотворный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торая половина XII 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. Живопись: моза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820800" y="1357200"/>
            <a:ext cx="34653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1" name="Picture 3" descr=""/>
          <p:cNvPicPr/>
          <p:nvPr/>
        </p:nvPicPr>
        <p:blipFill>
          <a:blip r:embed="rId3"/>
          <a:stretch/>
        </p:blipFill>
        <p:spPr>
          <a:xfrm>
            <a:off x="4929120" y="1285920"/>
            <a:ext cx="35719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Прямоугольник 8"/>
          <p:cNvSpPr/>
          <p:nvPr/>
        </p:nvSpPr>
        <p:spPr>
          <a:xfrm>
            <a:off x="357120" y="6000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рханг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иев, Святая София, XI 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4938120" y="5857920"/>
            <a:ext cx="36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ан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ев, Святая София, XI 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6. Живопись:</a:t>
            </a: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рес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0" y="1285920"/>
            <a:ext cx="4214880" cy="419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3586320" y="2232000"/>
            <a:ext cx="5095800" cy="34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7" name="TextBox 4"/>
          <p:cNvSpPr/>
          <p:nvPr/>
        </p:nvSpPr>
        <p:spPr>
          <a:xfrm>
            <a:off x="218880" y="5572080"/>
            <a:ext cx="406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вятитель Николай, Новгород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II 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718160" y="5929200"/>
            <a:ext cx="403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мейство Ярослава Мудрого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иев, Святая София, XI 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7. Ремесло и декоративно-прикладное искусство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38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Зернь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на изделие напаивался узор, состоящий из множества мельчайших шариков-зернышек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Скань: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рнамент или рисунок наносили тонкой золотой или серебряной проволокой, которую также напаивали на металлическую поверхность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Перегородчатая   эмаль: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ромежутки между перегородками заполняли разноцветной эмалью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786200" y="1071720"/>
            <a:ext cx="435780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5245200" y="4040280"/>
            <a:ext cx="1908000" cy="187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Факторы, повлиявшие на формирование культуры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26828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Язычество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ознание народа, крестьянский быт, литература, живопи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Географическое положение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открытость другим культурам, культурно-бытовая ассимиля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Христианство и Визант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начала - образец для подражания, затем – ассимиляция и переработ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40560" y="5661000"/>
            <a:ext cx="86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тог: архитектура, живопись, письменность Ру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возможны вне православной догматики и иде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еномен  русской культу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2679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сновные черты русской культу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226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ремление к монументальности, масштабности, образности в летописа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226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родность, цельность и простота в искусств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226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ящество, глубоко гуманистическое начало в архитектур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226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ягкость, жизнелюбие, доброта в живопис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226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итность русского народа с природой, ощущение его сопричастности всему человечеству, переживания за людей, за их боль и страд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226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2. Грамотность и образование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33640"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Глаголиц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(IX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к, Кирилл и Мефодий) – основа дохристианской письме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ириллиц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более позднее явление, привнесенное из Визант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43044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Text Box 8"/>
          <p:cNvSpPr/>
          <p:nvPr/>
        </p:nvSpPr>
        <p:spPr>
          <a:xfrm>
            <a:off x="5444640" y="609300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ографское Евангел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2. Грамотность и образовани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4392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33640"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Берестяные грамот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Новгор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Грамотность была распространена среди торгово-ремесленного населения и верхушки русского об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Граффити – надписи на сте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2"/>
          <a:stretch/>
        </p:blipFill>
        <p:spPr>
          <a:xfrm>
            <a:off x="4500720" y="907920"/>
            <a:ext cx="4174920" cy="23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11" descr=""/>
          <p:cNvPicPr/>
          <p:nvPr/>
        </p:nvPicPr>
        <p:blipFill>
          <a:blip r:embed="rId3"/>
          <a:stretch/>
        </p:blipFill>
        <p:spPr>
          <a:xfrm>
            <a:off x="3978360" y="3973680"/>
            <a:ext cx="4424400" cy="203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Text Box 8"/>
          <p:cNvSpPr/>
          <p:nvPr/>
        </p:nvSpPr>
        <p:spPr>
          <a:xfrm>
            <a:off x="4514760" y="3357720"/>
            <a:ext cx="44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стяные грамот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X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 Нов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2. Грамотность и образование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400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33640"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ы – при церквах, позднее – при монастыр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учали чтению, реже – письму и сч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нское образование – только в богатых семь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ill Sans MT"/>
              </a:rPr>
              <a:t>XI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е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школа для девочек в Киеве (сестра Мономаха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н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4290840" y="1998720"/>
            <a:ext cx="4192920" cy="376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Text Box 7"/>
          <p:cNvSpPr/>
          <p:nvPr/>
        </p:nvSpPr>
        <p:spPr>
          <a:xfrm>
            <a:off x="4805640" y="609300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нна Ярославна, королева Фран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3. Письменная культур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168720" cy="446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итрополит Иларион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Слово о законе и благодати» (104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231120"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а сочинения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повед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речь религиозно-назидательного содержа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231120"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дея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енство народов, нравственная оценка правителя и человека вообщ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ирилл Туровский </a:t>
            </a:r>
            <a:r>
              <a:rPr b="1" i="1" lang="en-US" sz="2400" spc="-1" strike="noStrike">
                <a:solidFill>
                  <a:srgbClr val="ffffff"/>
                </a:solidFill>
                <a:latin typeface="Gill Sans MT"/>
              </a:rPr>
              <a:t>(XII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ек)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293920" y="907920"/>
            <a:ext cx="50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) Религиозн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А) Религиозная литература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14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33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Жит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агиографические повествования о жизни и деяниях свят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гиография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жизнеописания духовных подвигов святого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Сказание о Борисе и Глеб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Память и похвала Владимира» (Иак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233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тие преподобного Феодосия Печерск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3887640" cy="49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0" name="Text Box 10"/>
          <p:cNvSpPr/>
          <p:nvPr/>
        </p:nvSpPr>
        <p:spPr>
          <a:xfrm>
            <a:off x="5590800" y="621648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еодосий Печер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3:50:23Z</dcterms:created>
  <dc:creator>Ирина</dc:creator>
  <dc:description/>
  <dc:language>en-US</dc:language>
  <cp:lastModifiedBy>User</cp:lastModifiedBy>
  <dcterms:modified xsi:type="dcterms:W3CDTF">2010-04-30T01:40:04Z</dcterms:modified>
  <cp:revision>14</cp:revision>
  <dc:subject/>
  <dc:title>Культура Киевской Руси</dc:title>
</cp:coreProperties>
</file>