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63D-DF73-43F2-9CD6-3EEE77BA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0AA-A707-4F97-89D9-AB9CC3C6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EC8-1256-4866-8BF8-634E3A56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C57-FF94-4311-9CE6-44AF8655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9650-EF23-4766-B230-AB46DD7C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DE89-36F8-4571-A0F5-B46DF14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8E65-DAE4-447C-B8EE-5CC8DABC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190B-1278-4E67-A961-83A0DE74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6F3E-4AC2-45B2-9C6A-5AFE5A76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1488-E4A5-47B8-A8D9-9E8B6F4F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6976-DDA6-4D4C-8119-4E819BFD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89C-9A75-4295-8C2E-3BC86E85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43B0-32D5-4DE8-818A-AB22E54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2D45-AE40-44BD-AA87-5F4C945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5BDB-7AAD-46A2-9554-8953CAA8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FA50-FA3D-4752-A315-53643042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BC78-5F14-42C8-9177-6FF3605F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70F-64B3-4EDC-91D1-3F84A38B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458-4FB0-4E00-96C7-BEDF28FF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E14-36B4-42D6-9FF2-6C98030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F68-3FAB-444E-9707-FAAFC9AA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AD1-6A1E-4B58-8D70-BF8B41B3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70B-96D3-4C57-9706-28CB6642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2D3-592F-4509-A9BC-19E442DD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A089-4553-4710-B3C2-00492D286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DDE5-2557-4C8B-B65B-0A7033FBC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АСТЕР – КЛАСС</a:t>
            </a:r>
            <a:br>
              <a:rPr sz="36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«УМЕЙ ОБЩАТЬСЯ СО ВСЕМИ И ВСЕГДА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3868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т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ы «Девчат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шина И.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3860640"/>
            <a:ext cx="33433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актическая часть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7690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ст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Приятно ли с вами общаться?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751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считайте очк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1-30 очк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Ты человек очень общительный, обладающий высоким уровнем коммуникативных навыков, получающий большое удовлетворение от контактов с близкими, знакомыми и не знакомыми люд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1-20 очк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Ты человек в меру общительный, средний уровень развития коммуникативных навыков в общении иногда испытываешь затруднения. Друзей у тебя мало, со знакомыми всегда можешь найти общий язык, иногда неуверен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  очков и мене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Ты человек стеснительный. В кругу знакомых предпочитаешь отмалчиваться, но друзья у тебя есть, они ценят тебя за такие качества, как умение слушать, понять, прост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0074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фликт – это такая ситуация, при которой происходит столкновение двух различных противоположных точек зрения, мнений, с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идерландская модель социальной адаптации дете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ботка навыков состоит из 13 этап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думывание 5-6 шагов по его осво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211" t="31881" r="5733" b="41427"/>
          <a:stretch/>
        </p:blipFill>
        <p:spPr>
          <a:xfrm>
            <a:off x="1692360" y="4005360"/>
            <a:ext cx="561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а «Садовни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ит педагогическим корректированием практики общения детей в группе, повышением уровня общения и научением их культуре взаимо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792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УДРЫЕ МЫС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514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Есть только одна подлинная ценность – это связь человека с человеком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. Де Сент – Экзюп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19640" y="1989000"/>
            <a:ext cx="33609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УДРЫЕ МЫС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514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заимную беседу следует вести так, чтобы каждый из собеседников извлёк из неё пользу, приобретя больше знан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2529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УДРЫЕ МЫС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514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Тот, кто думает, что может обойтись без других сильно ошибается; но тот, кто думает, что другие не могут обойтись без него, ошибается ещё сильне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ф. Де Ларошфу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15040" y="2000160"/>
            <a:ext cx="3133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76360" y="476280"/>
            <a:ext cx="6624720" cy="1224000"/>
          </a:xfrm>
          <a:custGeom>
            <a:avLst/>
            <a:gdLst>
              <a:gd name="textAreaLeft" fmla="*/ 1656000 w 6624720"/>
              <a:gd name="textAreaRight" fmla="*/ 4968720 w 6624720"/>
              <a:gd name="textAreaTop" fmla="*/ 15300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2421000"/>
            <a:ext cx="288144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2421000"/>
            <a:ext cx="288144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УЖКОВ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4581360"/>
            <a:ext cx="288144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Т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4581360"/>
            <a:ext cx="288144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ЛЕНДАРНО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ЕМАТИЧЕСК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56000" y="1700280"/>
            <a:ext cx="107928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1700280"/>
            <a:ext cx="1152360" cy="64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34920" y="1700280"/>
            <a:ext cx="505080" cy="288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700280"/>
            <a:ext cx="719280" cy="29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ОГРАММА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Основы конструктивного общения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588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Цель: воспитание и развитие коммуникативных навыков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781000"/>
            <a:ext cx="80074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Мотивировать детей к самопознанию и познанию други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Раскрыть способности и возможности воспитан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Формировать навыки взаимодействия в групп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Обучать приёмам выхода из конфликтной ситу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ормы и приё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с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ы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ражн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нинг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г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туативный практику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97600" y="1905120"/>
            <a:ext cx="3566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зультаты работы по программ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очки свободно и открыто научились выражать свои мысли и чув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интересом и пониманием стали относиться к окружающи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азных жизненных ситуациях стараются принять самостоятельное реш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5:44:10Z</dcterms:created>
  <dc:creator>Надежда Анатольевна</dc:creator>
  <dc:description/>
  <dc:language>en-US</dc:language>
  <cp:lastModifiedBy>Надежда Анатольевна</cp:lastModifiedBy>
  <dcterms:modified xsi:type="dcterms:W3CDTF">2008-12-22T07:15:02Z</dcterms:modified>
  <cp:revision>2</cp:revision>
  <dc:subject/>
  <dc:title>МАСТЕР – КЛАСС «УМЕЙ ОБЩАТЬСЯ СО ВСЕМИ И ВСЕГДА»</dc:title>
</cp:coreProperties>
</file>