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535E-1C51-4873-B5C9-9D4E7349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CD87-F163-4F4E-BA56-511C6F30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0C94-363C-4270-8518-723E2CC7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A681-57C5-4AF4-AD0B-83E961AE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D1CC-C63D-45F1-8530-D87AD2E5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C3F6-F666-4438-B411-1C65E232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2BF7-687A-4F83-82F7-6688BCB0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71A3-21E1-4D53-A4E8-869A4AAF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CD4E-5EDC-4C07-A375-354A229A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FA4D-E26E-4FB4-A286-C36262D2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7FD7-9FB5-4646-A1E6-13F06401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24A3-6AF1-4DCE-8E70-B0290C7F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A44F-0E20-488F-A9C6-40DDC91F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626E-5E43-4C57-B5A1-EC38C46A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6370-1D14-4507-97CD-4882926F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0337-F4F1-4BE8-9F73-CF2F664C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BEAF-48A7-4F27-8F8B-BC22B3BA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9F4BF-0167-40DB-B853-C1E31671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96F25-E67D-4660-A495-DB673D68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614A9-3B03-4053-A8D7-BB12C7A4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6546F-0FF3-4EDF-83A9-0EF2DCC1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9308C-86E0-4176-8C41-BD866888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EBAC-2622-47BA-A5F8-35950DA7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9DFCC-0FBE-4BCC-80A6-6522AA10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539A5-9A6E-4C7F-8C4F-A818225E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16CD2-6BD0-4F25-877C-B1D99722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4C8BC-17E1-4DF0-97B3-AC7CE625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6B196-0565-49A6-9995-E64656CE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AF1DB-4B1C-4BED-9F2A-23666522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A6A68-6092-44B6-8EDD-9720CA8D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1F7C7-65BA-4B2D-B4AC-08E95FC4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E97CC-9522-4724-AD2F-A7219002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1C58A-BFCE-4879-8096-52F4EC0C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25DF-1A91-4EF8-B087-A7B36F08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3629E-22B4-44A3-B03A-28B5DB9F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D01C9-3BB1-4FD2-9AA5-7643D411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00A5D-EEA8-47CE-88C3-C87F9A57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F4905-F5B4-49D2-BC61-65CDDC52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71389-D634-4083-A3EC-35B5F008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0CD50-AEF5-4D90-A973-B2711D08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6CA8B-ED45-4058-92DD-685EDD6C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F4C87-41EC-4BE6-AE70-C65D5602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E866A-1BCF-4BB8-9431-53439777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30E1E-51DE-4A5C-B12C-9D2901C6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7349-70E6-48EB-8508-24B79179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DFAC0-A483-4DE8-9CA0-F3F0BD8D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84AD5-1764-4F67-9EE2-A17D3173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2990A-A423-4693-B14B-B28422AA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6E538-3DFA-4CCB-9403-30443CD9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81031-2DD3-42EB-B5C2-4C2F4BA2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DC0FE-1BFC-4000-B264-546A4A71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A2DE1-E750-476B-9FB8-874B4212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9D267-80B9-40DE-A21A-2078FCE5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094D4-E8F8-49F4-855C-F010A98E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0506C-02C3-4617-B33E-D7E683B6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FA5A-EC6F-4693-AF96-35E92AE3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C5812-8A9F-4693-94F5-D4CAE059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3E9F-55CF-4B8A-BDF7-9CFBABEB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3024-9E27-4D2A-B4E2-9D0B89F3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7602-0196-477C-981D-A80EF861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D044-72CF-4549-BEB0-3D95FD87C5A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90D6-525A-4CDC-AEBA-E94B1577257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B62A-F8D6-4F61-9AB8-24D86632510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EC79-800F-415D-A03E-6FBC50B56BB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B80D-A688-4045-9B76-D0E42279F19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C:\Users\KM\Desktop\картинки о школе\lgod1.jpg"/>
          <p:cNvPicPr/>
          <p:nvPr/>
        </p:nvPicPr>
        <p:blipFill>
          <a:blip r:embed="rId1"/>
          <a:stretch/>
        </p:blipFill>
        <p:spPr>
          <a:xfrm>
            <a:off x="357120" y="142920"/>
            <a:ext cx="2143080" cy="16635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43040" y="1428840"/>
            <a:ext cx="6686640" cy="6192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1610"/>
                </a:solidFill>
                <a:latin typeface="Arial Black"/>
              </a:rPr>
              <a:t>СОСТАВ: 21 ЧЕЛОВЕК</a:t>
            </a:r>
            <a:endParaRPr b="0" lang="en-US" sz="1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0" name="Прямоугольник 5"/>
          <p:cNvSpPr/>
          <p:nvPr/>
        </p:nvSpPr>
        <p:spPr>
          <a:xfrm>
            <a:off x="2071800" y="142920"/>
            <a:ext cx="621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 Black"/>
              </a:rPr>
              <a:t>МО КЛАССНЫХ РУКОВ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6"/>
          <p:cNvSpPr/>
          <p:nvPr/>
        </p:nvSpPr>
        <p:spPr>
          <a:xfrm>
            <a:off x="428760" y="1928880"/>
            <a:ext cx="84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ЦЕЛЬ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: ВЫРАБОТКА ЕДИНОЙ ПЕДАГОГИЧЕСКОЙ ПОЗ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ВОСПИТАЛЕЛЬНОГО ПРОЦЕССА ПО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МОДЕЛИРОВАНИЮ ЛИЧНОСТИ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285840" y="3571560"/>
            <a:ext cx="55720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00000"/>
                </a:solidFill>
                <a:latin typeface="Arial Black"/>
              </a:rPr>
              <a:t>ЗАДАЧИ:</a:t>
            </a:r>
            <a:r>
              <a:rPr b="1" lang="ru-RU" sz="1700" spc="-1" strike="noStrike">
                <a:solidFill>
                  <a:srgbClr val="4e1610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4e1610"/>
                </a:solidFill>
                <a:latin typeface="Arial Black"/>
              </a:rPr>
              <a:t>СОВЕРШЕНСТВОВАНИЕ ФОРМ И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1610"/>
                </a:solidFill>
                <a:latin typeface="Arial Black"/>
              </a:rPr>
              <a:t>                 </a:t>
            </a:r>
            <a:r>
              <a:rPr b="1" lang="ru-RU" sz="1600" spc="-1" strike="noStrike">
                <a:solidFill>
                  <a:srgbClr val="4e1610"/>
                </a:solidFill>
                <a:latin typeface="Arial Black"/>
              </a:rPr>
              <a:t>МЕТОДОВ ВОСПИТАНИЯ В ШКОЛЕ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1610"/>
                </a:solidFill>
                <a:latin typeface="Arial Black"/>
              </a:rPr>
              <a:t>                 </a:t>
            </a:r>
            <a:r>
              <a:rPr b="1" lang="ru-RU" sz="1600" spc="-1" strike="noStrike">
                <a:solidFill>
                  <a:srgbClr val="4e1610"/>
                </a:solidFill>
                <a:latin typeface="Arial Black"/>
              </a:rPr>
              <a:t>ЧЕРЕЗ ПОВЫШЕНИЕ  МАСТЕРСТВА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1610"/>
                </a:solidFill>
                <a:latin typeface="Arial Black"/>
              </a:rPr>
              <a:t>                 </a:t>
            </a:r>
            <a:r>
              <a:rPr b="1" lang="ru-RU" sz="1600" spc="-1" strike="noStrike">
                <a:solidFill>
                  <a:srgbClr val="4e1610"/>
                </a:solidFill>
                <a:latin typeface="Arial Black"/>
              </a:rPr>
              <a:t>КЛАССНОГО РУКОВОДИТЕЛЯ,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1610"/>
                </a:solidFill>
                <a:latin typeface="Arial Black"/>
              </a:rPr>
              <a:t>                 </a:t>
            </a:r>
            <a:r>
              <a:rPr b="1" lang="ru-RU" sz="1600" spc="-1" strike="noStrike">
                <a:solidFill>
                  <a:srgbClr val="4e1610"/>
                </a:solidFill>
                <a:latin typeface="Arial Black"/>
              </a:rPr>
              <a:t>СОЗДАНИЕ УСЛОВИЙ ДЛЯ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1610"/>
                </a:solidFill>
                <a:latin typeface="Arial Black"/>
              </a:rPr>
              <a:t>                 </a:t>
            </a:r>
            <a:r>
              <a:rPr b="1" lang="ru-RU" sz="1600" spc="-1" strike="noStrike">
                <a:solidFill>
                  <a:srgbClr val="4e1610"/>
                </a:solidFill>
                <a:latin typeface="Arial Black"/>
              </a:rPr>
              <a:t>САМОРАЗВИТИЯ И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1610"/>
                </a:solidFill>
                <a:latin typeface="Arial Black"/>
              </a:rPr>
              <a:t>                 </a:t>
            </a:r>
            <a:r>
              <a:rPr b="1" lang="ru-RU" sz="1600" spc="-1" strike="noStrike">
                <a:solidFill>
                  <a:srgbClr val="4e1610"/>
                </a:solidFill>
                <a:latin typeface="Arial Black"/>
              </a:rPr>
              <a:t>САМООБРАЗОВАНИЯ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1610"/>
                </a:solidFill>
                <a:latin typeface="Arial Black"/>
              </a:rPr>
              <a:t>                 </a:t>
            </a:r>
            <a:r>
              <a:rPr b="1" lang="ru-RU" sz="1600" spc="-1" strike="noStrike">
                <a:solidFill>
                  <a:srgbClr val="4e1610"/>
                </a:solidFill>
                <a:latin typeface="Arial Black"/>
              </a:rPr>
              <a:t>КАЖДОГО УЧЕНИКА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3" name="Picture 3" descr="C:\Users\KM\Desktop\картинки о школе\rad2.gif"/>
          <p:cNvPicPr/>
          <p:nvPr/>
        </p:nvPicPr>
        <p:blipFill>
          <a:blip r:embed="rId2"/>
          <a:stretch/>
        </p:blipFill>
        <p:spPr>
          <a:xfrm>
            <a:off x="6000840" y="3714840"/>
            <a:ext cx="285732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713880" y="14256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 Black"/>
              </a:rPr>
              <a:t>ФОРМЫ РАБОТЫ МО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 Black"/>
              </a:rPr>
              <a:t>КЛАССНЫХ РУКОВОДИТЕЛЕЙ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99680" y="2492280"/>
            <a:ext cx="3071880" cy="4222800"/>
          </a:xfrm>
          <a:prstGeom prst="rect">
            <a:avLst/>
          </a:prstGeom>
          <a:solidFill>
            <a:srgbClr val="ffffff"/>
          </a:solidFill>
          <a:ln w="22320">
            <a:solidFill>
              <a:srgbClr val="c00000"/>
            </a:solidFill>
            <a:miter/>
          </a:ln>
        </p:spPr>
        <p:txBody>
          <a:bodyPr bIns="9144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000" spc="-1" strike="noStrike">
                <a:solidFill>
                  <a:srgbClr val="4e1610"/>
                </a:solidFill>
                <a:latin typeface="Arial Black"/>
              </a:rPr>
              <a:t>ОБСУЖДЕНИЕ СОГЛАСОВАНИЕ ОТЧЕТ-АНАЛИЗ</a:t>
            </a:r>
            <a:br>
              <a:rPr sz="2000"/>
            </a:br>
            <a:r>
              <a:rPr b="0" lang="ru-RU" sz="2000" spc="-1" strike="noStrike">
                <a:solidFill>
                  <a:srgbClr val="4e1610"/>
                </a:solidFill>
                <a:latin typeface="Arial Black"/>
              </a:rPr>
              <a:t>КРУГЛЫЙ СТОЛ</a:t>
            </a:r>
            <a:br>
              <a:rPr sz="2000"/>
            </a:br>
            <a:r>
              <a:rPr b="0" lang="ru-RU" sz="2000" spc="-1" strike="noStrike">
                <a:solidFill>
                  <a:srgbClr val="4e1610"/>
                </a:solidFill>
                <a:latin typeface="Arial Black"/>
              </a:rPr>
              <a:t>ДИСКУССИЯ КОНСУЛЬТАЦИЯ</a:t>
            </a:r>
            <a:br>
              <a:rPr sz="2000"/>
            </a:br>
            <a:r>
              <a:rPr b="0" lang="ru-RU" sz="2000" spc="-1" strike="noStrike">
                <a:solidFill>
                  <a:srgbClr val="4e1610"/>
                </a:solidFill>
                <a:latin typeface="Arial Black"/>
              </a:rPr>
              <a:t>ОБМЕН ОПЫТОМ</a:t>
            </a:r>
            <a:br>
              <a:rPr sz="2000"/>
            </a:br>
            <a:r>
              <a:rPr b="0" lang="ru-RU" sz="2000" spc="-1" strike="noStrike">
                <a:solidFill>
                  <a:srgbClr val="4e1610"/>
                </a:solidFill>
                <a:latin typeface="Arial Black"/>
              </a:rPr>
              <a:t>АНКЕТИРОВАНИЕ</a:t>
            </a:r>
            <a:r>
              <a:rPr b="0" lang="ru-RU" sz="2200" spc="-1" strike="noStrike">
                <a:solidFill>
                  <a:srgbClr val="4e1610"/>
                </a:solidFill>
                <a:latin typeface="Arial Black"/>
              </a:rPr>
              <a:t> 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4e1610"/>
                </a:solidFill>
                <a:latin typeface="Calibri"/>
              </a:rPr>
              <a:t> </a:t>
            </a:r>
            <a:br>
              <a:rPr sz="2200"/>
            </a:br>
            <a:r>
              <a:rPr b="0" lang="ru-RU" sz="2200" spc="-1" strike="noStrike">
                <a:solidFill>
                  <a:srgbClr val="4e1610"/>
                </a:solidFill>
                <a:latin typeface="Calibri"/>
              </a:rPr>
              <a:t> 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Стрелка вправо 4"/>
          <p:cNvSpPr/>
          <p:nvPr/>
        </p:nvSpPr>
        <p:spPr>
          <a:xfrm>
            <a:off x="3714840" y="4221000"/>
            <a:ext cx="712800" cy="33516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трелка вправо 6"/>
          <p:cNvSpPr/>
          <p:nvPr/>
        </p:nvSpPr>
        <p:spPr>
          <a:xfrm rot="5400000">
            <a:off x="1661760" y="1766880"/>
            <a:ext cx="731880" cy="34128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fffff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трелка вправо 8"/>
          <p:cNvSpPr/>
          <p:nvPr/>
        </p:nvSpPr>
        <p:spPr>
          <a:xfrm rot="5400000">
            <a:off x="6305400" y="1766880"/>
            <a:ext cx="731880" cy="34128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fffff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0" descr="C:\Users\KM\Desktop\НИНА\IMG_4413.JPG"/>
          <p:cNvPicPr/>
          <p:nvPr/>
        </p:nvPicPr>
        <p:blipFill>
          <a:blip r:embed="rId1"/>
          <a:stretch/>
        </p:blipFill>
        <p:spPr>
          <a:xfrm>
            <a:off x="4500720" y="2492280"/>
            <a:ext cx="4443120" cy="411804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240" name="Picture 2" descr="C:\Users\KM\Desktop\картинки о школе\7021015-1-original.jpg"/>
          <p:cNvPicPr/>
          <p:nvPr/>
        </p:nvPicPr>
        <p:blipFill>
          <a:blip r:embed="rId2"/>
          <a:stretch/>
        </p:blipFill>
        <p:spPr>
          <a:xfrm>
            <a:off x="3357720" y="1143000"/>
            <a:ext cx="1720800" cy="17924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KM\Desktop\картинки о школе\21.jpg"/>
          <p:cNvPicPr/>
          <p:nvPr/>
        </p:nvPicPr>
        <p:blipFill>
          <a:blip r:embed="rId3"/>
          <a:stretch/>
        </p:blipFill>
        <p:spPr>
          <a:xfrm>
            <a:off x="3500280" y="4929120"/>
            <a:ext cx="13194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696464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611280" y="26028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 Black"/>
              </a:rPr>
              <a:t>ЗАСЕДАНИЕ МО КЛАССНЫХ РУКОВ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C:\Users\KM\Desktop\НИНА\IMG_4412.JPG"/>
          <p:cNvPicPr/>
          <p:nvPr/>
        </p:nvPicPr>
        <p:blipFill>
          <a:blip r:embed="rId1"/>
          <a:stretch/>
        </p:blipFill>
        <p:spPr>
          <a:xfrm>
            <a:off x="900000" y="1268280"/>
            <a:ext cx="7355160" cy="5185080"/>
          </a:xfrm>
          <a:prstGeom prst="rect">
            <a:avLst/>
          </a:prstGeom>
          <a:ln w="0">
            <a:noFill/>
          </a:ln>
        </p:spPr>
      </p:pic>
      <p:sp>
        <p:nvSpPr>
          <p:cNvPr id="246" name="Заголовок 2"/>
          <p:cNvSpPr/>
          <p:nvPr/>
        </p:nvSpPr>
        <p:spPr>
          <a:xfrm>
            <a:off x="682560" y="5589720"/>
            <a:ext cx="7850160" cy="1125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1610"/>
                </a:solidFill>
                <a:latin typeface="Arial Black"/>
              </a:rPr>
              <a:t>ВЫРАБОТКА ОСНОВНЫХ НАПРАВЛЕНИЙ РАБОТЫ, ГРАФИКА МЕРОПРИЯТИЙ, РАЗРАБОТКА ТРЕБОВАНИЙ, КОРРЕКТИРОВКА ПЛАНА, ПОЛУЧЕНИЕ РЕКОМЕНДАЦИЙ, ДЕЛАЕМ ВЫВОДЫ, ПОДВОДИМ ИТО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3"/>
          <p:cNvSpPr/>
          <p:nvPr/>
        </p:nvSpPr>
        <p:spPr>
          <a:xfrm>
            <a:off x="900000" y="404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 Black"/>
              </a:rPr>
              <a:t>ОБМЕН ОПЫТОМ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C:\Users\KM\Desktop\НИНА\IMG_4399.JPG"/>
          <p:cNvPicPr/>
          <p:nvPr/>
        </p:nvPicPr>
        <p:blipFill>
          <a:blip r:embed="rId1"/>
          <a:stretch/>
        </p:blipFill>
        <p:spPr>
          <a:xfrm>
            <a:off x="324000" y="1125360"/>
            <a:ext cx="4157640" cy="554364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249" name="Picture 3" descr="C:\Users\KM\Desktop\НИНА\IMG_4401.JPG"/>
          <p:cNvPicPr/>
          <p:nvPr/>
        </p:nvPicPr>
        <p:blipFill>
          <a:blip r:embed="rId2"/>
          <a:stretch/>
        </p:blipFill>
        <p:spPr>
          <a:xfrm>
            <a:off x="4716360" y="1125360"/>
            <a:ext cx="4103640" cy="547236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3"/>
          <p:cNvSpPr/>
          <p:nvPr/>
        </p:nvSpPr>
        <p:spPr>
          <a:xfrm>
            <a:off x="900000" y="404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 Black"/>
              </a:rPr>
              <a:t>АНАЛИЗ ОПЫТА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C:\Users\KM\Desktop\НИНА\IMG_4405.JPG"/>
          <p:cNvPicPr/>
          <p:nvPr/>
        </p:nvPicPr>
        <p:blipFill>
          <a:blip r:embed="rId1"/>
          <a:stretch/>
        </p:blipFill>
        <p:spPr>
          <a:xfrm>
            <a:off x="4932360" y="1197000"/>
            <a:ext cx="3887640" cy="518472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252" name="Picture 3" descr="C:\Users\KM\Desktop\НИНА\IMG_4408.JPG"/>
          <p:cNvPicPr/>
          <p:nvPr/>
        </p:nvPicPr>
        <p:blipFill>
          <a:blip r:embed="rId2"/>
          <a:stretch/>
        </p:blipFill>
        <p:spPr>
          <a:xfrm>
            <a:off x="468360" y="1197000"/>
            <a:ext cx="3921120" cy="522936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643040" y="1428480"/>
            <a:ext cx="5786640" cy="50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1610"/>
                </a:solidFill>
                <a:latin typeface="Arial Black"/>
              </a:rPr>
              <a:t>ВЫРАБОТАНЫ ОСНОВНЫЕ НАПРАВЛЕНИЯ ВОСПИТАТЕЛЬНОЙ РАБОТЫ;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00000"/>
                </a:solidFill>
                <a:latin typeface="Arial Black"/>
              </a:rPr>
              <a:t>ОРГАНИЗОВАНА РАБОТА ПО ФОРМИРОВАНИЮ ЗДОРОВОГО ОБРАЗА ЖИЗНИ;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1610"/>
                </a:solidFill>
                <a:latin typeface="Arial Black"/>
              </a:rPr>
              <a:t>ОСУЩЕСТВЛЯЕТСЯ СОВМЕСТНАЯ ДЕЯТЕЛЬНОСТЬ СЕМЬИ И ШКОЛЫ;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00000"/>
                </a:solidFill>
                <a:latin typeface="Arial Black"/>
              </a:rPr>
              <a:t>ВЕДЕТСЯ РАБОТА ПО ФОРМИРОВАНИЮ КУЛЬТУРЫ МЕЖЛИЧНОСТНЫХ ОТНОШЕНИЙ,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1610"/>
                </a:solidFill>
                <a:latin typeface="Arial Black"/>
              </a:rPr>
              <a:t>ОРГАНИЗОВАНА РАБОТА ПО ПАТРИОТИЧЕСКОМУ  ВОСПИТАНИЮ,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00000"/>
                </a:solidFill>
                <a:latin typeface="Arial Black"/>
              </a:rPr>
              <a:t>СОЗДАНА МЕТОДИЧЕСКАЯ КОПИЛКА «ИЗ ОПЫТА РАБОТЫ КЛАССНОГО РУКОВОДИТЕЛЯ; 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1610"/>
                </a:solidFill>
                <a:latin typeface="Arial Black"/>
              </a:rPr>
              <a:t>РАЗРАБОТАНЫ ЕДИНЫЕ ТРЕБОВАНИЯ ВЕДЕНИЯ ШКОЛЬНОЙ ДОКУМЕНТАЦИИ;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00000"/>
                </a:solidFill>
                <a:latin typeface="Arial Black"/>
              </a:rPr>
              <a:t>СОЗДАНЫ УСЛОВИЯ ДЛЯ РАЗВИТИЯ САМОСОЗНАНИЯ, АКТИВНОЙ ЖИЗНЕННОЙ ПОЗИЦИИ, ПОТРЕБНОСТИ К САМОСОВЕРШЕНСТВОВАНИЮ И САМОРАЗВИТИЮ КАЖДОГО ШКОЛЬНИКА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571680" y="214200"/>
            <a:ext cx="828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 Black"/>
              </a:rPr>
              <a:t>РЕЗУЛЬТАТИВНОСТЬ РАБОТЫ МО КЛАССНЫХ РУКОВ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C:\Users\KM\Desktop\картинки о школе\deti.jpg"/>
          <p:cNvPicPr/>
          <p:nvPr/>
        </p:nvPicPr>
        <p:blipFill>
          <a:blip r:embed="rId1"/>
          <a:stretch/>
        </p:blipFill>
        <p:spPr>
          <a:xfrm>
            <a:off x="7643880" y="1643040"/>
            <a:ext cx="1285920" cy="1243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C:\Users\KM\Desktop\картинки о школе\lgod1.jpg"/>
          <p:cNvPicPr/>
          <p:nvPr/>
        </p:nvPicPr>
        <p:blipFill>
          <a:blip r:embed="rId2"/>
          <a:stretch/>
        </p:blipFill>
        <p:spPr>
          <a:xfrm>
            <a:off x="142920" y="164304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C:\Users\KM\Desktop\картинки о школе\335ohp.jpg"/>
          <p:cNvPicPr/>
          <p:nvPr/>
        </p:nvPicPr>
        <p:blipFill>
          <a:blip r:embed="rId3"/>
          <a:stretch/>
        </p:blipFill>
        <p:spPr>
          <a:xfrm>
            <a:off x="214200" y="4705200"/>
            <a:ext cx="1500480" cy="1652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C:\Users\KM\Desktop\картинки о школе\kommunikasjon508.jpg"/>
          <p:cNvPicPr/>
          <p:nvPr/>
        </p:nvPicPr>
        <p:blipFill>
          <a:blip r:embed="rId4"/>
          <a:srcRect l="21181" t="0" r="21650" b="3184"/>
          <a:stretch/>
        </p:blipFill>
        <p:spPr>
          <a:xfrm>
            <a:off x="7143840" y="4643280"/>
            <a:ext cx="17859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10:32:10Z</dcterms:created>
  <dc:creator>KM</dc:creator>
  <dc:description/>
  <dc:language>en-US</dc:language>
  <cp:lastModifiedBy>Natasha</cp:lastModifiedBy>
  <dcterms:modified xsi:type="dcterms:W3CDTF">2012-03-11T04:56:46Z</dcterms:modified>
  <cp:revision>18</cp:revision>
  <dc:subject/>
  <dc:title>МО КЛАССНЫХ РУКОВОДИТЕЛЕЙ</dc:title>
</cp:coreProperties>
</file>