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9.png" ContentType="image/png"/>
  <Override PartName="/ppt/media/image6.gif" ContentType="image/gif"/>
  <Override PartName="/ppt/media/image7.png" ContentType="image/png"/>
  <Override PartName="/ppt/media/image5.gif" ContentType="image/gif"/>
  <Override PartName="/ppt/media/image8.png" ContentType="image/pn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995-E15C-4080-9D19-21F118FC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A5C-0C0F-4910-9387-57609223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CA5-98DA-48EA-B1AE-0634C7DE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999-5658-42C0-9BB2-AF00F8AD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F56-6CFF-4BB7-A718-E955B8C6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1AA-DF6D-4004-B608-CC13CBE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A6E-2597-4C94-A7F6-1A7BE13D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8E4-9E3F-49FC-91B6-A8A3FDF0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223-6F97-4C45-8874-80551AD2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A78-FC37-4309-A799-03393CB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A5A-F647-4064-80DB-9749475C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22A-A9EF-4BF7-A2B9-7FBC7C6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41AB-798E-4C42-B410-C45008D21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836640"/>
            <a:ext cx="3600360" cy="1079640"/>
          </a:xfrm>
          <a:prstGeom prst="cloudCallout">
            <a:avLst>
              <a:gd name="adj1" fmla="val -4189"/>
              <a:gd name="adj2" fmla="val 24703"/>
            </a:avLst>
          </a:prstGeom>
          <a:gradFill rotWithShape="0">
            <a:gsLst>
              <a:gs pos="0">
                <a:srgbClr val="33ccff"/>
              </a:gs>
              <a:gs pos="100000">
                <a:srgbClr val="ffffff">
                  <a:alpha val="86274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6600"/>
                </a:solidFill>
                <a:latin typeface="Times New Roman"/>
              </a:rPr>
              <a:t>Нахождение числа по его дроби</a:t>
            </a:r>
            <a:br>
              <a:rPr sz="7200"/>
            </a:b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46960" y="4214880"/>
            <a:ext cx="2597040" cy="2643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56000" y="260280"/>
            <a:ext cx="3600360" cy="1079640"/>
          </a:xfrm>
          <a:prstGeom prst="cloudCallout">
            <a:avLst>
              <a:gd name="adj1" fmla="val -4189"/>
              <a:gd name="adj2" fmla="val 4703"/>
            </a:avLst>
          </a:prstGeom>
          <a:gradFill rotWithShape="0">
            <a:gsLst>
              <a:gs pos="0">
                <a:srgbClr val="33ccff"/>
              </a:gs>
              <a:gs pos="100000">
                <a:srgbClr val="ffffff">
                  <a:alpha val="9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404640"/>
            <a:ext cx="3600360" cy="1079640"/>
          </a:xfrm>
          <a:prstGeom prst="cloudCallout">
            <a:avLst>
              <a:gd name="adj1" fmla="val -4189"/>
              <a:gd name="adj2" fmla="val 4703"/>
            </a:avLst>
          </a:prstGeom>
          <a:gradFill rotWithShape="0">
            <a:gsLst>
              <a:gs pos="0">
                <a:srgbClr val="33ccff"/>
              </a:gs>
              <a:gs pos="100000">
                <a:srgbClr val="ffffff">
                  <a:alpha val="84313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208240" cy="333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6308640"/>
            <a:ext cx="752760" cy="7524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15280" y="5866200"/>
            <a:ext cx="6648120" cy="1018440"/>
            <a:chOff x="215280" y="5866200"/>
            <a:chExt cx="6648120" cy="1018440"/>
          </a:xfrm>
        </p:grpSpPr>
        <p:grpSp>
          <p:nvGrpSpPr>
            <p:cNvPr id="49" name=""/>
            <p:cNvGrpSpPr/>
            <p:nvPr/>
          </p:nvGrpSpPr>
          <p:grpSpPr>
            <a:xfrm>
              <a:off x="6008040" y="5866200"/>
              <a:ext cx="602280" cy="384840"/>
              <a:chOff x="6008040" y="5866200"/>
              <a:chExt cx="602280" cy="3848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6008040" y="5944680"/>
                <a:ext cx="530640" cy="306360"/>
                <a:chOff x="6008040" y="5944680"/>
                <a:chExt cx="530640" cy="306360"/>
              </a:xfrm>
            </p:grpSpPr>
            <p:sp>
              <p:nvSpPr>
                <p:cNvPr id="51" name=""/>
                <p:cNvSpPr/>
                <p:nvPr/>
              </p:nvSpPr>
              <p:spPr>
                <a:xfrm flipH="1">
                  <a:off x="6171480" y="6061680"/>
                  <a:ext cx="222840" cy="189360"/>
                </a:xfrm>
                <a:custGeom>
                  <a:avLst/>
                  <a:gdLst/>
                  <a:ahLst/>
                  <a:rect l="l" t="t" r="r" b="b"/>
                  <a:pathLst>
                    <a:path w="328" h="504">
                      <a:moveTo>
                        <a:pt x="192" y="488"/>
                      </a:moveTo>
                      <a:cubicBezTo>
                        <a:pt x="152" y="488"/>
                        <a:pt x="80" y="504"/>
                        <a:pt x="48" y="488"/>
                      </a:cubicBezTo>
                      <a:cubicBezTo>
                        <a:pt x="16" y="472"/>
                        <a:pt x="0" y="432"/>
                        <a:pt x="0" y="392"/>
                      </a:cubicBezTo>
                      <a:cubicBezTo>
                        <a:pt x="0" y="352"/>
                        <a:pt x="40" y="304"/>
                        <a:pt x="48" y="248"/>
                      </a:cubicBezTo>
                      <a:cubicBezTo>
                        <a:pt x="56" y="192"/>
                        <a:pt x="40" y="96"/>
                        <a:pt x="48" y="56"/>
                      </a:cubicBezTo>
                      <a:cubicBezTo>
                        <a:pt x="56" y="16"/>
                        <a:pt x="64" y="16"/>
                        <a:pt x="96" y="8"/>
                      </a:cubicBezTo>
                      <a:cubicBezTo>
                        <a:pt x="128" y="0"/>
                        <a:pt x="208" y="0"/>
                        <a:pt x="240" y="8"/>
                      </a:cubicBezTo>
                      <a:cubicBezTo>
                        <a:pt x="272" y="16"/>
                        <a:pt x="280" y="40"/>
                        <a:pt x="288" y="56"/>
                      </a:cubicBezTo>
                      <a:cubicBezTo>
                        <a:pt x="296" y="72"/>
                        <a:pt x="288" y="80"/>
                        <a:pt x="288" y="104"/>
                      </a:cubicBezTo>
                      <a:cubicBezTo>
                        <a:pt x="288" y="128"/>
                        <a:pt x="288" y="168"/>
                        <a:pt x="288" y="200"/>
                      </a:cubicBezTo>
                      <a:cubicBezTo>
                        <a:pt x="288" y="232"/>
                        <a:pt x="281" y="257"/>
                        <a:pt x="288" y="296"/>
                      </a:cubicBezTo>
                      <a:cubicBezTo>
                        <a:pt x="295" y="335"/>
                        <a:pt x="328" y="403"/>
                        <a:pt x="328" y="435"/>
                      </a:cubicBezTo>
                      <a:cubicBezTo>
                        <a:pt x="328" y="467"/>
                        <a:pt x="311" y="479"/>
                        <a:pt x="288" y="488"/>
                      </a:cubicBezTo>
                      <a:cubicBezTo>
                        <a:pt x="265" y="497"/>
                        <a:pt x="232" y="488"/>
                        <a:pt x="192" y="488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H="1">
                  <a:off x="6008040" y="5944680"/>
                  <a:ext cx="530640" cy="156240"/>
                </a:xfrm>
                <a:custGeom>
                  <a:avLst/>
                  <a:gdLst/>
                  <a:ahLst/>
                  <a:rect l="l" t="t" r="r" b="b"/>
                  <a:pathLst>
                    <a:path w="781" h="416">
                      <a:moveTo>
                        <a:pt x="674" y="350"/>
                      </a:moveTo>
                      <a:cubicBezTo>
                        <a:pt x="669" y="354"/>
                        <a:pt x="665" y="350"/>
                        <a:pt x="644" y="360"/>
                      </a:cubicBezTo>
                      <a:cubicBezTo>
                        <a:pt x="623" y="370"/>
                        <a:pt x="596" y="400"/>
                        <a:pt x="548" y="408"/>
                      </a:cubicBezTo>
                      <a:cubicBezTo>
                        <a:pt x="500" y="416"/>
                        <a:pt x="428" y="416"/>
                        <a:pt x="356" y="408"/>
                      </a:cubicBezTo>
                      <a:cubicBezTo>
                        <a:pt x="284" y="400"/>
                        <a:pt x="171" y="372"/>
                        <a:pt x="116" y="360"/>
                      </a:cubicBezTo>
                      <a:cubicBezTo>
                        <a:pt x="61" y="348"/>
                        <a:pt x="41" y="352"/>
                        <a:pt x="23" y="335"/>
                      </a:cubicBezTo>
                      <a:cubicBezTo>
                        <a:pt x="5" y="318"/>
                        <a:pt x="0" y="287"/>
                        <a:pt x="7" y="259"/>
                      </a:cubicBezTo>
                      <a:cubicBezTo>
                        <a:pt x="14" y="231"/>
                        <a:pt x="7" y="208"/>
                        <a:pt x="68" y="168"/>
                      </a:cubicBezTo>
                      <a:cubicBezTo>
                        <a:pt x="129" y="128"/>
                        <a:pt x="291" y="32"/>
                        <a:pt x="371" y="16"/>
                      </a:cubicBezTo>
                      <a:cubicBezTo>
                        <a:pt x="451" y="0"/>
                        <a:pt x="487" y="47"/>
                        <a:pt x="548" y="72"/>
                      </a:cubicBezTo>
                      <a:cubicBezTo>
                        <a:pt x="609" y="97"/>
                        <a:pt x="701" y="142"/>
                        <a:pt x="740" y="168"/>
                      </a:cubicBezTo>
                      <a:cubicBezTo>
                        <a:pt x="779" y="194"/>
                        <a:pt x="781" y="209"/>
                        <a:pt x="780" y="229"/>
                      </a:cubicBezTo>
                      <a:cubicBezTo>
                        <a:pt x="779" y="249"/>
                        <a:pt x="774" y="259"/>
                        <a:pt x="735" y="289"/>
                      </a:cubicBezTo>
                      <a:cubicBezTo>
                        <a:pt x="696" y="319"/>
                        <a:pt x="587" y="383"/>
                        <a:pt x="548" y="40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6107400" y="5866200"/>
                <a:ext cx="502920" cy="288720"/>
                <a:chOff x="6107400" y="5866200"/>
                <a:chExt cx="502920" cy="288720"/>
              </a:xfrm>
            </p:grpSpPr>
            <p:sp>
              <p:nvSpPr>
                <p:cNvPr id="54" name=""/>
                <p:cNvSpPr/>
                <p:nvPr/>
              </p:nvSpPr>
              <p:spPr>
                <a:xfrm rot="18155400">
                  <a:off x="6442920" y="5870880"/>
                  <a:ext cx="95760" cy="221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" name=""/>
                <p:cNvGrpSpPr/>
                <p:nvPr/>
              </p:nvGrpSpPr>
              <p:grpSpPr>
                <a:xfrm>
                  <a:off x="6107400" y="5866200"/>
                  <a:ext cx="415440" cy="288720"/>
                  <a:chOff x="6107400" y="5866200"/>
                  <a:chExt cx="415440" cy="288720"/>
                </a:xfrm>
              </p:grpSpPr>
              <p:grpSp>
                <p:nvGrpSpPr>
                  <p:cNvPr id="56" name=""/>
                  <p:cNvGrpSpPr/>
                  <p:nvPr/>
                </p:nvGrpSpPr>
                <p:grpSpPr>
                  <a:xfrm>
                    <a:off x="6107400" y="5866200"/>
                    <a:ext cx="415440" cy="288720"/>
                    <a:chOff x="6107400" y="5866200"/>
                    <a:chExt cx="415440" cy="28872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rot="19953000">
                      <a:off x="6098400" y="5954400"/>
                      <a:ext cx="3978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251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2960" bIns="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rot="19953000">
                      <a:off x="6121440" y="5987880"/>
                      <a:ext cx="40644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81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" name=""/>
                  <p:cNvSpPr/>
                  <p:nvPr/>
                </p:nvSpPr>
                <p:spPr>
                  <a:xfrm rot="19953000">
                    <a:off x="6414480" y="5933160"/>
                    <a:ext cx="406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rot="19953000">
                    <a:off x="6364440" y="5959440"/>
                    <a:ext cx="406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9953000">
                    <a:off x="6314400" y="599508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9953000">
                    <a:off x="6330600" y="593784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9953000">
                    <a:off x="6369120" y="5913360"/>
                    <a:ext cx="561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" name=""/>
            <p:cNvGrpSpPr/>
            <p:nvPr/>
          </p:nvGrpSpPr>
          <p:grpSpPr>
            <a:xfrm>
              <a:off x="1726560" y="5943960"/>
              <a:ext cx="383400" cy="388080"/>
              <a:chOff x="1726560" y="5943960"/>
              <a:chExt cx="383400" cy="388080"/>
            </a:xfrm>
          </p:grpSpPr>
          <p:sp>
            <p:nvSpPr>
              <p:cNvPr id="65" name=""/>
              <p:cNvSpPr/>
              <p:nvPr/>
            </p:nvSpPr>
            <p:spPr>
              <a:xfrm rot="1864800">
                <a:off x="1769040" y="6117840"/>
                <a:ext cx="148320" cy="189360"/>
              </a:xfrm>
              <a:custGeom>
                <a:avLst/>
                <a:gdLst/>
                <a:ahLst/>
                <a:rect l="l" t="t" r="r" b="b"/>
                <a:pathLst>
                  <a:path w="328" h="504">
                    <a:moveTo>
                      <a:pt x="192" y="488"/>
                    </a:moveTo>
                    <a:cubicBezTo>
                      <a:pt x="152" y="488"/>
                      <a:pt x="80" y="504"/>
                      <a:pt x="48" y="488"/>
                    </a:cubicBezTo>
                    <a:cubicBezTo>
                      <a:pt x="16" y="472"/>
                      <a:pt x="0" y="432"/>
                      <a:pt x="0" y="392"/>
                    </a:cubicBezTo>
                    <a:cubicBezTo>
                      <a:pt x="0" y="352"/>
                      <a:pt x="40" y="304"/>
                      <a:pt x="48" y="248"/>
                    </a:cubicBezTo>
                    <a:cubicBezTo>
                      <a:pt x="56" y="192"/>
                      <a:pt x="40" y="96"/>
                      <a:pt x="48" y="56"/>
                    </a:cubicBezTo>
                    <a:cubicBezTo>
                      <a:pt x="56" y="16"/>
                      <a:pt x="64" y="16"/>
                      <a:pt x="96" y="8"/>
                    </a:cubicBezTo>
                    <a:cubicBezTo>
                      <a:pt x="128" y="0"/>
                      <a:pt x="208" y="0"/>
                      <a:pt x="240" y="8"/>
                    </a:cubicBezTo>
                    <a:cubicBezTo>
                      <a:pt x="272" y="16"/>
                      <a:pt x="280" y="40"/>
                      <a:pt x="288" y="56"/>
                    </a:cubicBezTo>
                    <a:cubicBezTo>
                      <a:pt x="296" y="72"/>
                      <a:pt x="288" y="80"/>
                      <a:pt x="288" y="104"/>
                    </a:cubicBezTo>
                    <a:cubicBezTo>
                      <a:pt x="288" y="128"/>
                      <a:pt x="288" y="168"/>
                      <a:pt x="288" y="200"/>
                    </a:cubicBezTo>
                    <a:cubicBezTo>
                      <a:pt x="288" y="232"/>
                      <a:pt x="281" y="257"/>
                      <a:pt x="288" y="296"/>
                    </a:cubicBezTo>
                    <a:cubicBezTo>
                      <a:pt x="295" y="335"/>
                      <a:pt x="328" y="403"/>
                      <a:pt x="328" y="435"/>
                    </a:cubicBezTo>
                    <a:cubicBezTo>
                      <a:pt x="328" y="467"/>
                      <a:pt x="311" y="479"/>
                      <a:pt x="288" y="488"/>
                    </a:cubicBezTo>
                    <a:cubicBezTo>
                      <a:pt x="265" y="497"/>
                      <a:pt x="232" y="488"/>
                      <a:pt x="192" y="488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864800">
                <a:off x="1741320" y="6023880"/>
                <a:ext cx="353520" cy="15624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solidFill>
                <a:srgbClr val="68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348920" y="5877000"/>
              <a:ext cx="589320" cy="408600"/>
              <a:chOff x="1348920" y="5877000"/>
              <a:chExt cx="589320" cy="408600"/>
            </a:xfrm>
          </p:grpSpPr>
          <p:sp>
            <p:nvSpPr>
              <p:cNvPr id="68" name=""/>
              <p:cNvSpPr/>
              <p:nvPr/>
            </p:nvSpPr>
            <p:spPr>
              <a:xfrm>
                <a:off x="1508760" y="6033240"/>
                <a:ext cx="247320" cy="252360"/>
              </a:xfrm>
              <a:custGeom>
                <a:avLst/>
                <a:gdLst/>
                <a:ahLst/>
                <a:rect l="l" t="t" r="r" b="b"/>
                <a:pathLst>
                  <a:path w="328" h="504">
                    <a:moveTo>
                      <a:pt x="192" y="488"/>
                    </a:moveTo>
                    <a:cubicBezTo>
                      <a:pt x="152" y="488"/>
                      <a:pt x="80" y="504"/>
                      <a:pt x="48" y="488"/>
                    </a:cubicBezTo>
                    <a:cubicBezTo>
                      <a:pt x="16" y="472"/>
                      <a:pt x="0" y="432"/>
                      <a:pt x="0" y="392"/>
                    </a:cubicBezTo>
                    <a:cubicBezTo>
                      <a:pt x="0" y="352"/>
                      <a:pt x="40" y="304"/>
                      <a:pt x="48" y="248"/>
                    </a:cubicBezTo>
                    <a:cubicBezTo>
                      <a:pt x="56" y="192"/>
                      <a:pt x="40" y="96"/>
                      <a:pt x="48" y="56"/>
                    </a:cubicBezTo>
                    <a:cubicBezTo>
                      <a:pt x="56" y="16"/>
                      <a:pt x="64" y="16"/>
                      <a:pt x="96" y="8"/>
                    </a:cubicBezTo>
                    <a:cubicBezTo>
                      <a:pt x="128" y="0"/>
                      <a:pt x="208" y="0"/>
                      <a:pt x="240" y="8"/>
                    </a:cubicBezTo>
                    <a:cubicBezTo>
                      <a:pt x="272" y="16"/>
                      <a:pt x="280" y="40"/>
                      <a:pt x="288" y="56"/>
                    </a:cubicBezTo>
                    <a:cubicBezTo>
                      <a:pt x="296" y="72"/>
                      <a:pt x="288" y="80"/>
                      <a:pt x="288" y="104"/>
                    </a:cubicBezTo>
                    <a:cubicBezTo>
                      <a:pt x="288" y="128"/>
                      <a:pt x="288" y="168"/>
                      <a:pt x="288" y="200"/>
                    </a:cubicBezTo>
                    <a:cubicBezTo>
                      <a:pt x="288" y="232"/>
                      <a:pt x="281" y="257"/>
                      <a:pt x="288" y="296"/>
                    </a:cubicBezTo>
                    <a:cubicBezTo>
                      <a:pt x="295" y="335"/>
                      <a:pt x="328" y="403"/>
                      <a:pt x="328" y="435"/>
                    </a:cubicBezTo>
                    <a:cubicBezTo>
                      <a:pt x="328" y="467"/>
                      <a:pt x="311" y="479"/>
                      <a:pt x="288" y="488"/>
                    </a:cubicBezTo>
                    <a:cubicBezTo>
                      <a:pt x="265" y="497"/>
                      <a:pt x="232" y="488"/>
                      <a:pt x="192" y="488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48920" y="5877000"/>
                <a:ext cx="589320" cy="20844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594760" y="6418800"/>
              <a:ext cx="114480" cy="35280"/>
              <a:chOff x="5594760" y="6418800"/>
              <a:chExt cx="114480" cy="35280"/>
            </a:xfrm>
          </p:grpSpPr>
          <p:sp>
            <p:nvSpPr>
              <p:cNvPr id="71" name=""/>
              <p:cNvSpPr/>
              <p:nvPr/>
            </p:nvSpPr>
            <p:spPr>
              <a:xfrm rot="201000">
                <a:off x="5595480" y="6420240"/>
                <a:ext cx="53280" cy="32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201000">
                <a:off x="5653080" y="6423480"/>
                <a:ext cx="55080" cy="27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886720" y="6291720"/>
              <a:ext cx="472320" cy="131760"/>
              <a:chOff x="5886720" y="6291720"/>
              <a:chExt cx="472320" cy="131760"/>
            </a:xfrm>
          </p:grpSpPr>
          <p:sp>
            <p:nvSpPr>
              <p:cNvPr id="74" name=""/>
              <p:cNvSpPr/>
              <p:nvPr/>
            </p:nvSpPr>
            <p:spPr>
              <a:xfrm rot="420600">
                <a:off x="5891040" y="6304680"/>
                <a:ext cx="219960" cy="885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20600">
                <a:off x="6127920" y="6334560"/>
                <a:ext cx="227160" cy="75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064120" y="6486480"/>
              <a:ext cx="130680" cy="36720"/>
              <a:chOff x="5064120" y="6486480"/>
              <a:chExt cx="130680" cy="36720"/>
            </a:xfrm>
          </p:grpSpPr>
          <p:sp>
            <p:nvSpPr>
              <p:cNvPr id="77" name=""/>
              <p:cNvSpPr/>
              <p:nvPr/>
            </p:nvSpPr>
            <p:spPr>
              <a:xfrm rot="201000">
                <a:off x="5064840" y="6487920"/>
                <a:ext cx="60840" cy="331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01000">
                <a:off x="5130720" y="6491880"/>
                <a:ext cx="63000" cy="28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361200" y="6418440"/>
              <a:ext cx="130680" cy="37440"/>
              <a:chOff x="6361200" y="6418440"/>
              <a:chExt cx="130680" cy="37440"/>
            </a:xfrm>
          </p:grpSpPr>
          <p:sp>
            <p:nvSpPr>
              <p:cNvPr id="80" name=""/>
              <p:cNvSpPr/>
              <p:nvPr/>
            </p:nvSpPr>
            <p:spPr>
              <a:xfrm rot="201000">
                <a:off x="6361920" y="6419880"/>
                <a:ext cx="60840" cy="33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01000">
                <a:off x="6427800" y="6423840"/>
                <a:ext cx="63000" cy="288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88880" y="6428160"/>
              <a:ext cx="472680" cy="131760"/>
              <a:chOff x="2288880" y="6428160"/>
              <a:chExt cx="472680" cy="131760"/>
            </a:xfrm>
          </p:grpSpPr>
          <p:sp>
            <p:nvSpPr>
              <p:cNvPr id="83" name=""/>
              <p:cNvSpPr/>
              <p:nvPr/>
            </p:nvSpPr>
            <p:spPr>
              <a:xfrm rot="420600">
                <a:off x="2293200" y="6441120"/>
                <a:ext cx="219960" cy="885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420600">
                <a:off x="2530440" y="6471000"/>
                <a:ext cx="227160" cy="75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358960" y="6486480"/>
              <a:ext cx="130680" cy="36720"/>
              <a:chOff x="5358960" y="6486480"/>
              <a:chExt cx="130680" cy="36720"/>
            </a:xfrm>
          </p:grpSpPr>
          <p:sp>
            <p:nvSpPr>
              <p:cNvPr id="86" name=""/>
              <p:cNvSpPr/>
              <p:nvPr/>
            </p:nvSpPr>
            <p:spPr>
              <a:xfrm rot="201000">
                <a:off x="5359680" y="6487920"/>
                <a:ext cx="60840" cy="331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01000">
                <a:off x="5425560" y="6491880"/>
                <a:ext cx="63000" cy="28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771880" y="6418800"/>
              <a:ext cx="114480" cy="35280"/>
              <a:chOff x="5771880" y="6418800"/>
              <a:chExt cx="114480" cy="35280"/>
            </a:xfrm>
          </p:grpSpPr>
          <p:sp>
            <p:nvSpPr>
              <p:cNvPr id="89" name=""/>
              <p:cNvSpPr/>
              <p:nvPr/>
            </p:nvSpPr>
            <p:spPr>
              <a:xfrm rot="201000">
                <a:off x="5772600" y="6420240"/>
                <a:ext cx="53280" cy="32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01000">
                <a:off x="5830200" y="6423480"/>
                <a:ext cx="55080" cy="27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587640" y="6453000"/>
              <a:ext cx="129240" cy="37080"/>
              <a:chOff x="6587640" y="6453000"/>
              <a:chExt cx="129240" cy="37080"/>
            </a:xfrm>
          </p:grpSpPr>
          <p:sp>
            <p:nvSpPr>
              <p:cNvPr id="92" name=""/>
              <p:cNvSpPr/>
              <p:nvPr/>
            </p:nvSpPr>
            <p:spPr>
              <a:xfrm rot="201000">
                <a:off x="6588360" y="6454440"/>
                <a:ext cx="60120" cy="334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201000">
                <a:off x="6653520" y="6458040"/>
                <a:ext cx="62280" cy="28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005080" y="6418440"/>
              <a:ext cx="130680" cy="37080"/>
              <a:chOff x="5005080" y="6418440"/>
              <a:chExt cx="130680" cy="37080"/>
            </a:xfrm>
          </p:grpSpPr>
          <p:sp>
            <p:nvSpPr>
              <p:cNvPr id="95" name=""/>
              <p:cNvSpPr/>
              <p:nvPr/>
            </p:nvSpPr>
            <p:spPr>
              <a:xfrm rot="201000">
                <a:off x="5005800" y="6419880"/>
                <a:ext cx="60840" cy="334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1000">
                <a:off x="5071680" y="6423840"/>
                <a:ext cx="63000" cy="28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418000" y="6418440"/>
              <a:ext cx="130680" cy="37080"/>
              <a:chOff x="5418000" y="6418440"/>
              <a:chExt cx="130680" cy="37080"/>
            </a:xfrm>
          </p:grpSpPr>
          <p:sp>
            <p:nvSpPr>
              <p:cNvPr id="98" name=""/>
              <p:cNvSpPr/>
              <p:nvPr/>
            </p:nvSpPr>
            <p:spPr>
              <a:xfrm rot="201000">
                <a:off x="5418720" y="6419880"/>
                <a:ext cx="60840" cy="334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1000">
                <a:off x="5484600" y="6423840"/>
                <a:ext cx="63000" cy="28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122800" y="6418440"/>
              <a:ext cx="130680" cy="37080"/>
              <a:chOff x="5122800" y="6418440"/>
              <a:chExt cx="130680" cy="37080"/>
            </a:xfrm>
          </p:grpSpPr>
          <p:sp>
            <p:nvSpPr>
              <p:cNvPr id="101" name=""/>
              <p:cNvSpPr/>
              <p:nvPr/>
            </p:nvSpPr>
            <p:spPr>
              <a:xfrm rot="201000">
                <a:off x="5123520" y="6419880"/>
                <a:ext cx="60840" cy="334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01000">
                <a:off x="5189400" y="6423840"/>
                <a:ext cx="63000" cy="28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712840" y="6486480"/>
              <a:ext cx="130680" cy="36720"/>
              <a:chOff x="5712840" y="6486480"/>
              <a:chExt cx="130680" cy="36720"/>
            </a:xfrm>
          </p:grpSpPr>
          <p:sp>
            <p:nvSpPr>
              <p:cNvPr id="104" name=""/>
              <p:cNvSpPr/>
              <p:nvPr/>
            </p:nvSpPr>
            <p:spPr>
              <a:xfrm rot="201000">
                <a:off x="5713560" y="6487920"/>
                <a:ext cx="60840" cy="331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1000">
                <a:off x="5779440" y="6491880"/>
                <a:ext cx="63000" cy="28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27960" y="6515280"/>
              <a:ext cx="1132200" cy="256680"/>
              <a:chOff x="327960" y="6515280"/>
              <a:chExt cx="1132200" cy="25668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327960" y="6515280"/>
                <a:ext cx="624960" cy="173880"/>
                <a:chOff x="327960" y="6515280"/>
                <a:chExt cx="624960" cy="17388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327960" y="6515280"/>
                  <a:ext cx="311400" cy="159480"/>
                  <a:chOff x="327960" y="6515280"/>
                  <a:chExt cx="311400" cy="159480"/>
                </a:xfrm>
              </p:grpSpPr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524880" y="6515280"/>
                    <a:ext cx="114480" cy="107640"/>
                    <a:chOff x="524880" y="6515280"/>
                    <a:chExt cx="114480" cy="10764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flipH="1" rot="21429000">
                      <a:off x="527040" y="6517800"/>
                      <a:ext cx="10980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flipH="1" rot="21429000">
                      <a:off x="531720" y="6519960"/>
                      <a:ext cx="7128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446400" y="6526080"/>
                    <a:ext cx="125280" cy="118800"/>
                    <a:chOff x="446400" y="6526080"/>
                    <a:chExt cx="125280" cy="11880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 flipH="1" rot="20978400">
                      <a:off x="453960" y="6535080"/>
                      <a:ext cx="1098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H="1" rot="20978400">
                      <a:off x="460440" y="6539040"/>
                      <a:ext cx="7092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327960" y="6534000"/>
                    <a:ext cx="142200" cy="140760"/>
                    <a:chOff x="327960" y="6534000"/>
                    <a:chExt cx="142200" cy="14076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 flipH="1" rot="19872000">
                      <a:off x="343800" y="6554520"/>
                      <a:ext cx="10980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flipH="1" rot="19872000">
                      <a:off x="352440" y="6563160"/>
                      <a:ext cx="7128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41520" y="6522480"/>
                  <a:ext cx="311400" cy="166680"/>
                  <a:chOff x="641520" y="6522480"/>
                  <a:chExt cx="311400" cy="166680"/>
                </a:xfrm>
              </p:grpSpPr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641520" y="6522480"/>
                    <a:ext cx="117000" cy="110160"/>
                    <a:chOff x="641520" y="6522480"/>
                    <a:chExt cx="117000" cy="1101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274200">
                      <a:off x="644760" y="6526440"/>
                      <a:ext cx="10980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274200">
                      <a:off x="677880" y="6528960"/>
                      <a:ext cx="7128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709200" y="6535440"/>
                    <a:ext cx="127080" cy="122040"/>
                    <a:chOff x="709200" y="6535440"/>
                    <a:chExt cx="127080" cy="1220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 rot="724800">
                      <a:off x="717480" y="6545520"/>
                      <a:ext cx="1098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 rot="724800">
                      <a:off x="749880" y="6550560"/>
                      <a:ext cx="7128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809640" y="6547680"/>
                    <a:ext cx="143280" cy="141480"/>
                    <a:chOff x="809640" y="6547680"/>
                    <a:chExt cx="143280" cy="14148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 rot="1831200">
                      <a:off x="826200" y="6568920"/>
                      <a:ext cx="10980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rot="1831200">
                      <a:off x="856440" y="6576840"/>
                      <a:ext cx="7128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8" name=""/>
              <p:cNvGrpSpPr/>
              <p:nvPr/>
            </p:nvGrpSpPr>
            <p:grpSpPr>
              <a:xfrm>
                <a:off x="843840" y="6556320"/>
                <a:ext cx="616320" cy="215640"/>
                <a:chOff x="843840" y="6556320"/>
                <a:chExt cx="616320" cy="215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1150200" y="6567120"/>
                  <a:ext cx="309960" cy="204840"/>
                  <a:chOff x="1150200" y="6567120"/>
                  <a:chExt cx="309960" cy="20484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1150200" y="6567120"/>
                    <a:ext cx="129240" cy="124560"/>
                    <a:chOff x="1150200" y="6567120"/>
                    <a:chExt cx="129240" cy="12456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 rot="829800">
                      <a:off x="1159560" y="6578640"/>
                      <a:ext cx="10980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rot="829800">
                      <a:off x="1192320" y="6583680"/>
                      <a:ext cx="7128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215000" y="6593040"/>
                    <a:ext cx="136800" cy="133200"/>
                    <a:chOff x="1215000" y="6593040"/>
                    <a:chExt cx="136800" cy="13320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 rot="1280400">
                      <a:off x="1228320" y="6609600"/>
                      <a:ext cx="1098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rot="1280400">
                      <a:off x="1258920" y="6615720"/>
                      <a:ext cx="7128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314720" y="6625440"/>
                    <a:ext cx="145440" cy="146520"/>
                    <a:chOff x="1314720" y="6625440"/>
                    <a:chExt cx="145440" cy="1465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rot="2386800">
                      <a:off x="1332360" y="6649200"/>
                      <a:ext cx="10980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rot="2386800">
                      <a:off x="1359720" y="6659640"/>
                      <a:ext cx="7164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843840" y="6556320"/>
                  <a:ext cx="313200" cy="131040"/>
                  <a:chOff x="843840" y="6556320"/>
                  <a:chExt cx="313200" cy="131040"/>
                </a:xfrm>
              </p:grpSpPr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1037160" y="6558840"/>
                    <a:ext cx="119880" cy="110160"/>
                    <a:chOff x="1037160" y="6558840"/>
                    <a:chExt cx="119880" cy="1101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 flipH="1" rot="384600">
                      <a:off x="1041480" y="6564600"/>
                      <a:ext cx="10980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H="1" rot="384600">
                      <a:off x="1047240" y="6564600"/>
                      <a:ext cx="7128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966600" y="6568920"/>
                    <a:ext cx="111600" cy="104400"/>
                    <a:chOff x="966600" y="6568920"/>
                    <a:chExt cx="111600" cy="10440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 flipH="1" rot="21534000">
                      <a:off x="967320" y="6569640"/>
                      <a:ext cx="1098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 flipH="1" rot="21534000">
                      <a:off x="972000" y="6571800"/>
                      <a:ext cx="7128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843840" y="6556320"/>
                    <a:ext cx="135360" cy="131040"/>
                    <a:chOff x="843840" y="6556320"/>
                    <a:chExt cx="135360" cy="13104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 flipH="1" rot="20427600">
                      <a:off x="856440" y="6571800"/>
                      <a:ext cx="10980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 flipH="1" rot="20427600">
                      <a:off x="862920" y="6577920"/>
                      <a:ext cx="7128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49" name=""/>
            <p:cNvGrpSpPr/>
            <p:nvPr/>
          </p:nvGrpSpPr>
          <p:grpSpPr>
            <a:xfrm>
              <a:off x="3097440" y="6659640"/>
              <a:ext cx="1295640" cy="205920"/>
              <a:chOff x="3097440" y="6659640"/>
              <a:chExt cx="1295640" cy="20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3097440" y="6659640"/>
                <a:ext cx="709560" cy="205920"/>
                <a:chOff x="3097440" y="6659640"/>
                <a:chExt cx="709560" cy="20592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3097440" y="6659640"/>
                  <a:ext cx="354960" cy="205920"/>
                  <a:chOff x="3097440" y="6659640"/>
                  <a:chExt cx="354960" cy="205920"/>
                </a:xfrm>
              </p:grpSpPr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3313080" y="6659640"/>
                    <a:ext cx="139320" cy="130680"/>
                    <a:chOff x="3313080" y="6659640"/>
                    <a:chExt cx="139320" cy="13068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 flipH="1" rot="21099600">
                      <a:off x="3319920" y="66679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flipH="1" rot="21099600">
                      <a:off x="3325680" y="66711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3227400" y="6680520"/>
                    <a:ext cx="149400" cy="142920"/>
                    <a:chOff x="3227400" y="6680520"/>
                    <a:chExt cx="149400" cy="14292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 flipH="1" rot="20649000">
                      <a:off x="3239280" y="6695280"/>
                      <a:ext cx="12456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flipH="1" rot="20649000">
                      <a:off x="3246480" y="6701400"/>
                      <a:ext cx="806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3097440" y="6703200"/>
                    <a:ext cx="163800" cy="162360"/>
                    <a:chOff x="3097440" y="6703200"/>
                    <a:chExt cx="163800" cy="16236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flipH="1" rot="19542600">
                      <a:off x="3116160" y="672876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H="1" rot="19542600">
                      <a:off x="3126960" y="67392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3453840" y="6664320"/>
                  <a:ext cx="353160" cy="162720"/>
                  <a:chOff x="3453840" y="6664320"/>
                  <a:chExt cx="353160" cy="16272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3453840" y="6664320"/>
                    <a:ext cx="126720" cy="116640"/>
                    <a:chOff x="3453840" y="6664320"/>
                    <a:chExt cx="126720" cy="11664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44800">
                      <a:off x="3454560" y="666540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44800">
                      <a:off x="3492720" y="666684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3533400" y="6673320"/>
                    <a:ext cx="136440" cy="127800"/>
                    <a:chOff x="3533400" y="6673320"/>
                    <a:chExt cx="136440" cy="1278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395400">
                      <a:off x="3538800" y="667980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395400">
                      <a:off x="3576960" y="668304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3648600" y="6671520"/>
                    <a:ext cx="158400" cy="155520"/>
                    <a:chOff x="3648600" y="6671520"/>
                    <a:chExt cx="158400" cy="15552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rot="1501800">
                      <a:off x="3665160" y="669276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rot="1501800">
                      <a:off x="3700080" y="67014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3683520" y="6659640"/>
                <a:ext cx="709560" cy="205920"/>
                <a:chOff x="3683520" y="6659640"/>
                <a:chExt cx="709560" cy="20592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4038480" y="6659640"/>
                  <a:ext cx="354600" cy="205920"/>
                  <a:chOff x="4038480" y="6659640"/>
                  <a:chExt cx="354600" cy="20592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4038480" y="6659640"/>
                    <a:ext cx="138960" cy="130680"/>
                    <a:chOff x="4038480" y="6659640"/>
                    <a:chExt cx="138960" cy="13068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 rot="500400">
                      <a:off x="4045320" y="66679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rot="500400">
                      <a:off x="4082760" y="66711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4114080" y="6680520"/>
                    <a:ext cx="149040" cy="142920"/>
                    <a:chOff x="4114080" y="6680520"/>
                    <a:chExt cx="149040" cy="14292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 rot="951000">
                      <a:off x="4126320" y="6695280"/>
                      <a:ext cx="1245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 rot="951000">
                      <a:off x="4162680" y="6701400"/>
                      <a:ext cx="8028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4229280" y="6703200"/>
                    <a:ext cx="163800" cy="162360"/>
                    <a:chOff x="4229280" y="6703200"/>
                    <a:chExt cx="163800" cy="16236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 rot="2057400">
                      <a:off x="4248720" y="672876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 rot="2057400">
                      <a:off x="4281480" y="67392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3683520" y="6664320"/>
                  <a:ext cx="353160" cy="162720"/>
                  <a:chOff x="3683520" y="6664320"/>
                  <a:chExt cx="353160" cy="16272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3909960" y="6664320"/>
                    <a:ext cx="126720" cy="116640"/>
                    <a:chOff x="3909960" y="6664320"/>
                    <a:chExt cx="126720" cy="11664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55200">
                      <a:off x="3910680" y="666504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55200">
                      <a:off x="3915720" y="66664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3820680" y="6673320"/>
                    <a:ext cx="136440" cy="127800"/>
                    <a:chOff x="3820680" y="6673320"/>
                    <a:chExt cx="136440" cy="1278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21204600">
                      <a:off x="3825720" y="667980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21204600">
                      <a:off x="3832200" y="6683040"/>
                      <a:ext cx="813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3683520" y="6671520"/>
                    <a:ext cx="158760" cy="155520"/>
                    <a:chOff x="3683520" y="6671520"/>
                    <a:chExt cx="158760" cy="1555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20098200">
                      <a:off x="3700080" y="669276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20098200">
                      <a:off x="3708360" y="67014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2" name=""/>
            <p:cNvGrpSpPr/>
            <p:nvPr/>
          </p:nvGrpSpPr>
          <p:grpSpPr>
            <a:xfrm>
              <a:off x="1092240" y="6338160"/>
              <a:ext cx="1295640" cy="205920"/>
              <a:chOff x="1092240" y="6338160"/>
              <a:chExt cx="1295640" cy="2059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1092240" y="6338160"/>
                <a:ext cx="709560" cy="205920"/>
                <a:chOff x="1092240" y="6338160"/>
                <a:chExt cx="709560" cy="20592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092240" y="6338160"/>
                  <a:ext cx="354960" cy="205920"/>
                  <a:chOff x="1092240" y="6338160"/>
                  <a:chExt cx="354960" cy="205920"/>
                </a:xfrm>
              </p:grpSpPr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1307880" y="6338160"/>
                    <a:ext cx="139320" cy="130680"/>
                    <a:chOff x="1307880" y="6338160"/>
                    <a:chExt cx="139320" cy="1306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1099600">
                      <a:off x="1314720" y="634644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1099600">
                      <a:off x="1320480" y="63496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1222200" y="6359040"/>
                    <a:ext cx="149400" cy="142920"/>
                    <a:chOff x="1222200" y="6359040"/>
                    <a:chExt cx="149400" cy="1429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20649000">
                      <a:off x="1234080" y="6373800"/>
                      <a:ext cx="12456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20649000">
                      <a:off x="1241280" y="6379920"/>
                      <a:ext cx="806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1092240" y="6381720"/>
                    <a:ext cx="163800" cy="162360"/>
                    <a:chOff x="1092240" y="6381720"/>
                    <a:chExt cx="163800" cy="1623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19542600">
                      <a:off x="1110960" y="640728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19542600">
                      <a:off x="1122120" y="64177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1448640" y="6343200"/>
                  <a:ext cx="353160" cy="162360"/>
                  <a:chOff x="1448640" y="6343200"/>
                  <a:chExt cx="353160" cy="16236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1448640" y="6343200"/>
                    <a:ext cx="126720" cy="116280"/>
                    <a:chOff x="1448640" y="6343200"/>
                    <a:chExt cx="126720" cy="11628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21544800">
                      <a:off x="1449360" y="63442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21544800">
                      <a:off x="1487880" y="63453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1528200" y="6351840"/>
                    <a:ext cx="136440" cy="127800"/>
                    <a:chOff x="1528200" y="6351840"/>
                    <a:chExt cx="136440" cy="1278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rot="395400">
                      <a:off x="1533600" y="63583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rot="395400">
                      <a:off x="1572120" y="63615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1643400" y="6350040"/>
                    <a:ext cx="158400" cy="155520"/>
                    <a:chOff x="1643400" y="6350040"/>
                    <a:chExt cx="158400" cy="1555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 rot="1501800">
                      <a:off x="1659960" y="63712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rot="1501800">
                      <a:off x="1694880" y="63799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1678320" y="6338160"/>
                <a:ext cx="709560" cy="205920"/>
                <a:chOff x="1678320" y="6338160"/>
                <a:chExt cx="709560" cy="20592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2033280" y="6338160"/>
                  <a:ext cx="354600" cy="205920"/>
                  <a:chOff x="2033280" y="6338160"/>
                  <a:chExt cx="354600" cy="20592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33280" y="6338160"/>
                    <a:ext cx="138960" cy="130680"/>
                    <a:chOff x="2033280" y="6338160"/>
                    <a:chExt cx="138960" cy="1306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rot="500400">
                      <a:off x="2040120" y="634644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500400">
                      <a:off x="2077560" y="63496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08880" y="6359040"/>
                    <a:ext cx="149040" cy="142920"/>
                    <a:chOff x="2108880" y="6359040"/>
                    <a:chExt cx="149040" cy="1429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rot="951000">
                      <a:off x="2121120" y="6373800"/>
                      <a:ext cx="1245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rot="951000">
                      <a:off x="2157480" y="6379920"/>
                      <a:ext cx="8028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224080" y="6381720"/>
                    <a:ext cx="163800" cy="162360"/>
                    <a:chOff x="2224080" y="6381720"/>
                    <a:chExt cx="163800" cy="1623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rot="2057400">
                      <a:off x="2243520" y="640728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rot="2057400">
                      <a:off x="2275920" y="64177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1678320" y="6343200"/>
                  <a:ext cx="353160" cy="162360"/>
                  <a:chOff x="1678320" y="6343200"/>
                  <a:chExt cx="353160" cy="162360"/>
                </a:xfrm>
              </p:grpSpPr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1904760" y="6343200"/>
                    <a:ext cx="126720" cy="116280"/>
                    <a:chOff x="1904760" y="6343200"/>
                    <a:chExt cx="126720" cy="11628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 flipH="1" rot="55200">
                      <a:off x="1905480" y="63439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 rot="55200">
                      <a:off x="1910160" y="63450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1815480" y="6351840"/>
                    <a:ext cx="136440" cy="127800"/>
                    <a:chOff x="1815480" y="6351840"/>
                    <a:chExt cx="136440" cy="12780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H="1" rot="21204600">
                      <a:off x="1820520" y="63583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rot="21204600">
                      <a:off x="1826640" y="6361560"/>
                      <a:ext cx="813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1678320" y="6350040"/>
                    <a:ext cx="158760" cy="155520"/>
                    <a:chOff x="1678320" y="6350040"/>
                    <a:chExt cx="158760" cy="15552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 rot="20098200">
                      <a:off x="1694880" y="63712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rot="20098200">
                      <a:off x="1703160" y="63799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5" name=""/>
            <p:cNvGrpSpPr/>
            <p:nvPr/>
          </p:nvGrpSpPr>
          <p:grpSpPr>
            <a:xfrm>
              <a:off x="3531240" y="6007320"/>
              <a:ext cx="530280" cy="99000"/>
              <a:chOff x="3531240" y="6007320"/>
              <a:chExt cx="530280" cy="99000"/>
            </a:xfrm>
          </p:grpSpPr>
          <p:sp>
            <p:nvSpPr>
              <p:cNvPr id="236" name=""/>
              <p:cNvSpPr/>
              <p:nvPr/>
            </p:nvSpPr>
            <p:spPr>
              <a:xfrm>
                <a:off x="3531240" y="6007320"/>
                <a:ext cx="250560" cy="99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802680" y="6008040"/>
                <a:ext cx="258840" cy="84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808880" y="5877000"/>
              <a:ext cx="127800" cy="36720"/>
              <a:chOff x="4808880" y="5877000"/>
              <a:chExt cx="127800" cy="36720"/>
            </a:xfrm>
          </p:grpSpPr>
          <p:sp>
            <p:nvSpPr>
              <p:cNvPr id="239" name=""/>
              <p:cNvSpPr/>
              <p:nvPr/>
            </p:nvSpPr>
            <p:spPr>
              <a:xfrm>
                <a:off x="4808880" y="587700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74400" y="587700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645520" y="6183360"/>
              <a:ext cx="127800" cy="36720"/>
              <a:chOff x="5645520" y="6183360"/>
              <a:chExt cx="127800" cy="36720"/>
            </a:xfrm>
          </p:grpSpPr>
          <p:sp>
            <p:nvSpPr>
              <p:cNvPr id="242" name=""/>
              <p:cNvSpPr/>
              <p:nvPr/>
            </p:nvSpPr>
            <p:spPr>
              <a:xfrm>
                <a:off x="5645520" y="61833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11040" y="61833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468760" y="6206040"/>
              <a:ext cx="127800" cy="36720"/>
              <a:chOff x="5468760" y="6206040"/>
              <a:chExt cx="127800" cy="36720"/>
            </a:xfrm>
          </p:grpSpPr>
          <p:sp>
            <p:nvSpPr>
              <p:cNvPr id="245" name=""/>
              <p:cNvSpPr/>
              <p:nvPr/>
            </p:nvSpPr>
            <p:spPr>
              <a:xfrm>
                <a:off x="5468760" y="62060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34280" y="62060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340960" y="6217560"/>
              <a:ext cx="127440" cy="36720"/>
              <a:chOff x="5340960" y="6217560"/>
              <a:chExt cx="127440" cy="36720"/>
            </a:xfrm>
          </p:grpSpPr>
          <p:sp>
            <p:nvSpPr>
              <p:cNvPr id="248" name=""/>
              <p:cNvSpPr/>
              <p:nvPr/>
            </p:nvSpPr>
            <p:spPr>
              <a:xfrm>
                <a:off x="5340960" y="62175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06120" y="62175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340960" y="6172200"/>
              <a:ext cx="127440" cy="36720"/>
              <a:chOff x="5340960" y="6172200"/>
              <a:chExt cx="127440" cy="36720"/>
            </a:xfrm>
          </p:grpSpPr>
          <p:sp>
            <p:nvSpPr>
              <p:cNvPr id="251" name=""/>
              <p:cNvSpPr/>
              <p:nvPr/>
            </p:nvSpPr>
            <p:spPr>
              <a:xfrm>
                <a:off x="5340960" y="61722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06120" y="617220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400360" y="6143760"/>
              <a:ext cx="127440" cy="36720"/>
              <a:chOff x="5400360" y="6143760"/>
              <a:chExt cx="127440" cy="36720"/>
            </a:xfrm>
          </p:grpSpPr>
          <p:sp>
            <p:nvSpPr>
              <p:cNvPr id="254" name=""/>
              <p:cNvSpPr/>
              <p:nvPr/>
            </p:nvSpPr>
            <p:spPr>
              <a:xfrm>
                <a:off x="5400360" y="61437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65520" y="61437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449320" y="6132240"/>
              <a:ext cx="127800" cy="36720"/>
              <a:chOff x="5449320" y="6132240"/>
              <a:chExt cx="127800" cy="36720"/>
            </a:xfrm>
          </p:grpSpPr>
          <p:sp>
            <p:nvSpPr>
              <p:cNvPr id="257" name=""/>
              <p:cNvSpPr/>
              <p:nvPr/>
            </p:nvSpPr>
            <p:spPr>
              <a:xfrm>
                <a:off x="5449320" y="61322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14840" y="61322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508360" y="6115320"/>
              <a:ext cx="127440" cy="36720"/>
              <a:chOff x="5508360" y="6115320"/>
              <a:chExt cx="127440" cy="3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5508360" y="611532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573520" y="611532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665320" y="6081120"/>
              <a:ext cx="127800" cy="36720"/>
              <a:chOff x="5665320" y="6081120"/>
              <a:chExt cx="127800" cy="36720"/>
            </a:xfrm>
          </p:grpSpPr>
          <p:sp>
            <p:nvSpPr>
              <p:cNvPr id="263" name=""/>
              <p:cNvSpPr/>
              <p:nvPr/>
            </p:nvSpPr>
            <p:spPr>
              <a:xfrm>
                <a:off x="5665320" y="608112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30840" y="608112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4888800" y="6143760"/>
              <a:ext cx="127800" cy="36720"/>
              <a:chOff x="4888800" y="6143760"/>
              <a:chExt cx="127800" cy="36720"/>
            </a:xfrm>
          </p:grpSpPr>
          <p:sp>
            <p:nvSpPr>
              <p:cNvPr id="266" name=""/>
              <p:cNvSpPr/>
              <p:nvPr/>
            </p:nvSpPr>
            <p:spPr>
              <a:xfrm>
                <a:off x="4888800" y="61437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54320" y="61437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997160" y="6465240"/>
              <a:ext cx="127800" cy="36720"/>
              <a:chOff x="4997160" y="6465240"/>
              <a:chExt cx="127800" cy="36720"/>
            </a:xfrm>
          </p:grpSpPr>
          <p:sp>
            <p:nvSpPr>
              <p:cNvPr id="269" name=""/>
              <p:cNvSpPr/>
              <p:nvPr/>
            </p:nvSpPr>
            <p:spPr>
              <a:xfrm>
                <a:off x="4997160" y="64652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062680" y="64652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526720" y="5910840"/>
              <a:ext cx="127440" cy="36720"/>
              <a:chOff x="5526720" y="5910840"/>
              <a:chExt cx="127440" cy="36720"/>
            </a:xfrm>
          </p:grpSpPr>
          <p:sp>
            <p:nvSpPr>
              <p:cNvPr id="272" name=""/>
              <p:cNvSpPr/>
              <p:nvPr/>
            </p:nvSpPr>
            <p:spPr>
              <a:xfrm>
                <a:off x="5526720" y="591084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91880" y="59108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858200" y="6294960"/>
              <a:ext cx="127440" cy="36720"/>
              <a:chOff x="4858200" y="6294960"/>
              <a:chExt cx="127440" cy="36720"/>
            </a:xfrm>
          </p:grpSpPr>
          <p:sp>
            <p:nvSpPr>
              <p:cNvPr id="275" name=""/>
              <p:cNvSpPr/>
              <p:nvPr/>
            </p:nvSpPr>
            <p:spPr>
              <a:xfrm>
                <a:off x="4858200" y="62949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23360" y="62949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523760" y="6143760"/>
              <a:ext cx="127800" cy="36720"/>
              <a:chOff x="4523760" y="6143760"/>
              <a:chExt cx="127800" cy="36720"/>
            </a:xfrm>
          </p:grpSpPr>
          <p:sp>
            <p:nvSpPr>
              <p:cNvPr id="278" name=""/>
              <p:cNvSpPr/>
              <p:nvPr/>
            </p:nvSpPr>
            <p:spPr>
              <a:xfrm>
                <a:off x="4523760" y="61437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89280" y="61437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347000" y="6166440"/>
              <a:ext cx="127800" cy="36720"/>
              <a:chOff x="4347000" y="6166440"/>
              <a:chExt cx="127800" cy="36720"/>
            </a:xfrm>
          </p:grpSpPr>
          <p:sp>
            <p:nvSpPr>
              <p:cNvPr id="281" name=""/>
              <p:cNvSpPr/>
              <p:nvPr/>
            </p:nvSpPr>
            <p:spPr>
              <a:xfrm>
                <a:off x="4347000" y="61664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12520" y="61664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219200" y="6177600"/>
              <a:ext cx="127440" cy="36720"/>
              <a:chOff x="4219200" y="6177600"/>
              <a:chExt cx="127440" cy="36720"/>
            </a:xfrm>
          </p:grpSpPr>
          <p:sp>
            <p:nvSpPr>
              <p:cNvPr id="284" name=""/>
              <p:cNvSpPr/>
              <p:nvPr/>
            </p:nvSpPr>
            <p:spPr>
              <a:xfrm>
                <a:off x="4219200" y="61776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84360" y="617760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200" y="6132240"/>
              <a:ext cx="127440" cy="36720"/>
              <a:chOff x="4219200" y="6132240"/>
              <a:chExt cx="127440" cy="36720"/>
            </a:xfrm>
          </p:grpSpPr>
          <p:sp>
            <p:nvSpPr>
              <p:cNvPr id="287" name=""/>
              <p:cNvSpPr/>
              <p:nvPr/>
            </p:nvSpPr>
            <p:spPr>
              <a:xfrm>
                <a:off x="4219200" y="613224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84360" y="61322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278240" y="6103800"/>
              <a:ext cx="127800" cy="36720"/>
              <a:chOff x="4278240" y="6103800"/>
              <a:chExt cx="127800" cy="36720"/>
            </a:xfrm>
          </p:grpSpPr>
          <p:sp>
            <p:nvSpPr>
              <p:cNvPr id="290" name=""/>
              <p:cNvSpPr/>
              <p:nvPr/>
            </p:nvSpPr>
            <p:spPr>
              <a:xfrm>
                <a:off x="4278240" y="610380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3760" y="610380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327560" y="6092640"/>
              <a:ext cx="127440" cy="36720"/>
              <a:chOff x="4327560" y="6092640"/>
              <a:chExt cx="127440" cy="36720"/>
            </a:xfrm>
          </p:grpSpPr>
          <p:sp>
            <p:nvSpPr>
              <p:cNvPr id="293" name=""/>
              <p:cNvSpPr/>
              <p:nvPr/>
            </p:nvSpPr>
            <p:spPr>
              <a:xfrm>
                <a:off x="4327560" y="609264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92720" y="60926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386600" y="6075360"/>
              <a:ext cx="127440" cy="36720"/>
              <a:chOff x="4386600" y="6075360"/>
              <a:chExt cx="127440" cy="36720"/>
            </a:xfrm>
          </p:grpSpPr>
          <p:sp>
            <p:nvSpPr>
              <p:cNvPr id="296" name=""/>
              <p:cNvSpPr/>
              <p:nvPr/>
            </p:nvSpPr>
            <p:spPr>
              <a:xfrm>
                <a:off x="4386600" y="60753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51760" y="60753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543560" y="6041520"/>
              <a:ext cx="127800" cy="36720"/>
              <a:chOff x="4543560" y="6041520"/>
              <a:chExt cx="127800" cy="36720"/>
            </a:xfrm>
          </p:grpSpPr>
          <p:sp>
            <p:nvSpPr>
              <p:cNvPr id="299" name=""/>
              <p:cNvSpPr/>
              <p:nvPr/>
            </p:nvSpPr>
            <p:spPr>
              <a:xfrm>
                <a:off x="4543560" y="604152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9080" y="604152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472200" y="6149520"/>
              <a:ext cx="127440" cy="36720"/>
              <a:chOff x="3472200" y="6149520"/>
              <a:chExt cx="127440" cy="36720"/>
            </a:xfrm>
          </p:grpSpPr>
          <p:sp>
            <p:nvSpPr>
              <p:cNvPr id="302" name=""/>
              <p:cNvSpPr/>
              <p:nvPr/>
            </p:nvSpPr>
            <p:spPr>
              <a:xfrm>
                <a:off x="3472200" y="614952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37360" y="614952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774160" y="6509880"/>
              <a:ext cx="127800" cy="36720"/>
              <a:chOff x="2774160" y="6509880"/>
              <a:chExt cx="127800" cy="36720"/>
            </a:xfrm>
          </p:grpSpPr>
          <p:sp>
            <p:nvSpPr>
              <p:cNvPr id="305" name=""/>
              <p:cNvSpPr/>
              <p:nvPr/>
            </p:nvSpPr>
            <p:spPr>
              <a:xfrm>
                <a:off x="2774160" y="650988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39680" y="650988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646360" y="6521400"/>
              <a:ext cx="127800" cy="36720"/>
              <a:chOff x="2646360" y="6521400"/>
              <a:chExt cx="127800" cy="36720"/>
            </a:xfrm>
          </p:grpSpPr>
          <p:sp>
            <p:nvSpPr>
              <p:cNvPr id="308" name=""/>
              <p:cNvSpPr/>
              <p:nvPr/>
            </p:nvSpPr>
            <p:spPr>
              <a:xfrm>
                <a:off x="2646360" y="652140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11880" y="652140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646360" y="6476040"/>
              <a:ext cx="127800" cy="36720"/>
              <a:chOff x="2646360" y="6476040"/>
              <a:chExt cx="127800" cy="36720"/>
            </a:xfrm>
          </p:grpSpPr>
          <p:sp>
            <p:nvSpPr>
              <p:cNvPr id="311" name=""/>
              <p:cNvSpPr/>
              <p:nvPr/>
            </p:nvSpPr>
            <p:spPr>
              <a:xfrm>
                <a:off x="2646360" y="64760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11880" y="64760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705400" y="6447600"/>
              <a:ext cx="127800" cy="36720"/>
              <a:chOff x="2705400" y="6447600"/>
              <a:chExt cx="127800" cy="36720"/>
            </a:xfrm>
          </p:grpSpPr>
          <p:sp>
            <p:nvSpPr>
              <p:cNvPr id="314" name=""/>
              <p:cNvSpPr/>
              <p:nvPr/>
            </p:nvSpPr>
            <p:spPr>
              <a:xfrm>
                <a:off x="2705400" y="644760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0920" y="644760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754720" y="6436440"/>
              <a:ext cx="127800" cy="36720"/>
              <a:chOff x="2754720" y="6436440"/>
              <a:chExt cx="127800" cy="36720"/>
            </a:xfrm>
          </p:grpSpPr>
          <p:sp>
            <p:nvSpPr>
              <p:cNvPr id="317" name=""/>
              <p:cNvSpPr/>
              <p:nvPr/>
            </p:nvSpPr>
            <p:spPr>
              <a:xfrm>
                <a:off x="2754720" y="64364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20240" y="64364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813760" y="6419160"/>
              <a:ext cx="127800" cy="36720"/>
              <a:chOff x="2813760" y="6419160"/>
              <a:chExt cx="127800" cy="36720"/>
            </a:xfrm>
          </p:grpSpPr>
          <p:sp>
            <p:nvSpPr>
              <p:cNvPr id="320" name=""/>
              <p:cNvSpPr/>
              <p:nvPr/>
            </p:nvSpPr>
            <p:spPr>
              <a:xfrm>
                <a:off x="2813760" y="64191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79280" y="64191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1640" y="6047280"/>
              <a:ext cx="127800" cy="36720"/>
              <a:chOff x="3491640" y="6047280"/>
              <a:chExt cx="127800" cy="36720"/>
            </a:xfrm>
          </p:grpSpPr>
          <p:sp>
            <p:nvSpPr>
              <p:cNvPr id="323" name=""/>
              <p:cNvSpPr/>
              <p:nvPr/>
            </p:nvSpPr>
            <p:spPr>
              <a:xfrm>
                <a:off x="3491640" y="604728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57160" y="604728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336200" y="6557400"/>
              <a:ext cx="1295640" cy="205920"/>
              <a:chOff x="4336200" y="6557400"/>
              <a:chExt cx="1295640" cy="2059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336200" y="6557400"/>
                <a:ext cx="709560" cy="205920"/>
                <a:chOff x="4336200" y="6557400"/>
                <a:chExt cx="709560" cy="20592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4336200" y="6557400"/>
                  <a:ext cx="354960" cy="205920"/>
                  <a:chOff x="4336200" y="6557400"/>
                  <a:chExt cx="354960" cy="205920"/>
                </a:xfrm>
              </p:grpSpPr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4551840" y="6557400"/>
                    <a:ext cx="139320" cy="130680"/>
                    <a:chOff x="4551840" y="6557400"/>
                    <a:chExt cx="139320" cy="13068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21099600">
                      <a:off x="4558680" y="65656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21099600">
                      <a:off x="4564440" y="65689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4466160" y="6578280"/>
                    <a:ext cx="149400" cy="142920"/>
                    <a:chOff x="4466160" y="6578280"/>
                    <a:chExt cx="149400" cy="1429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20649000">
                      <a:off x="4478040" y="6593040"/>
                      <a:ext cx="12456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20649000">
                      <a:off x="4485240" y="6599160"/>
                      <a:ext cx="806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336200" y="6600960"/>
                    <a:ext cx="163800" cy="162360"/>
                    <a:chOff x="4336200" y="6600960"/>
                    <a:chExt cx="163800" cy="16236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19542600">
                      <a:off x="4354920" y="662652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19542600">
                      <a:off x="4365720" y="66369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4692600" y="6562080"/>
                  <a:ext cx="353160" cy="162720"/>
                  <a:chOff x="4692600" y="6562080"/>
                  <a:chExt cx="353160" cy="162720"/>
                </a:xfrm>
              </p:grpSpPr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4692600" y="6562080"/>
                    <a:ext cx="126720" cy="116640"/>
                    <a:chOff x="4692600" y="6562080"/>
                    <a:chExt cx="126720" cy="11664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21544800">
                      <a:off x="4693320" y="656316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21544800">
                      <a:off x="4731480" y="65646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4772160" y="6571080"/>
                    <a:ext cx="136440" cy="127800"/>
                    <a:chOff x="4772160" y="6571080"/>
                    <a:chExt cx="136440" cy="12780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395400">
                      <a:off x="4777560" y="657756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395400">
                      <a:off x="4815720" y="65808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4887360" y="6569280"/>
                    <a:ext cx="158400" cy="155520"/>
                    <a:chOff x="4887360" y="6569280"/>
                    <a:chExt cx="158400" cy="15552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501800">
                      <a:off x="4903920" y="65905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501800">
                      <a:off x="4938840" y="65991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7" name=""/>
              <p:cNvGrpSpPr/>
              <p:nvPr/>
            </p:nvGrpSpPr>
            <p:grpSpPr>
              <a:xfrm>
                <a:off x="4922280" y="6557400"/>
                <a:ext cx="709560" cy="205920"/>
                <a:chOff x="4922280" y="6557400"/>
                <a:chExt cx="709560" cy="20592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5277240" y="6557400"/>
                  <a:ext cx="354600" cy="205920"/>
                  <a:chOff x="5277240" y="6557400"/>
                  <a:chExt cx="354600" cy="20592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277240" y="6557400"/>
                    <a:ext cx="138960" cy="130680"/>
                    <a:chOff x="5277240" y="6557400"/>
                    <a:chExt cx="138960" cy="13068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500400">
                      <a:off x="5284080" y="65656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500400">
                      <a:off x="5321520" y="65689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352840" y="6578280"/>
                    <a:ext cx="149040" cy="142920"/>
                    <a:chOff x="5352840" y="6578280"/>
                    <a:chExt cx="149040" cy="14292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951000">
                      <a:off x="5365080" y="6593040"/>
                      <a:ext cx="1245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951000">
                      <a:off x="5401440" y="6599160"/>
                      <a:ext cx="8028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468040" y="6600960"/>
                    <a:ext cx="163800" cy="162360"/>
                    <a:chOff x="5468040" y="6600960"/>
                    <a:chExt cx="163800" cy="16236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2057400">
                      <a:off x="5487480" y="662652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2057400">
                      <a:off x="5520240" y="66369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4922280" y="6562080"/>
                  <a:ext cx="353160" cy="162720"/>
                  <a:chOff x="4922280" y="6562080"/>
                  <a:chExt cx="353160" cy="162720"/>
                </a:xfrm>
              </p:grpSpPr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148720" y="6562080"/>
                    <a:ext cx="126720" cy="116640"/>
                    <a:chOff x="5148720" y="6562080"/>
                    <a:chExt cx="126720" cy="11664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55200">
                      <a:off x="5149440" y="656280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55200">
                      <a:off x="5154480" y="656424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059440" y="6571080"/>
                    <a:ext cx="136440" cy="127800"/>
                    <a:chOff x="5059440" y="6571080"/>
                    <a:chExt cx="136440" cy="12780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21204600">
                      <a:off x="5064480" y="657756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21204600">
                      <a:off x="5070960" y="6580800"/>
                      <a:ext cx="813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4922280" y="6569280"/>
                    <a:ext cx="158760" cy="155520"/>
                    <a:chOff x="4922280" y="6569280"/>
                    <a:chExt cx="158760" cy="1555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20098200">
                      <a:off x="4938840" y="65905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20098200">
                      <a:off x="4947120" y="65991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68" name=""/>
            <p:cNvGrpSpPr/>
            <p:nvPr/>
          </p:nvGrpSpPr>
          <p:grpSpPr>
            <a:xfrm>
              <a:off x="4120920" y="6041520"/>
              <a:ext cx="127800" cy="36720"/>
              <a:chOff x="4120920" y="6041520"/>
              <a:chExt cx="127800" cy="36720"/>
            </a:xfrm>
          </p:grpSpPr>
          <p:sp>
            <p:nvSpPr>
              <p:cNvPr id="369" name=""/>
              <p:cNvSpPr/>
              <p:nvPr/>
            </p:nvSpPr>
            <p:spPr>
              <a:xfrm>
                <a:off x="4120920" y="604152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86440" y="604152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720680" y="5978880"/>
              <a:ext cx="127800" cy="36720"/>
              <a:chOff x="4720680" y="5978880"/>
              <a:chExt cx="127800" cy="36720"/>
            </a:xfrm>
          </p:grpSpPr>
          <p:sp>
            <p:nvSpPr>
              <p:cNvPr id="372" name=""/>
              <p:cNvSpPr/>
              <p:nvPr/>
            </p:nvSpPr>
            <p:spPr>
              <a:xfrm>
                <a:off x="4720680" y="597888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86200" y="597888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231520" y="5945040"/>
              <a:ext cx="127800" cy="36720"/>
              <a:chOff x="5231520" y="5945040"/>
              <a:chExt cx="127800" cy="36720"/>
            </a:xfrm>
          </p:grpSpPr>
          <p:sp>
            <p:nvSpPr>
              <p:cNvPr id="375" name=""/>
              <p:cNvSpPr/>
              <p:nvPr/>
            </p:nvSpPr>
            <p:spPr>
              <a:xfrm>
                <a:off x="5231520" y="59450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297040" y="59450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510720" y="6216480"/>
              <a:ext cx="1295280" cy="206280"/>
              <a:chOff x="3510720" y="6216480"/>
              <a:chExt cx="1295280" cy="2062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3510720" y="6216480"/>
                <a:ext cx="710280" cy="206280"/>
                <a:chOff x="3510720" y="6216480"/>
                <a:chExt cx="710280" cy="20628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3510720" y="6216480"/>
                  <a:ext cx="355320" cy="206280"/>
                  <a:chOff x="3510720" y="6216480"/>
                  <a:chExt cx="355320" cy="20628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3726720" y="6216480"/>
                    <a:ext cx="139320" cy="131040"/>
                    <a:chOff x="3726720" y="6216480"/>
                    <a:chExt cx="139320" cy="13104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1099600">
                      <a:off x="3733560" y="622476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1099600">
                      <a:off x="3739320" y="62283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3640320" y="6237720"/>
                    <a:ext cx="149400" cy="143280"/>
                    <a:chOff x="3640320" y="6237720"/>
                    <a:chExt cx="149400" cy="1432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649000">
                      <a:off x="3651840" y="62524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649000">
                      <a:off x="3659400" y="62586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3510720" y="6260400"/>
                    <a:ext cx="163800" cy="162360"/>
                    <a:chOff x="3510720" y="6260400"/>
                    <a:chExt cx="163800" cy="1623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9542600">
                      <a:off x="3529440" y="628596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9542600">
                      <a:off x="3540600" y="62964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3867120" y="6221880"/>
                  <a:ext cx="353880" cy="161640"/>
                  <a:chOff x="3867120" y="6221880"/>
                  <a:chExt cx="353880" cy="161640"/>
                </a:xfrm>
              </p:grpSpPr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3867120" y="6221880"/>
                    <a:ext cx="127080" cy="116280"/>
                    <a:chOff x="3867120" y="6221880"/>
                    <a:chExt cx="127080" cy="11628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21544800">
                      <a:off x="3867840" y="6222960"/>
                      <a:ext cx="12528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21544800">
                      <a:off x="3906360" y="622404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3946680" y="6230520"/>
                    <a:ext cx="136440" cy="127800"/>
                    <a:chOff x="3946680" y="6230520"/>
                    <a:chExt cx="136440" cy="12780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95400">
                      <a:off x="3952080" y="623700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95400">
                      <a:off x="3990600" y="624024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4062240" y="6229080"/>
                    <a:ext cx="158760" cy="154440"/>
                    <a:chOff x="4062240" y="6229080"/>
                    <a:chExt cx="158760" cy="15444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1501800">
                      <a:off x="4078800" y="6250320"/>
                      <a:ext cx="12528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1501800">
                      <a:off x="4113720" y="62578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9" name=""/>
              <p:cNvGrpSpPr/>
              <p:nvPr/>
            </p:nvGrpSpPr>
            <p:grpSpPr>
              <a:xfrm>
                <a:off x="4095720" y="6216480"/>
                <a:ext cx="710280" cy="206280"/>
                <a:chOff x="4095720" y="6216480"/>
                <a:chExt cx="710280" cy="20628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4451040" y="6216480"/>
                  <a:ext cx="354960" cy="206280"/>
                  <a:chOff x="4451040" y="6216480"/>
                  <a:chExt cx="354960" cy="206280"/>
                </a:xfrm>
              </p:grpSpPr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4451040" y="6216480"/>
                    <a:ext cx="138960" cy="131040"/>
                    <a:chOff x="4451040" y="6216480"/>
                    <a:chExt cx="138960" cy="1310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500400">
                      <a:off x="4457880" y="622476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500400">
                      <a:off x="4495320" y="62283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526640" y="6237720"/>
                    <a:ext cx="149760" cy="143280"/>
                    <a:chOff x="4526640" y="6237720"/>
                    <a:chExt cx="149760" cy="143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951000">
                      <a:off x="4538880" y="62524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951000">
                      <a:off x="4575960" y="6258600"/>
                      <a:ext cx="806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642200" y="6260400"/>
                    <a:ext cx="163800" cy="162360"/>
                    <a:chOff x="4642200" y="6260400"/>
                    <a:chExt cx="163800" cy="1623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2057400">
                      <a:off x="4661640" y="628596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2057400">
                      <a:off x="4694040" y="62964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4095720" y="6221880"/>
                  <a:ext cx="353880" cy="161640"/>
                  <a:chOff x="4095720" y="6221880"/>
                  <a:chExt cx="353880" cy="161640"/>
                </a:xfrm>
              </p:grpSpPr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4322520" y="6221880"/>
                    <a:ext cx="127080" cy="116280"/>
                    <a:chOff x="4322520" y="6221880"/>
                    <a:chExt cx="127080" cy="1162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 flipH="1" rot="55200">
                      <a:off x="4322880" y="6222600"/>
                      <a:ext cx="12528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flipH="1" rot="55200">
                      <a:off x="4328280" y="62236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4233600" y="6230520"/>
                    <a:ext cx="136440" cy="127800"/>
                    <a:chOff x="4233600" y="6230520"/>
                    <a:chExt cx="136440" cy="12780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 rot="21204600">
                      <a:off x="4238640" y="623700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rot="21204600">
                      <a:off x="4244760" y="6240240"/>
                      <a:ext cx="813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4095720" y="6229080"/>
                    <a:ext cx="158760" cy="154440"/>
                    <a:chOff x="4095720" y="6229080"/>
                    <a:chExt cx="158760" cy="15444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flipH="1" rot="20098200">
                      <a:off x="4111920" y="6250320"/>
                      <a:ext cx="12528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flipH="1" rot="20098200">
                      <a:off x="4120920" y="62578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20" name=""/>
            <p:cNvGrpSpPr/>
            <p:nvPr/>
          </p:nvGrpSpPr>
          <p:grpSpPr>
            <a:xfrm>
              <a:off x="3767040" y="6471000"/>
              <a:ext cx="530280" cy="99000"/>
              <a:chOff x="3767040" y="6471000"/>
              <a:chExt cx="530280" cy="99000"/>
            </a:xfrm>
          </p:grpSpPr>
          <p:sp>
            <p:nvSpPr>
              <p:cNvPr id="421" name=""/>
              <p:cNvSpPr/>
              <p:nvPr/>
            </p:nvSpPr>
            <p:spPr>
              <a:xfrm>
                <a:off x="3767040" y="6471000"/>
                <a:ext cx="250560" cy="99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38480" y="6471720"/>
                <a:ext cx="258840" cy="84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025600" y="6368760"/>
              <a:ext cx="127440" cy="36720"/>
              <a:chOff x="5025600" y="6368760"/>
              <a:chExt cx="127440" cy="36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025600" y="63687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90760" y="636876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848480" y="6391440"/>
              <a:ext cx="127440" cy="36720"/>
              <a:chOff x="4848480" y="6391440"/>
              <a:chExt cx="127440" cy="36720"/>
            </a:xfrm>
          </p:grpSpPr>
          <p:sp>
            <p:nvSpPr>
              <p:cNvPr id="427" name=""/>
              <p:cNvSpPr/>
              <p:nvPr/>
            </p:nvSpPr>
            <p:spPr>
              <a:xfrm>
                <a:off x="4848480" y="639144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913640" y="63914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634720" y="6018840"/>
              <a:ext cx="127440" cy="36720"/>
              <a:chOff x="5634720" y="6018840"/>
              <a:chExt cx="127440" cy="36720"/>
            </a:xfrm>
          </p:grpSpPr>
          <p:sp>
            <p:nvSpPr>
              <p:cNvPr id="430" name=""/>
              <p:cNvSpPr/>
              <p:nvPr/>
            </p:nvSpPr>
            <p:spPr>
              <a:xfrm>
                <a:off x="5634720" y="601884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99880" y="60188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634720" y="5973120"/>
              <a:ext cx="127440" cy="36720"/>
              <a:chOff x="5634720" y="5973120"/>
              <a:chExt cx="127440" cy="36720"/>
            </a:xfrm>
          </p:grpSpPr>
          <p:sp>
            <p:nvSpPr>
              <p:cNvPr id="433" name=""/>
              <p:cNvSpPr/>
              <p:nvPr/>
            </p:nvSpPr>
            <p:spPr>
              <a:xfrm>
                <a:off x="5634720" y="597312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99880" y="597312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693760" y="5945040"/>
              <a:ext cx="127800" cy="36720"/>
              <a:chOff x="5693760" y="5945040"/>
              <a:chExt cx="127800" cy="36720"/>
            </a:xfrm>
          </p:grpSpPr>
          <p:sp>
            <p:nvSpPr>
              <p:cNvPr id="436" name=""/>
              <p:cNvSpPr/>
              <p:nvPr/>
            </p:nvSpPr>
            <p:spPr>
              <a:xfrm>
                <a:off x="5693760" y="59450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59280" y="59450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828680" y="6317640"/>
              <a:ext cx="127800" cy="36720"/>
              <a:chOff x="4828680" y="6317640"/>
              <a:chExt cx="127800" cy="36720"/>
            </a:xfrm>
          </p:grpSpPr>
          <p:sp>
            <p:nvSpPr>
              <p:cNvPr id="439" name=""/>
              <p:cNvSpPr/>
              <p:nvPr/>
            </p:nvSpPr>
            <p:spPr>
              <a:xfrm>
                <a:off x="4828680" y="631764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94200" y="631764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4887720" y="6300720"/>
              <a:ext cx="127440" cy="36720"/>
              <a:chOff x="4887720" y="6300720"/>
              <a:chExt cx="127440" cy="36720"/>
            </a:xfrm>
          </p:grpSpPr>
          <p:sp>
            <p:nvSpPr>
              <p:cNvPr id="442" name=""/>
              <p:cNvSpPr/>
              <p:nvPr/>
            </p:nvSpPr>
            <p:spPr>
              <a:xfrm>
                <a:off x="4887720" y="630072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52880" y="630072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045040" y="6266520"/>
              <a:ext cx="127800" cy="36720"/>
              <a:chOff x="5045040" y="6266520"/>
              <a:chExt cx="127800" cy="36720"/>
            </a:xfrm>
          </p:grpSpPr>
          <p:sp>
            <p:nvSpPr>
              <p:cNvPr id="445" name=""/>
              <p:cNvSpPr/>
              <p:nvPr/>
            </p:nvSpPr>
            <p:spPr>
              <a:xfrm>
                <a:off x="5045040" y="626652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10560" y="6266520"/>
                <a:ext cx="62280" cy="31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1622880" y="6678720"/>
              <a:ext cx="1295640" cy="205920"/>
              <a:chOff x="1622880" y="6678720"/>
              <a:chExt cx="1295640" cy="205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622880" y="6678720"/>
                <a:ext cx="709560" cy="205920"/>
                <a:chOff x="1622880" y="6678720"/>
                <a:chExt cx="709560" cy="20592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1622880" y="6678720"/>
                  <a:ext cx="354960" cy="205920"/>
                  <a:chOff x="1622880" y="6678720"/>
                  <a:chExt cx="354960" cy="205920"/>
                </a:xfrm>
              </p:grpSpPr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1838520" y="6678720"/>
                    <a:ext cx="139320" cy="130680"/>
                    <a:chOff x="1838520" y="6678720"/>
                    <a:chExt cx="139320" cy="13068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 rot="21099600">
                      <a:off x="1845360" y="668700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rot="21099600">
                      <a:off x="1851120" y="669024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1752840" y="6699600"/>
                    <a:ext cx="149400" cy="142920"/>
                    <a:chOff x="1752840" y="6699600"/>
                    <a:chExt cx="149400" cy="1429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flipH="1" rot="20649000">
                      <a:off x="1764720" y="6714360"/>
                      <a:ext cx="12456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H="1" rot="20649000">
                      <a:off x="1771920" y="6720480"/>
                      <a:ext cx="806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1622880" y="6722280"/>
                    <a:ext cx="163800" cy="162360"/>
                    <a:chOff x="1622880" y="6722280"/>
                    <a:chExt cx="163800" cy="16236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flipH="1" rot="19542600">
                      <a:off x="1641600" y="674784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H="1" rot="19542600">
                      <a:off x="1652400" y="67582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1979280" y="6683400"/>
                  <a:ext cx="353160" cy="162720"/>
                  <a:chOff x="1979280" y="6683400"/>
                  <a:chExt cx="353160" cy="162720"/>
                </a:xfrm>
              </p:grpSpPr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1979280" y="6683400"/>
                    <a:ext cx="126720" cy="116640"/>
                    <a:chOff x="1979280" y="6683400"/>
                    <a:chExt cx="126720" cy="1166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21544800">
                      <a:off x="1980000" y="66844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21544800">
                      <a:off x="2018160" y="66859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2058840" y="6692400"/>
                    <a:ext cx="136440" cy="127800"/>
                    <a:chOff x="2058840" y="6692400"/>
                    <a:chExt cx="136440" cy="1278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395400">
                      <a:off x="2064240" y="66988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395400">
                      <a:off x="2102400" y="67021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2174040" y="6690600"/>
                    <a:ext cx="158400" cy="155520"/>
                    <a:chOff x="2174040" y="6690600"/>
                    <a:chExt cx="158400" cy="15552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1501800">
                      <a:off x="2190600" y="671184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1501800">
                      <a:off x="2225520" y="67204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208960" y="6678720"/>
                <a:ext cx="709560" cy="205920"/>
                <a:chOff x="2208960" y="6678720"/>
                <a:chExt cx="709560" cy="20592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563920" y="6678720"/>
                  <a:ext cx="354600" cy="205920"/>
                  <a:chOff x="2563920" y="6678720"/>
                  <a:chExt cx="354600" cy="205920"/>
                </a:xfrm>
              </p:grpSpPr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2563920" y="6678720"/>
                    <a:ext cx="138960" cy="130680"/>
                    <a:chOff x="2563920" y="6678720"/>
                    <a:chExt cx="138960" cy="1306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500400">
                      <a:off x="2570760" y="668700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500400">
                      <a:off x="2608200" y="669024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2639520" y="6699600"/>
                    <a:ext cx="149040" cy="142920"/>
                    <a:chOff x="2639520" y="6699600"/>
                    <a:chExt cx="149040" cy="14292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951000">
                      <a:off x="2651760" y="6714360"/>
                      <a:ext cx="1245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951000">
                      <a:off x="2688120" y="6720480"/>
                      <a:ext cx="8028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2754720" y="6722280"/>
                    <a:ext cx="163800" cy="162360"/>
                    <a:chOff x="2754720" y="6722280"/>
                    <a:chExt cx="163800" cy="16236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2057400">
                      <a:off x="2774160" y="674784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2057400">
                      <a:off x="2806920" y="67582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2208960" y="6683400"/>
                  <a:ext cx="353160" cy="162720"/>
                  <a:chOff x="2208960" y="6683400"/>
                  <a:chExt cx="353160" cy="162720"/>
                </a:xfrm>
              </p:grpSpPr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2435400" y="6683400"/>
                    <a:ext cx="126720" cy="116640"/>
                    <a:chOff x="2435400" y="6683400"/>
                    <a:chExt cx="126720" cy="11664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flipH="1" rot="55200">
                      <a:off x="2436120" y="66841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H="1" rot="55200">
                      <a:off x="2441160" y="66855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2346120" y="6692400"/>
                    <a:ext cx="136440" cy="127800"/>
                    <a:chOff x="2346120" y="6692400"/>
                    <a:chExt cx="136440" cy="12780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flipH="1" rot="21204600">
                      <a:off x="2351160" y="66988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H="1" rot="21204600">
                      <a:off x="2357640" y="6702120"/>
                      <a:ext cx="813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2208960" y="6690600"/>
                    <a:ext cx="158760" cy="155520"/>
                    <a:chOff x="2208960" y="6690600"/>
                    <a:chExt cx="158760" cy="15552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flipH="1" rot="20098200">
                      <a:off x="2225520" y="671184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H="1" rot="20098200">
                      <a:off x="2233800" y="67204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90" name=""/>
            <p:cNvGrpSpPr/>
            <p:nvPr/>
          </p:nvGrpSpPr>
          <p:grpSpPr>
            <a:xfrm>
              <a:off x="4129560" y="5943960"/>
              <a:ext cx="1295640" cy="205920"/>
              <a:chOff x="4129560" y="5943960"/>
              <a:chExt cx="1295640" cy="20592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4129560" y="5943960"/>
                <a:ext cx="709560" cy="205920"/>
                <a:chOff x="4129560" y="5943960"/>
                <a:chExt cx="709560" cy="20592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4129560" y="5943960"/>
                  <a:ext cx="354960" cy="205920"/>
                  <a:chOff x="4129560" y="5943960"/>
                  <a:chExt cx="354960" cy="205920"/>
                </a:xfrm>
              </p:grpSpPr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4345200" y="5943960"/>
                    <a:ext cx="139320" cy="130680"/>
                    <a:chOff x="4345200" y="5943960"/>
                    <a:chExt cx="139320" cy="13068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flipH="1" rot="21099600">
                      <a:off x="4352040" y="595224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H="1" rot="21099600">
                      <a:off x="4357800" y="59554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4259520" y="5964840"/>
                    <a:ext cx="149400" cy="142920"/>
                    <a:chOff x="4259520" y="5964840"/>
                    <a:chExt cx="149400" cy="14292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20649000">
                      <a:off x="4271400" y="5979600"/>
                      <a:ext cx="12456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20649000">
                      <a:off x="4278600" y="5985720"/>
                      <a:ext cx="806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4129560" y="5987520"/>
                    <a:ext cx="163800" cy="162360"/>
                    <a:chOff x="4129560" y="5987520"/>
                    <a:chExt cx="163800" cy="16236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19542600">
                      <a:off x="4148280" y="601308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19542600">
                      <a:off x="4159080" y="60235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4485960" y="5948640"/>
                  <a:ext cx="353160" cy="162720"/>
                  <a:chOff x="4485960" y="5948640"/>
                  <a:chExt cx="353160" cy="16272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4485960" y="5948640"/>
                    <a:ext cx="126720" cy="116640"/>
                    <a:chOff x="4485960" y="5948640"/>
                    <a:chExt cx="126720" cy="11664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21544800">
                      <a:off x="4486680" y="59497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21544800">
                      <a:off x="4524840" y="59511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4565520" y="5957640"/>
                    <a:ext cx="136440" cy="127800"/>
                    <a:chOff x="4565520" y="5957640"/>
                    <a:chExt cx="136440" cy="1278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395400">
                      <a:off x="4570920" y="59641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395400">
                      <a:off x="4609080" y="596736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4680720" y="5955840"/>
                    <a:ext cx="158400" cy="155520"/>
                    <a:chOff x="4680720" y="5955840"/>
                    <a:chExt cx="158400" cy="1555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1501800">
                      <a:off x="4697280" y="59770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1501800">
                      <a:off x="4732200" y="59857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2" name=""/>
              <p:cNvGrpSpPr/>
              <p:nvPr/>
            </p:nvGrpSpPr>
            <p:grpSpPr>
              <a:xfrm>
                <a:off x="4715640" y="5943960"/>
                <a:ext cx="709560" cy="205920"/>
                <a:chOff x="4715640" y="5943960"/>
                <a:chExt cx="709560" cy="20592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5070600" y="5943960"/>
                  <a:ext cx="354600" cy="205920"/>
                  <a:chOff x="5070600" y="5943960"/>
                  <a:chExt cx="354600" cy="20592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070600" y="5943960"/>
                    <a:ext cx="138960" cy="130680"/>
                    <a:chOff x="5070600" y="5943960"/>
                    <a:chExt cx="138960" cy="13068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500400">
                      <a:off x="5077440" y="595224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500400">
                      <a:off x="5114880" y="595548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146200" y="5964840"/>
                    <a:ext cx="149040" cy="142920"/>
                    <a:chOff x="5146200" y="5964840"/>
                    <a:chExt cx="149040" cy="1429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951000">
                      <a:off x="5158440" y="5979600"/>
                      <a:ext cx="1245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951000">
                      <a:off x="5194800" y="5985720"/>
                      <a:ext cx="8028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261400" y="5987520"/>
                    <a:ext cx="163800" cy="162360"/>
                    <a:chOff x="5261400" y="5987520"/>
                    <a:chExt cx="163800" cy="16236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2057400">
                      <a:off x="5280840" y="6013080"/>
                      <a:ext cx="1249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2057400">
                      <a:off x="5313600" y="60235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4715640" y="5948640"/>
                  <a:ext cx="353160" cy="162720"/>
                  <a:chOff x="4715640" y="5948640"/>
                  <a:chExt cx="353160" cy="162720"/>
                </a:xfrm>
              </p:grpSpPr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4942080" y="5948640"/>
                    <a:ext cx="126720" cy="116640"/>
                    <a:chOff x="4942080" y="5948640"/>
                    <a:chExt cx="126720" cy="1166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55200">
                      <a:off x="4942800" y="594936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55200">
                      <a:off x="4947840" y="595080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4852800" y="5957640"/>
                    <a:ext cx="136440" cy="127800"/>
                    <a:chOff x="4852800" y="5957640"/>
                    <a:chExt cx="136440" cy="12780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21204600">
                      <a:off x="4857840" y="596412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21204600">
                      <a:off x="4864320" y="5967360"/>
                      <a:ext cx="813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4715640" y="5955840"/>
                    <a:ext cx="158760" cy="155520"/>
                    <a:chOff x="4715640" y="5955840"/>
                    <a:chExt cx="158760" cy="1555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20098200">
                      <a:off x="4732200" y="5977080"/>
                      <a:ext cx="12492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20098200">
                      <a:off x="4740480" y="5985720"/>
                      <a:ext cx="8100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33" name=""/>
            <p:cNvSpPr/>
            <p:nvPr/>
          </p:nvSpPr>
          <p:spPr>
            <a:xfrm rot="3443400">
              <a:off x="2514960" y="6778440"/>
              <a:ext cx="25560" cy="219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936040" y="6476400"/>
              <a:ext cx="536040" cy="308520"/>
              <a:chOff x="5936040" y="6476400"/>
              <a:chExt cx="536040" cy="308520"/>
            </a:xfrm>
          </p:grpSpPr>
          <p:sp>
            <p:nvSpPr>
              <p:cNvPr id="535" name=""/>
              <p:cNvSpPr/>
              <p:nvPr/>
            </p:nvSpPr>
            <p:spPr>
              <a:xfrm flipH="1" rot="3444600">
                <a:off x="6011280" y="6482520"/>
                <a:ext cx="102240" cy="23544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6028560" y="6476400"/>
                <a:ext cx="443520" cy="308520"/>
                <a:chOff x="6028560" y="6476400"/>
                <a:chExt cx="443520" cy="30852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6028560" y="6476400"/>
                  <a:ext cx="443520" cy="308520"/>
                  <a:chOff x="6028560" y="6476400"/>
                  <a:chExt cx="443520" cy="3085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47000">
                    <a:off x="6057000" y="6570360"/>
                    <a:ext cx="424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47000">
                    <a:off x="6022800" y="6606360"/>
                    <a:ext cx="4334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"/>
                <p:cNvSpPr/>
                <p:nvPr/>
              </p:nvSpPr>
              <p:spPr>
                <a:xfrm flipH="1" rot="1647000">
                  <a:off x="6099840" y="6548040"/>
                  <a:ext cx="43560" cy="590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rot="1647000">
                  <a:off x="6153480" y="6575760"/>
                  <a:ext cx="43560" cy="590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rot="1647000">
                  <a:off x="6214320" y="6613920"/>
                  <a:ext cx="35640" cy="37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rot="1647000">
                  <a:off x="6177600" y="6553440"/>
                  <a:ext cx="5580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 rot="1647000">
                  <a:off x="6132240" y="6527160"/>
                  <a:ext cx="59760" cy="32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689480" y="6408360"/>
              <a:ext cx="536040" cy="308160"/>
              <a:chOff x="1689480" y="6408360"/>
              <a:chExt cx="536040" cy="308160"/>
            </a:xfrm>
          </p:grpSpPr>
          <p:sp>
            <p:nvSpPr>
              <p:cNvPr id="546" name=""/>
              <p:cNvSpPr/>
              <p:nvPr/>
            </p:nvSpPr>
            <p:spPr>
              <a:xfrm flipH="1" rot="3444600">
                <a:off x="1764720" y="6414120"/>
                <a:ext cx="101520" cy="23544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1782360" y="6408360"/>
                <a:ext cx="443160" cy="308160"/>
                <a:chOff x="1782360" y="6408360"/>
                <a:chExt cx="443160" cy="308160"/>
              </a:xfrm>
            </p:grpSpPr>
            <p:grpSp>
              <p:nvGrpSpPr>
                <p:cNvPr id="548" name=""/>
                <p:cNvGrpSpPr/>
                <p:nvPr/>
              </p:nvGrpSpPr>
              <p:grpSpPr>
                <a:xfrm>
                  <a:off x="1782360" y="6408360"/>
                  <a:ext cx="443160" cy="308160"/>
                  <a:chOff x="1782360" y="6408360"/>
                  <a:chExt cx="443160" cy="3081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rot="1647000">
                    <a:off x="1810440" y="6502320"/>
                    <a:ext cx="424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rot="1647000">
                    <a:off x="1776960" y="6538320"/>
                    <a:ext cx="433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 rot="1647000">
                  <a:off x="1853280" y="6480000"/>
                  <a:ext cx="43560" cy="590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 rot="1647000">
                  <a:off x="1906920" y="6507720"/>
                  <a:ext cx="43560" cy="590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 rot="1647000">
                  <a:off x="1967760" y="6545880"/>
                  <a:ext cx="35640" cy="37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rot="1647000">
                  <a:off x="1931040" y="6485400"/>
                  <a:ext cx="5580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 rot="1647000">
                  <a:off x="1885680" y="6458760"/>
                  <a:ext cx="59760" cy="32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"/>
            <p:cNvGrpSpPr/>
            <p:nvPr/>
          </p:nvGrpSpPr>
          <p:grpSpPr>
            <a:xfrm>
              <a:off x="1925280" y="6135480"/>
              <a:ext cx="536760" cy="308160"/>
              <a:chOff x="1925280" y="6135480"/>
              <a:chExt cx="536760" cy="308160"/>
            </a:xfrm>
          </p:grpSpPr>
          <p:sp>
            <p:nvSpPr>
              <p:cNvPr id="557" name=""/>
              <p:cNvSpPr/>
              <p:nvPr/>
            </p:nvSpPr>
            <p:spPr>
              <a:xfrm flipH="1" rot="3444600">
                <a:off x="2000880" y="6140880"/>
                <a:ext cx="101520" cy="235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"/>
              <p:cNvGrpSpPr/>
              <p:nvPr/>
            </p:nvGrpSpPr>
            <p:grpSpPr>
              <a:xfrm>
                <a:off x="2018880" y="6135480"/>
                <a:ext cx="443160" cy="308160"/>
                <a:chOff x="2018880" y="6135480"/>
                <a:chExt cx="443160" cy="308160"/>
              </a:xfrm>
            </p:grpSpPr>
            <p:grpSp>
              <p:nvGrpSpPr>
                <p:cNvPr id="559" name=""/>
                <p:cNvGrpSpPr/>
                <p:nvPr/>
              </p:nvGrpSpPr>
              <p:grpSpPr>
                <a:xfrm>
                  <a:off x="2018880" y="6135480"/>
                  <a:ext cx="443160" cy="308160"/>
                  <a:chOff x="2018880" y="6135480"/>
                  <a:chExt cx="443160" cy="30816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flipH="1" rot="1647000">
                    <a:off x="2046960" y="6229440"/>
                    <a:ext cx="424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 rot="1647000">
                    <a:off x="2013480" y="6265440"/>
                    <a:ext cx="433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2" name=""/>
                <p:cNvSpPr/>
                <p:nvPr/>
              </p:nvSpPr>
              <p:spPr>
                <a:xfrm flipH="1" rot="1647000">
                  <a:off x="2089800" y="6207120"/>
                  <a:ext cx="43560" cy="590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rot="1647000">
                  <a:off x="2143440" y="6234840"/>
                  <a:ext cx="43560" cy="590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 rot="1647000">
                  <a:off x="2204280" y="6272640"/>
                  <a:ext cx="35640" cy="37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rot="1647000">
                  <a:off x="2167560" y="6212520"/>
                  <a:ext cx="5580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rot="1647000">
                  <a:off x="2122200" y="6185880"/>
                  <a:ext cx="59760" cy="32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7" name=""/>
            <p:cNvGrpSpPr/>
            <p:nvPr/>
          </p:nvGrpSpPr>
          <p:grpSpPr>
            <a:xfrm>
              <a:off x="6411960" y="6134040"/>
              <a:ext cx="451440" cy="420840"/>
              <a:chOff x="6411960" y="6134040"/>
              <a:chExt cx="451440" cy="420840"/>
            </a:xfrm>
          </p:grpSpPr>
          <p:sp>
            <p:nvSpPr>
              <p:cNvPr id="568" name=""/>
              <p:cNvSpPr/>
              <p:nvPr/>
            </p:nvSpPr>
            <p:spPr>
              <a:xfrm rot="16490400">
                <a:off x="6690240" y="6109920"/>
                <a:ext cx="102240" cy="235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6411960" y="6134040"/>
                <a:ext cx="352080" cy="420840"/>
                <a:chOff x="6411960" y="6134040"/>
                <a:chExt cx="352080" cy="42084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6411960" y="6134040"/>
                  <a:ext cx="352080" cy="420840"/>
                  <a:chOff x="6411960" y="6134040"/>
                  <a:chExt cx="352080" cy="42084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18288000">
                    <a:off x="6346440" y="6294240"/>
                    <a:ext cx="424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18288000">
                    <a:off x="6389280" y="6311520"/>
                    <a:ext cx="4334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 rot="18288000">
                  <a:off x="6655320" y="6206400"/>
                  <a:ext cx="43560" cy="586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8288000">
                  <a:off x="6621120" y="6255720"/>
                  <a:ext cx="43560" cy="586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8288000">
                  <a:off x="6586920" y="6317280"/>
                  <a:ext cx="35640" cy="374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18288000">
                  <a:off x="6570360" y="6251400"/>
                  <a:ext cx="55800" cy="2916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8288000">
                  <a:off x="6595920" y="6208200"/>
                  <a:ext cx="59760" cy="32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8" name=""/>
            <p:cNvGrpSpPr/>
            <p:nvPr/>
          </p:nvGrpSpPr>
          <p:grpSpPr>
            <a:xfrm>
              <a:off x="4289040" y="6406560"/>
              <a:ext cx="451080" cy="420480"/>
              <a:chOff x="4289040" y="6406560"/>
              <a:chExt cx="451080" cy="420480"/>
            </a:xfrm>
          </p:grpSpPr>
          <p:sp>
            <p:nvSpPr>
              <p:cNvPr id="579" name=""/>
              <p:cNvSpPr/>
              <p:nvPr/>
            </p:nvSpPr>
            <p:spPr>
              <a:xfrm rot="16490400">
                <a:off x="4566960" y="6382080"/>
                <a:ext cx="101880" cy="235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" name=""/>
              <p:cNvGrpSpPr/>
              <p:nvPr/>
            </p:nvGrpSpPr>
            <p:grpSpPr>
              <a:xfrm>
                <a:off x="4289040" y="6406560"/>
                <a:ext cx="351720" cy="420480"/>
                <a:chOff x="4289040" y="6406560"/>
                <a:chExt cx="351720" cy="42048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4289040" y="6406560"/>
                  <a:ext cx="351720" cy="420480"/>
                  <a:chOff x="4289040" y="6406560"/>
                  <a:chExt cx="351720" cy="42048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18288000">
                    <a:off x="4223520" y="6566760"/>
                    <a:ext cx="424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8288000">
                    <a:off x="4266360" y="6584040"/>
                    <a:ext cx="433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 rot="18288000">
                  <a:off x="4532400" y="6478920"/>
                  <a:ext cx="43560" cy="586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18288000">
                  <a:off x="4498200" y="6528240"/>
                  <a:ext cx="43560" cy="586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18288000">
                  <a:off x="4464000" y="6589800"/>
                  <a:ext cx="35640" cy="374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18288000">
                  <a:off x="4447440" y="6523920"/>
                  <a:ext cx="55800" cy="2916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18288000">
                  <a:off x="4473000" y="6480360"/>
                  <a:ext cx="59760" cy="32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9" name=""/>
            <p:cNvGrpSpPr/>
            <p:nvPr/>
          </p:nvGrpSpPr>
          <p:grpSpPr>
            <a:xfrm>
              <a:off x="2810160" y="6408360"/>
              <a:ext cx="536760" cy="308160"/>
              <a:chOff x="2810160" y="6408360"/>
              <a:chExt cx="536760" cy="308160"/>
            </a:xfrm>
          </p:grpSpPr>
          <p:sp>
            <p:nvSpPr>
              <p:cNvPr id="590" name=""/>
              <p:cNvSpPr/>
              <p:nvPr/>
            </p:nvSpPr>
            <p:spPr>
              <a:xfrm flipH="1" rot="3444600">
                <a:off x="2885760" y="6413760"/>
                <a:ext cx="101520" cy="235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2903760" y="6408360"/>
                <a:ext cx="443160" cy="308160"/>
                <a:chOff x="2903760" y="6408360"/>
                <a:chExt cx="443160" cy="30816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2903760" y="6408360"/>
                  <a:ext cx="443160" cy="308160"/>
                  <a:chOff x="2903760" y="6408360"/>
                  <a:chExt cx="443160" cy="30816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flipH="1" rot="1647000">
                    <a:off x="2931840" y="6502320"/>
                    <a:ext cx="424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rot="1647000">
                    <a:off x="2898360" y="6538320"/>
                    <a:ext cx="433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 flipH="1" rot="1647000">
                  <a:off x="2974680" y="6480000"/>
                  <a:ext cx="43560" cy="590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rot="1647000">
                  <a:off x="3028320" y="6507720"/>
                  <a:ext cx="43560" cy="590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rot="1647000">
                  <a:off x="3089160" y="6545520"/>
                  <a:ext cx="35640" cy="37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 rot="1647000">
                  <a:off x="3052440" y="6485400"/>
                  <a:ext cx="5580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rot="1647000">
                  <a:off x="3007080" y="6458760"/>
                  <a:ext cx="59760" cy="32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0" name=""/>
            <p:cNvGrpSpPr/>
            <p:nvPr/>
          </p:nvGrpSpPr>
          <p:grpSpPr>
            <a:xfrm>
              <a:off x="809280" y="6168240"/>
              <a:ext cx="451080" cy="420480"/>
              <a:chOff x="809280" y="6168240"/>
              <a:chExt cx="451080" cy="420480"/>
            </a:xfrm>
          </p:grpSpPr>
          <p:sp>
            <p:nvSpPr>
              <p:cNvPr id="601" name=""/>
              <p:cNvSpPr/>
              <p:nvPr/>
            </p:nvSpPr>
            <p:spPr>
              <a:xfrm rot="16490400">
                <a:off x="1087200" y="6143760"/>
                <a:ext cx="101880" cy="235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809280" y="6168240"/>
                <a:ext cx="351720" cy="420480"/>
                <a:chOff x="809280" y="6168240"/>
                <a:chExt cx="351720" cy="420480"/>
              </a:xfrm>
            </p:grpSpPr>
            <p:grpSp>
              <p:nvGrpSpPr>
                <p:cNvPr id="603" name=""/>
                <p:cNvGrpSpPr/>
                <p:nvPr/>
              </p:nvGrpSpPr>
              <p:grpSpPr>
                <a:xfrm>
                  <a:off x="809280" y="6168240"/>
                  <a:ext cx="351720" cy="420480"/>
                  <a:chOff x="809280" y="6168240"/>
                  <a:chExt cx="351720" cy="4204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18288000">
                    <a:off x="743760" y="6328440"/>
                    <a:ext cx="424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8288000">
                    <a:off x="786600" y="6345720"/>
                    <a:ext cx="433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6" name=""/>
                <p:cNvSpPr/>
                <p:nvPr/>
              </p:nvSpPr>
              <p:spPr>
                <a:xfrm rot="18288000">
                  <a:off x="1052640" y="6240600"/>
                  <a:ext cx="43560" cy="586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18288000">
                  <a:off x="1018440" y="6289920"/>
                  <a:ext cx="43560" cy="586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rot="18288000">
                  <a:off x="984240" y="6351480"/>
                  <a:ext cx="35640" cy="374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18288000">
                  <a:off x="967680" y="6285600"/>
                  <a:ext cx="55800" cy="2916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18288000">
                  <a:off x="993240" y="6242040"/>
                  <a:ext cx="59760" cy="32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"/>
            <p:cNvGrpSpPr/>
            <p:nvPr/>
          </p:nvGrpSpPr>
          <p:grpSpPr>
            <a:xfrm>
              <a:off x="2752560" y="6002640"/>
              <a:ext cx="600840" cy="384840"/>
              <a:chOff x="2752560" y="6002640"/>
              <a:chExt cx="600840" cy="384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2823120" y="6081120"/>
                <a:ext cx="530280" cy="306360"/>
                <a:chOff x="2823120" y="6081120"/>
                <a:chExt cx="530280" cy="30636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2967120" y="6198120"/>
                  <a:ext cx="222480" cy="189360"/>
                </a:xfrm>
                <a:custGeom>
                  <a:avLst/>
                  <a:gdLst/>
                  <a:ahLst/>
                  <a:rect l="l" t="t" r="r" b="b"/>
                  <a:pathLst>
                    <a:path w="328" h="504">
                      <a:moveTo>
                        <a:pt x="192" y="488"/>
                      </a:moveTo>
                      <a:cubicBezTo>
                        <a:pt x="152" y="488"/>
                        <a:pt x="80" y="504"/>
                        <a:pt x="48" y="488"/>
                      </a:cubicBezTo>
                      <a:cubicBezTo>
                        <a:pt x="16" y="472"/>
                        <a:pt x="0" y="432"/>
                        <a:pt x="0" y="392"/>
                      </a:cubicBezTo>
                      <a:cubicBezTo>
                        <a:pt x="0" y="352"/>
                        <a:pt x="40" y="304"/>
                        <a:pt x="48" y="248"/>
                      </a:cubicBezTo>
                      <a:cubicBezTo>
                        <a:pt x="56" y="192"/>
                        <a:pt x="40" y="96"/>
                        <a:pt x="48" y="56"/>
                      </a:cubicBezTo>
                      <a:cubicBezTo>
                        <a:pt x="56" y="16"/>
                        <a:pt x="64" y="16"/>
                        <a:pt x="96" y="8"/>
                      </a:cubicBezTo>
                      <a:cubicBezTo>
                        <a:pt x="128" y="0"/>
                        <a:pt x="208" y="0"/>
                        <a:pt x="240" y="8"/>
                      </a:cubicBezTo>
                      <a:cubicBezTo>
                        <a:pt x="272" y="16"/>
                        <a:pt x="280" y="40"/>
                        <a:pt x="288" y="56"/>
                      </a:cubicBezTo>
                      <a:cubicBezTo>
                        <a:pt x="296" y="72"/>
                        <a:pt x="288" y="80"/>
                        <a:pt x="288" y="104"/>
                      </a:cubicBezTo>
                      <a:cubicBezTo>
                        <a:pt x="288" y="128"/>
                        <a:pt x="288" y="168"/>
                        <a:pt x="288" y="200"/>
                      </a:cubicBezTo>
                      <a:cubicBezTo>
                        <a:pt x="288" y="232"/>
                        <a:pt x="281" y="257"/>
                        <a:pt x="288" y="296"/>
                      </a:cubicBezTo>
                      <a:cubicBezTo>
                        <a:pt x="295" y="335"/>
                        <a:pt x="328" y="403"/>
                        <a:pt x="328" y="435"/>
                      </a:cubicBezTo>
                      <a:cubicBezTo>
                        <a:pt x="328" y="467"/>
                        <a:pt x="311" y="479"/>
                        <a:pt x="288" y="488"/>
                      </a:cubicBezTo>
                      <a:cubicBezTo>
                        <a:pt x="265" y="497"/>
                        <a:pt x="232" y="488"/>
                        <a:pt x="192" y="488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823120" y="6081120"/>
                  <a:ext cx="530280" cy="156240"/>
                </a:xfrm>
                <a:custGeom>
                  <a:avLst/>
                  <a:gdLst/>
                  <a:ahLst/>
                  <a:rect l="l" t="t" r="r" b="b"/>
                  <a:pathLst>
                    <a:path w="781" h="416">
                      <a:moveTo>
                        <a:pt x="674" y="350"/>
                      </a:moveTo>
                      <a:cubicBezTo>
                        <a:pt x="669" y="354"/>
                        <a:pt x="665" y="350"/>
                        <a:pt x="644" y="360"/>
                      </a:cubicBezTo>
                      <a:cubicBezTo>
                        <a:pt x="623" y="370"/>
                        <a:pt x="596" y="400"/>
                        <a:pt x="548" y="408"/>
                      </a:cubicBezTo>
                      <a:cubicBezTo>
                        <a:pt x="500" y="416"/>
                        <a:pt x="428" y="416"/>
                        <a:pt x="356" y="408"/>
                      </a:cubicBezTo>
                      <a:cubicBezTo>
                        <a:pt x="284" y="400"/>
                        <a:pt x="171" y="372"/>
                        <a:pt x="116" y="360"/>
                      </a:cubicBezTo>
                      <a:cubicBezTo>
                        <a:pt x="61" y="348"/>
                        <a:pt x="41" y="352"/>
                        <a:pt x="23" y="335"/>
                      </a:cubicBezTo>
                      <a:cubicBezTo>
                        <a:pt x="5" y="318"/>
                        <a:pt x="0" y="287"/>
                        <a:pt x="7" y="259"/>
                      </a:cubicBezTo>
                      <a:cubicBezTo>
                        <a:pt x="14" y="231"/>
                        <a:pt x="7" y="208"/>
                        <a:pt x="68" y="168"/>
                      </a:cubicBezTo>
                      <a:cubicBezTo>
                        <a:pt x="129" y="128"/>
                        <a:pt x="291" y="32"/>
                        <a:pt x="371" y="16"/>
                      </a:cubicBezTo>
                      <a:cubicBezTo>
                        <a:pt x="451" y="0"/>
                        <a:pt x="487" y="47"/>
                        <a:pt x="548" y="72"/>
                      </a:cubicBezTo>
                      <a:cubicBezTo>
                        <a:pt x="609" y="97"/>
                        <a:pt x="701" y="142"/>
                        <a:pt x="740" y="168"/>
                      </a:cubicBezTo>
                      <a:cubicBezTo>
                        <a:pt x="779" y="194"/>
                        <a:pt x="781" y="209"/>
                        <a:pt x="780" y="229"/>
                      </a:cubicBezTo>
                      <a:cubicBezTo>
                        <a:pt x="779" y="249"/>
                        <a:pt x="774" y="259"/>
                        <a:pt x="735" y="289"/>
                      </a:cubicBezTo>
                      <a:cubicBezTo>
                        <a:pt x="696" y="319"/>
                        <a:pt x="587" y="383"/>
                        <a:pt x="548" y="40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2752560" y="6002640"/>
                <a:ext cx="502200" cy="288720"/>
                <a:chOff x="2752560" y="6002640"/>
                <a:chExt cx="502200" cy="288720"/>
              </a:xfrm>
            </p:grpSpPr>
            <p:sp>
              <p:nvSpPr>
                <p:cNvPr id="616" name=""/>
                <p:cNvSpPr/>
                <p:nvPr/>
              </p:nvSpPr>
              <p:spPr>
                <a:xfrm flipH="1" rot="3444600">
                  <a:off x="2823120" y="6008040"/>
                  <a:ext cx="95760" cy="2206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2839320" y="6002640"/>
                  <a:ext cx="415440" cy="288720"/>
                  <a:chOff x="2839320" y="6002640"/>
                  <a:chExt cx="415440" cy="288720"/>
                </a:xfrm>
              </p:grpSpPr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2839320" y="6002640"/>
                    <a:ext cx="415440" cy="288720"/>
                    <a:chOff x="2839320" y="6002640"/>
                    <a:chExt cx="415440" cy="288720"/>
                  </a:xfrm>
                </p:grpSpPr>
                <p:sp>
                  <p:nvSpPr>
                    <p:cNvPr id="619" name=""/>
                    <p:cNvSpPr/>
                    <p:nvPr/>
                  </p:nvSpPr>
                  <p:spPr>
                    <a:xfrm flipH="1" rot="1647000">
                      <a:off x="2865600" y="6090840"/>
                      <a:ext cx="3978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251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2960" bIns="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flipH="1" rot="1647000">
                      <a:off x="2833920" y="6124320"/>
                      <a:ext cx="40644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81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1" name=""/>
                  <p:cNvSpPr/>
                  <p:nvPr/>
                </p:nvSpPr>
                <p:spPr>
                  <a:xfrm flipH="1" rot="1647000">
                    <a:off x="2905920" y="6069600"/>
                    <a:ext cx="406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1647000">
                    <a:off x="2955960" y="6095880"/>
                    <a:ext cx="406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1647000">
                    <a:off x="3013920" y="613152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 rot="1647000">
                    <a:off x="2979000" y="607428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1647000">
                    <a:off x="2936520" y="6049800"/>
                    <a:ext cx="561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6" name=""/>
            <p:cNvGrpSpPr/>
            <p:nvPr/>
          </p:nvGrpSpPr>
          <p:grpSpPr>
            <a:xfrm>
              <a:off x="5936040" y="6182280"/>
              <a:ext cx="592920" cy="149040"/>
              <a:chOff x="5936040" y="6182280"/>
              <a:chExt cx="592920" cy="149040"/>
            </a:xfrm>
          </p:grpSpPr>
          <p:grpSp>
            <p:nvGrpSpPr>
              <p:cNvPr id="627" name=""/>
              <p:cNvGrpSpPr/>
              <p:nvPr/>
            </p:nvGrpSpPr>
            <p:grpSpPr>
              <a:xfrm>
                <a:off x="5936040" y="6182280"/>
                <a:ext cx="330840" cy="100080"/>
                <a:chOff x="5936040" y="6182280"/>
                <a:chExt cx="330840" cy="10008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5936040" y="6185520"/>
                  <a:ext cx="163800" cy="95760"/>
                  <a:chOff x="5936040" y="6185520"/>
                  <a:chExt cx="163800" cy="95760"/>
                </a:xfrm>
              </p:grpSpPr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6040080" y="6185520"/>
                    <a:ext cx="59760" cy="67680"/>
                    <a:chOff x="6040080" y="6185520"/>
                    <a:chExt cx="59760" cy="676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21429000">
                      <a:off x="6041160" y="618660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21429000">
                      <a:off x="6044400" y="61880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999400" y="6193080"/>
                    <a:ext cx="66600" cy="73440"/>
                    <a:chOff x="5999400" y="6193080"/>
                    <a:chExt cx="66600" cy="734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20978400">
                      <a:off x="6004080" y="619740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20978400">
                      <a:off x="6007320" y="61995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936040" y="6199560"/>
                    <a:ext cx="78840" cy="81720"/>
                    <a:chOff x="5936040" y="6199560"/>
                    <a:chExt cx="78840" cy="817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9872000">
                      <a:off x="5946480" y="62092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9872000">
                      <a:off x="5951160" y="62121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6102360" y="6182280"/>
                  <a:ext cx="164520" cy="100080"/>
                  <a:chOff x="6102360" y="6182280"/>
                  <a:chExt cx="164520" cy="100080"/>
                </a:xfrm>
              </p:grpSpPr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102360" y="6182280"/>
                    <a:ext cx="61200" cy="69480"/>
                    <a:chOff x="6102360" y="6182280"/>
                    <a:chExt cx="61200" cy="694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rot="274200">
                      <a:off x="6104520" y="61844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rot="274200">
                      <a:off x="6121440" y="61858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6136560" y="6190920"/>
                    <a:ext cx="68400" cy="74880"/>
                    <a:chOff x="6136560" y="6190920"/>
                    <a:chExt cx="68400" cy="7488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rot="724800">
                      <a:off x="6141960" y="619596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rot="724800">
                      <a:off x="6159240" y="61984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6187320" y="6199560"/>
                    <a:ext cx="79560" cy="82800"/>
                    <a:chOff x="6187320" y="6199560"/>
                    <a:chExt cx="79560" cy="8280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rot="1831200">
                      <a:off x="6198480" y="62096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rot="1831200">
                      <a:off x="6213960" y="62132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8" name=""/>
              <p:cNvGrpSpPr/>
              <p:nvPr/>
            </p:nvGrpSpPr>
            <p:grpSpPr>
              <a:xfrm>
                <a:off x="6204240" y="6201360"/>
                <a:ext cx="324720" cy="129960"/>
                <a:chOff x="6204240" y="6201360"/>
                <a:chExt cx="324720" cy="12996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6365160" y="6212520"/>
                  <a:ext cx="163800" cy="118800"/>
                  <a:chOff x="6365160" y="6212520"/>
                  <a:chExt cx="163800" cy="118800"/>
                </a:xfrm>
              </p:grpSpPr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6365160" y="6212520"/>
                    <a:ext cx="69480" cy="75960"/>
                    <a:chOff x="6365160" y="6212520"/>
                    <a:chExt cx="69480" cy="7596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829800">
                      <a:off x="6371280" y="62182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829800">
                      <a:off x="6387480" y="622080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6396840" y="6228000"/>
                    <a:ext cx="74520" cy="79920"/>
                    <a:chOff x="6396840" y="6228000"/>
                    <a:chExt cx="74520" cy="7992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280400">
                      <a:off x="6405840" y="623592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280400">
                      <a:off x="6422040" y="62391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6446880" y="6247440"/>
                    <a:ext cx="82080" cy="83880"/>
                    <a:chOff x="6446880" y="6247440"/>
                    <a:chExt cx="82080" cy="8388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rot="2386800">
                      <a:off x="6459120" y="625860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rot="2386800">
                      <a:off x="6474240" y="62629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204240" y="6201360"/>
                  <a:ext cx="165600" cy="80640"/>
                  <a:chOff x="6204240" y="6201360"/>
                  <a:chExt cx="165600" cy="80640"/>
                </a:xfrm>
              </p:grpSpPr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6306480" y="6201360"/>
                    <a:ext cx="63360" cy="68760"/>
                    <a:chOff x="6306480" y="6201360"/>
                    <a:chExt cx="63360" cy="6876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flipH="1" rot="384600">
                      <a:off x="6309360" y="62042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H="1" rot="384600">
                      <a:off x="6311880" y="62038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6270120" y="6207840"/>
                    <a:ext cx="57960" cy="66600"/>
                    <a:chOff x="6270120" y="6207840"/>
                    <a:chExt cx="57960" cy="6660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 rot="21534000">
                      <a:off x="6270120" y="620820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 rot="21534000">
                      <a:off x="6272640" y="62096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6204240" y="6203520"/>
                    <a:ext cx="73800" cy="78480"/>
                    <a:chOff x="6204240" y="6203520"/>
                    <a:chExt cx="73800" cy="7848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flipH="1" rot="20427600">
                      <a:off x="6212160" y="62110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flipH="1" rot="20427600">
                      <a:off x="6216480" y="62132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9" name=""/>
            <p:cNvGrpSpPr/>
            <p:nvPr/>
          </p:nvGrpSpPr>
          <p:grpSpPr>
            <a:xfrm>
              <a:off x="2928240" y="6318720"/>
              <a:ext cx="592920" cy="149040"/>
              <a:chOff x="2928240" y="6318720"/>
              <a:chExt cx="592920" cy="14904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2928240" y="6318720"/>
                <a:ext cx="330840" cy="100080"/>
                <a:chOff x="2928240" y="6318720"/>
                <a:chExt cx="330840" cy="10008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2928240" y="6321960"/>
                  <a:ext cx="163800" cy="95760"/>
                  <a:chOff x="2928240" y="6321960"/>
                  <a:chExt cx="163800" cy="9576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3032280" y="6321960"/>
                    <a:ext cx="59760" cy="67680"/>
                    <a:chOff x="3032280" y="6321960"/>
                    <a:chExt cx="59760" cy="676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 rot="21429000">
                      <a:off x="3033360" y="63230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flipH="1" rot="21429000">
                      <a:off x="3036600" y="63244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2991600" y="6329520"/>
                    <a:ext cx="66600" cy="73440"/>
                    <a:chOff x="2991600" y="6329520"/>
                    <a:chExt cx="66600" cy="7344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 flipH="1" rot="20978400">
                      <a:off x="2996280" y="633384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H="1" rot="20978400">
                      <a:off x="2999520" y="633600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2928240" y="6336000"/>
                    <a:ext cx="78840" cy="81720"/>
                    <a:chOff x="2928240" y="6336000"/>
                    <a:chExt cx="78840" cy="8172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 flipH="1" rot="19872000">
                      <a:off x="2938680" y="63457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 rot="19872000">
                      <a:off x="2943360" y="634860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3094560" y="6318720"/>
                  <a:ext cx="164520" cy="100080"/>
                  <a:chOff x="3094560" y="6318720"/>
                  <a:chExt cx="164520" cy="10008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3094560" y="6318720"/>
                    <a:ext cx="61200" cy="69480"/>
                    <a:chOff x="3094560" y="6318720"/>
                    <a:chExt cx="61200" cy="694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274200">
                      <a:off x="3096720" y="63208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274200">
                      <a:off x="3113640" y="63223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3128760" y="6327360"/>
                    <a:ext cx="68400" cy="74880"/>
                    <a:chOff x="3128760" y="6327360"/>
                    <a:chExt cx="68400" cy="7488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724800">
                      <a:off x="3134160" y="633240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724800">
                      <a:off x="3151440" y="63349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3179520" y="6336000"/>
                    <a:ext cx="79560" cy="82800"/>
                    <a:chOff x="3179520" y="6336000"/>
                    <a:chExt cx="79560" cy="8280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1831200">
                      <a:off x="3190680" y="63460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1831200">
                      <a:off x="3206160" y="63496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3196440" y="6337800"/>
                <a:ext cx="324720" cy="129960"/>
                <a:chOff x="3196440" y="6337800"/>
                <a:chExt cx="324720" cy="1299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3357360" y="6348960"/>
                  <a:ext cx="163800" cy="118800"/>
                  <a:chOff x="3357360" y="6348960"/>
                  <a:chExt cx="163800" cy="11880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3357360" y="6348960"/>
                    <a:ext cx="69480" cy="75960"/>
                    <a:chOff x="3357360" y="6348960"/>
                    <a:chExt cx="69480" cy="7596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829800">
                      <a:off x="3363480" y="63547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829800">
                      <a:off x="3379680" y="63572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3389040" y="6364440"/>
                    <a:ext cx="74520" cy="79920"/>
                    <a:chOff x="3389040" y="6364440"/>
                    <a:chExt cx="74520" cy="7992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1280400">
                      <a:off x="3398040" y="637236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1280400">
                      <a:off x="3414240" y="637560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3439080" y="6383880"/>
                    <a:ext cx="82080" cy="83880"/>
                    <a:chOff x="3439080" y="6383880"/>
                    <a:chExt cx="82080" cy="8388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2386800">
                      <a:off x="3451320" y="63950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2386800">
                      <a:off x="3466440" y="63993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3196440" y="6337800"/>
                  <a:ext cx="165600" cy="80640"/>
                  <a:chOff x="3196440" y="6337800"/>
                  <a:chExt cx="165600" cy="80640"/>
                </a:xfrm>
              </p:grpSpPr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3298680" y="6337800"/>
                    <a:ext cx="63360" cy="68760"/>
                    <a:chOff x="3298680" y="6337800"/>
                    <a:chExt cx="63360" cy="6876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384600">
                      <a:off x="3301560" y="63406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384600">
                      <a:off x="3304080" y="63403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3262320" y="6344280"/>
                    <a:ext cx="57960" cy="66600"/>
                    <a:chOff x="3262320" y="6344280"/>
                    <a:chExt cx="57960" cy="6660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21534000">
                      <a:off x="3262320" y="63446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21534000">
                      <a:off x="3264840" y="63460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3196440" y="6339960"/>
                    <a:ext cx="73800" cy="78480"/>
                    <a:chOff x="3196440" y="6339960"/>
                    <a:chExt cx="73800" cy="7848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flipH="1" rot="20427600">
                      <a:off x="3204360" y="63475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 rot="20427600">
                      <a:off x="3208680" y="63496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712" name=""/>
            <p:cNvGrpSpPr/>
            <p:nvPr/>
          </p:nvGrpSpPr>
          <p:grpSpPr>
            <a:xfrm>
              <a:off x="2928240" y="6386760"/>
              <a:ext cx="592920" cy="149040"/>
              <a:chOff x="2928240" y="6386760"/>
              <a:chExt cx="592920" cy="14904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2928240" y="6386760"/>
                <a:ext cx="330840" cy="100080"/>
                <a:chOff x="2928240" y="6386760"/>
                <a:chExt cx="330840" cy="100080"/>
              </a:xfrm>
            </p:grpSpPr>
            <p:grpSp>
              <p:nvGrpSpPr>
                <p:cNvPr id="714" name=""/>
                <p:cNvGrpSpPr/>
                <p:nvPr/>
              </p:nvGrpSpPr>
              <p:grpSpPr>
                <a:xfrm>
                  <a:off x="2928240" y="6390000"/>
                  <a:ext cx="163800" cy="95760"/>
                  <a:chOff x="2928240" y="6390000"/>
                  <a:chExt cx="163800" cy="95760"/>
                </a:xfrm>
              </p:grpSpPr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3032280" y="6390000"/>
                    <a:ext cx="59760" cy="67680"/>
                    <a:chOff x="3032280" y="6390000"/>
                    <a:chExt cx="59760" cy="6768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flipH="1" rot="21429000">
                      <a:off x="3033360" y="63910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 rot="21429000">
                      <a:off x="3036600" y="63925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8" name=""/>
                  <p:cNvGrpSpPr/>
                  <p:nvPr/>
                </p:nvGrpSpPr>
                <p:grpSpPr>
                  <a:xfrm>
                    <a:off x="2991600" y="6397560"/>
                    <a:ext cx="66600" cy="73440"/>
                    <a:chOff x="2991600" y="6397560"/>
                    <a:chExt cx="66600" cy="73440"/>
                  </a:xfrm>
                </p:grpSpPr>
                <p:sp>
                  <p:nvSpPr>
                    <p:cNvPr id="719" name=""/>
                    <p:cNvSpPr/>
                    <p:nvPr/>
                  </p:nvSpPr>
                  <p:spPr>
                    <a:xfrm flipH="1" rot="20978400">
                      <a:off x="2996280" y="640188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 rot="20978400">
                      <a:off x="2999520" y="64040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2928240" y="6404040"/>
                    <a:ext cx="78840" cy="81720"/>
                    <a:chOff x="2928240" y="6404040"/>
                    <a:chExt cx="78840" cy="8172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flipH="1" rot="19872000">
                      <a:off x="2938680" y="641376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H="1" rot="19872000">
                      <a:off x="2943360" y="64166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3094560" y="6386760"/>
                  <a:ext cx="164520" cy="100080"/>
                  <a:chOff x="3094560" y="6386760"/>
                  <a:chExt cx="164520" cy="100080"/>
                </a:xfrm>
              </p:grpSpPr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3094560" y="6386760"/>
                    <a:ext cx="61200" cy="69480"/>
                    <a:chOff x="3094560" y="6386760"/>
                    <a:chExt cx="61200" cy="6948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rot="274200">
                      <a:off x="3096720" y="63889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rot="274200">
                      <a:off x="3113640" y="63903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3128760" y="6395400"/>
                    <a:ext cx="68400" cy="74880"/>
                    <a:chOff x="3128760" y="6395400"/>
                    <a:chExt cx="68400" cy="7488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724800">
                      <a:off x="3134160" y="64004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724800">
                      <a:off x="3151440" y="64029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3179520" y="6404040"/>
                    <a:ext cx="79560" cy="82800"/>
                    <a:chOff x="3179520" y="6404040"/>
                    <a:chExt cx="79560" cy="8280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1831200">
                      <a:off x="3190680" y="64141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1831200">
                      <a:off x="3206160" y="64177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4" name=""/>
              <p:cNvGrpSpPr/>
              <p:nvPr/>
            </p:nvGrpSpPr>
            <p:grpSpPr>
              <a:xfrm>
                <a:off x="3196440" y="6405840"/>
                <a:ext cx="324720" cy="129960"/>
                <a:chOff x="3196440" y="6405840"/>
                <a:chExt cx="324720" cy="12996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3357360" y="6417000"/>
                  <a:ext cx="163800" cy="118800"/>
                  <a:chOff x="3357360" y="6417000"/>
                  <a:chExt cx="163800" cy="118800"/>
                </a:xfrm>
              </p:grpSpPr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3357360" y="6417000"/>
                    <a:ext cx="69480" cy="75960"/>
                    <a:chOff x="3357360" y="6417000"/>
                    <a:chExt cx="69480" cy="7596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rot="829800">
                      <a:off x="3363480" y="642276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rot="829800">
                      <a:off x="3379680" y="64252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3389040" y="6432480"/>
                    <a:ext cx="74520" cy="79920"/>
                    <a:chOff x="3389040" y="6432480"/>
                    <a:chExt cx="74520" cy="7992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 rot="1280400">
                      <a:off x="3398040" y="644040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rot="1280400">
                      <a:off x="3414240" y="64436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3439080" y="6451920"/>
                    <a:ext cx="82080" cy="83880"/>
                    <a:chOff x="3439080" y="6451920"/>
                    <a:chExt cx="82080" cy="83880"/>
                  </a:xfrm>
                </p:grpSpPr>
                <p:sp>
                  <p:nvSpPr>
                    <p:cNvPr id="743" name=""/>
                    <p:cNvSpPr/>
                    <p:nvPr/>
                  </p:nvSpPr>
                  <p:spPr>
                    <a:xfrm rot="2386800">
                      <a:off x="3451320" y="64630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 rot="2386800">
                      <a:off x="3466440" y="646740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3196440" y="6405840"/>
                  <a:ext cx="165600" cy="80640"/>
                  <a:chOff x="3196440" y="6405840"/>
                  <a:chExt cx="165600" cy="80640"/>
                </a:xfrm>
              </p:grpSpPr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3298680" y="6405840"/>
                    <a:ext cx="63360" cy="68760"/>
                    <a:chOff x="3298680" y="6405840"/>
                    <a:chExt cx="63360" cy="6876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flipH="1" rot="384600">
                      <a:off x="3301560" y="64087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flipH="1" rot="384600">
                      <a:off x="3304080" y="64083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3262320" y="6412320"/>
                    <a:ext cx="57960" cy="66600"/>
                    <a:chOff x="3262320" y="6412320"/>
                    <a:chExt cx="57960" cy="6660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21534000">
                      <a:off x="3262320" y="64126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21534000">
                      <a:off x="3264840" y="64141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3196440" y="6408000"/>
                    <a:ext cx="73800" cy="78480"/>
                    <a:chOff x="3196440" y="6408000"/>
                    <a:chExt cx="73800" cy="7848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20427600">
                      <a:off x="3204360" y="641556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20427600">
                      <a:off x="3208680" y="64177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755" name=""/>
            <p:cNvGrpSpPr/>
            <p:nvPr/>
          </p:nvGrpSpPr>
          <p:grpSpPr>
            <a:xfrm>
              <a:off x="1217520" y="6216480"/>
              <a:ext cx="592920" cy="149040"/>
              <a:chOff x="1217520" y="6216480"/>
              <a:chExt cx="592920" cy="14904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1217520" y="6216480"/>
                <a:ext cx="330840" cy="100080"/>
                <a:chOff x="1217520" y="6216480"/>
                <a:chExt cx="330840" cy="100080"/>
              </a:xfrm>
            </p:grpSpPr>
            <p:grpSp>
              <p:nvGrpSpPr>
                <p:cNvPr id="757" name=""/>
                <p:cNvGrpSpPr/>
                <p:nvPr/>
              </p:nvGrpSpPr>
              <p:grpSpPr>
                <a:xfrm>
                  <a:off x="1217520" y="6219720"/>
                  <a:ext cx="163800" cy="95760"/>
                  <a:chOff x="1217520" y="6219720"/>
                  <a:chExt cx="163800" cy="95760"/>
                </a:xfrm>
              </p:grpSpPr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1321560" y="6219720"/>
                    <a:ext cx="59760" cy="67680"/>
                    <a:chOff x="1321560" y="6219720"/>
                    <a:chExt cx="59760" cy="6768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1429000">
                      <a:off x="1322640" y="622080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1429000">
                      <a:off x="1325880" y="62222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1280880" y="6227280"/>
                    <a:ext cx="66600" cy="73440"/>
                    <a:chOff x="1280880" y="6227280"/>
                    <a:chExt cx="66600" cy="734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0978400">
                      <a:off x="1285560" y="623160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0978400">
                      <a:off x="1288800" y="62337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1217520" y="6233760"/>
                    <a:ext cx="78840" cy="81720"/>
                    <a:chOff x="1217520" y="6233760"/>
                    <a:chExt cx="78840" cy="8172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19872000">
                      <a:off x="1227960" y="62434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19872000">
                      <a:off x="1232640" y="62463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1383840" y="6216480"/>
                  <a:ext cx="164520" cy="100080"/>
                  <a:chOff x="1383840" y="6216480"/>
                  <a:chExt cx="164520" cy="10008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1383840" y="6216480"/>
                    <a:ext cx="61200" cy="69480"/>
                    <a:chOff x="1383840" y="6216480"/>
                    <a:chExt cx="61200" cy="6948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274200">
                      <a:off x="1386000" y="62186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274200">
                      <a:off x="1402920" y="62200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1418040" y="6225120"/>
                    <a:ext cx="68400" cy="74880"/>
                    <a:chOff x="1418040" y="6225120"/>
                    <a:chExt cx="68400" cy="7488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724800">
                      <a:off x="1423440" y="623016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724800">
                      <a:off x="1440720" y="62326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1468800" y="6233760"/>
                    <a:ext cx="79560" cy="82800"/>
                    <a:chOff x="1468800" y="6233760"/>
                    <a:chExt cx="79560" cy="8280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1831200">
                      <a:off x="1479960" y="62438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1831200">
                      <a:off x="1495440" y="62474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7" name=""/>
              <p:cNvGrpSpPr/>
              <p:nvPr/>
            </p:nvGrpSpPr>
            <p:grpSpPr>
              <a:xfrm>
                <a:off x="1485720" y="6235560"/>
                <a:ext cx="324720" cy="129960"/>
                <a:chOff x="1485720" y="6235560"/>
                <a:chExt cx="324720" cy="12996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1646640" y="6246720"/>
                  <a:ext cx="163800" cy="118800"/>
                  <a:chOff x="1646640" y="6246720"/>
                  <a:chExt cx="163800" cy="118800"/>
                </a:xfrm>
              </p:grpSpPr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1646640" y="6246720"/>
                    <a:ext cx="69480" cy="75960"/>
                    <a:chOff x="1646640" y="6246720"/>
                    <a:chExt cx="69480" cy="7596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829800">
                      <a:off x="1652760" y="62524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829800">
                      <a:off x="1668960" y="625500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1678320" y="6262200"/>
                    <a:ext cx="74520" cy="79920"/>
                    <a:chOff x="1678320" y="6262200"/>
                    <a:chExt cx="74520" cy="799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1280400">
                      <a:off x="1687320" y="627012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1280400">
                      <a:off x="1703520" y="62733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1728360" y="6281640"/>
                    <a:ext cx="82080" cy="83880"/>
                    <a:chOff x="1728360" y="6281640"/>
                    <a:chExt cx="82080" cy="8388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386800">
                      <a:off x="1740600" y="629280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386800">
                      <a:off x="1755720" y="62971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1485720" y="6235560"/>
                  <a:ext cx="165600" cy="80640"/>
                  <a:chOff x="1485720" y="6235560"/>
                  <a:chExt cx="165600" cy="80640"/>
                </a:xfrm>
              </p:grpSpPr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1587960" y="6235560"/>
                    <a:ext cx="63360" cy="68760"/>
                    <a:chOff x="1587960" y="6235560"/>
                    <a:chExt cx="63360" cy="6876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 rot="384600">
                      <a:off x="1590840" y="62384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H="1" rot="384600">
                      <a:off x="1593360" y="62380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1551600" y="6242040"/>
                    <a:ext cx="57960" cy="66600"/>
                    <a:chOff x="1551600" y="6242040"/>
                    <a:chExt cx="57960" cy="6660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flipH="1" rot="21534000">
                      <a:off x="1551600" y="624240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H="1" rot="21534000">
                      <a:off x="1554120" y="62438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1485720" y="6237720"/>
                    <a:ext cx="73800" cy="78480"/>
                    <a:chOff x="1485720" y="6237720"/>
                    <a:chExt cx="73800" cy="7848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flipH="1" rot="20427600">
                      <a:off x="1493640" y="62452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rot="20427600">
                      <a:off x="1497960" y="62474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798" name=""/>
            <p:cNvGrpSpPr/>
            <p:nvPr/>
          </p:nvGrpSpPr>
          <p:grpSpPr>
            <a:xfrm>
              <a:off x="216360" y="6070680"/>
              <a:ext cx="601920" cy="384840"/>
              <a:chOff x="216360" y="6070680"/>
              <a:chExt cx="601920" cy="38484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287640" y="6149160"/>
                <a:ext cx="530640" cy="306360"/>
                <a:chOff x="287640" y="6149160"/>
                <a:chExt cx="530640" cy="3063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431640" y="6266160"/>
                  <a:ext cx="222840" cy="189360"/>
                </a:xfrm>
                <a:custGeom>
                  <a:avLst/>
                  <a:gdLst/>
                  <a:ahLst/>
                  <a:rect l="l" t="t" r="r" b="b"/>
                  <a:pathLst>
                    <a:path w="328" h="504">
                      <a:moveTo>
                        <a:pt x="192" y="488"/>
                      </a:moveTo>
                      <a:cubicBezTo>
                        <a:pt x="152" y="488"/>
                        <a:pt x="80" y="504"/>
                        <a:pt x="48" y="488"/>
                      </a:cubicBezTo>
                      <a:cubicBezTo>
                        <a:pt x="16" y="472"/>
                        <a:pt x="0" y="432"/>
                        <a:pt x="0" y="392"/>
                      </a:cubicBezTo>
                      <a:cubicBezTo>
                        <a:pt x="0" y="352"/>
                        <a:pt x="40" y="304"/>
                        <a:pt x="48" y="248"/>
                      </a:cubicBezTo>
                      <a:cubicBezTo>
                        <a:pt x="56" y="192"/>
                        <a:pt x="40" y="96"/>
                        <a:pt x="48" y="56"/>
                      </a:cubicBezTo>
                      <a:cubicBezTo>
                        <a:pt x="56" y="16"/>
                        <a:pt x="64" y="16"/>
                        <a:pt x="96" y="8"/>
                      </a:cubicBezTo>
                      <a:cubicBezTo>
                        <a:pt x="128" y="0"/>
                        <a:pt x="208" y="0"/>
                        <a:pt x="240" y="8"/>
                      </a:cubicBezTo>
                      <a:cubicBezTo>
                        <a:pt x="272" y="16"/>
                        <a:pt x="280" y="40"/>
                        <a:pt x="288" y="56"/>
                      </a:cubicBezTo>
                      <a:cubicBezTo>
                        <a:pt x="296" y="72"/>
                        <a:pt x="288" y="80"/>
                        <a:pt x="288" y="104"/>
                      </a:cubicBezTo>
                      <a:cubicBezTo>
                        <a:pt x="288" y="128"/>
                        <a:pt x="288" y="168"/>
                        <a:pt x="288" y="200"/>
                      </a:cubicBezTo>
                      <a:cubicBezTo>
                        <a:pt x="288" y="232"/>
                        <a:pt x="281" y="257"/>
                        <a:pt x="288" y="296"/>
                      </a:cubicBezTo>
                      <a:cubicBezTo>
                        <a:pt x="295" y="335"/>
                        <a:pt x="328" y="403"/>
                        <a:pt x="328" y="435"/>
                      </a:cubicBezTo>
                      <a:cubicBezTo>
                        <a:pt x="328" y="467"/>
                        <a:pt x="311" y="479"/>
                        <a:pt x="288" y="488"/>
                      </a:cubicBezTo>
                      <a:cubicBezTo>
                        <a:pt x="265" y="497"/>
                        <a:pt x="232" y="488"/>
                        <a:pt x="192" y="488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87640" y="6149160"/>
                  <a:ext cx="530640" cy="156240"/>
                </a:xfrm>
                <a:custGeom>
                  <a:avLst/>
                  <a:gdLst/>
                  <a:ahLst/>
                  <a:rect l="l" t="t" r="r" b="b"/>
                  <a:pathLst>
                    <a:path w="781" h="416">
                      <a:moveTo>
                        <a:pt x="674" y="350"/>
                      </a:moveTo>
                      <a:cubicBezTo>
                        <a:pt x="669" y="354"/>
                        <a:pt x="665" y="350"/>
                        <a:pt x="644" y="360"/>
                      </a:cubicBezTo>
                      <a:cubicBezTo>
                        <a:pt x="623" y="370"/>
                        <a:pt x="596" y="400"/>
                        <a:pt x="548" y="408"/>
                      </a:cubicBezTo>
                      <a:cubicBezTo>
                        <a:pt x="500" y="416"/>
                        <a:pt x="428" y="416"/>
                        <a:pt x="356" y="408"/>
                      </a:cubicBezTo>
                      <a:cubicBezTo>
                        <a:pt x="284" y="400"/>
                        <a:pt x="171" y="372"/>
                        <a:pt x="116" y="360"/>
                      </a:cubicBezTo>
                      <a:cubicBezTo>
                        <a:pt x="61" y="348"/>
                        <a:pt x="41" y="352"/>
                        <a:pt x="23" y="335"/>
                      </a:cubicBezTo>
                      <a:cubicBezTo>
                        <a:pt x="5" y="318"/>
                        <a:pt x="0" y="287"/>
                        <a:pt x="7" y="259"/>
                      </a:cubicBezTo>
                      <a:cubicBezTo>
                        <a:pt x="14" y="231"/>
                        <a:pt x="7" y="208"/>
                        <a:pt x="68" y="168"/>
                      </a:cubicBezTo>
                      <a:cubicBezTo>
                        <a:pt x="129" y="128"/>
                        <a:pt x="291" y="32"/>
                        <a:pt x="371" y="16"/>
                      </a:cubicBezTo>
                      <a:cubicBezTo>
                        <a:pt x="451" y="0"/>
                        <a:pt x="487" y="47"/>
                        <a:pt x="548" y="72"/>
                      </a:cubicBezTo>
                      <a:cubicBezTo>
                        <a:pt x="609" y="97"/>
                        <a:pt x="701" y="142"/>
                        <a:pt x="740" y="168"/>
                      </a:cubicBezTo>
                      <a:cubicBezTo>
                        <a:pt x="779" y="194"/>
                        <a:pt x="781" y="209"/>
                        <a:pt x="780" y="229"/>
                      </a:cubicBezTo>
                      <a:cubicBezTo>
                        <a:pt x="779" y="249"/>
                        <a:pt x="774" y="259"/>
                        <a:pt x="735" y="289"/>
                      </a:cubicBezTo>
                      <a:cubicBezTo>
                        <a:pt x="696" y="319"/>
                        <a:pt x="587" y="383"/>
                        <a:pt x="548" y="40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216360" y="6070680"/>
                <a:ext cx="502560" cy="288720"/>
                <a:chOff x="216360" y="6070680"/>
                <a:chExt cx="502560" cy="288720"/>
              </a:xfrm>
            </p:grpSpPr>
            <p:sp>
              <p:nvSpPr>
                <p:cNvPr id="803" name=""/>
                <p:cNvSpPr/>
                <p:nvPr/>
              </p:nvSpPr>
              <p:spPr>
                <a:xfrm flipH="1" rot="3444600">
                  <a:off x="286920" y="6075360"/>
                  <a:ext cx="95760" cy="221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4" name=""/>
                <p:cNvGrpSpPr/>
                <p:nvPr/>
              </p:nvGrpSpPr>
              <p:grpSpPr>
                <a:xfrm>
                  <a:off x="303480" y="6070680"/>
                  <a:ext cx="415440" cy="288720"/>
                  <a:chOff x="303480" y="6070680"/>
                  <a:chExt cx="415440" cy="288720"/>
                </a:xfrm>
              </p:grpSpPr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03480" y="6070680"/>
                    <a:ext cx="415440" cy="288720"/>
                    <a:chOff x="303480" y="6070680"/>
                    <a:chExt cx="415440" cy="28872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647000">
                      <a:off x="329760" y="6158880"/>
                      <a:ext cx="3978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251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2960" bIns="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647000">
                      <a:off x="298080" y="6192360"/>
                      <a:ext cx="40644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81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8" name=""/>
                  <p:cNvSpPr/>
                  <p:nvPr/>
                </p:nvSpPr>
                <p:spPr>
                  <a:xfrm flipH="1" rot="1647000">
                    <a:off x="370080" y="6137640"/>
                    <a:ext cx="406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1647000">
                    <a:off x="420120" y="6163920"/>
                    <a:ext cx="406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rot="1647000">
                    <a:off x="478080" y="61995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1647000">
                    <a:off x="443160" y="614232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1647000">
                    <a:off x="400680" y="6117840"/>
                    <a:ext cx="561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3" name=""/>
            <p:cNvGrpSpPr/>
            <p:nvPr/>
          </p:nvGrpSpPr>
          <p:grpSpPr>
            <a:xfrm>
              <a:off x="529560" y="6306120"/>
              <a:ext cx="237960" cy="200880"/>
              <a:chOff x="529560" y="6306120"/>
              <a:chExt cx="237960" cy="200880"/>
            </a:xfrm>
          </p:grpSpPr>
          <p:sp>
            <p:nvSpPr>
              <p:cNvPr id="814" name=""/>
              <p:cNvSpPr/>
              <p:nvPr/>
            </p:nvSpPr>
            <p:spPr>
              <a:xfrm rot="1864800">
                <a:off x="564480" y="6403320"/>
                <a:ext cx="99000" cy="84240"/>
              </a:xfrm>
              <a:custGeom>
                <a:avLst/>
                <a:gdLst/>
                <a:ahLst/>
                <a:rect l="l" t="t" r="r" b="b"/>
                <a:pathLst>
                  <a:path w="328" h="504">
                    <a:moveTo>
                      <a:pt x="192" y="488"/>
                    </a:moveTo>
                    <a:cubicBezTo>
                      <a:pt x="152" y="488"/>
                      <a:pt x="80" y="504"/>
                      <a:pt x="48" y="488"/>
                    </a:cubicBezTo>
                    <a:cubicBezTo>
                      <a:pt x="16" y="472"/>
                      <a:pt x="0" y="432"/>
                      <a:pt x="0" y="392"/>
                    </a:cubicBezTo>
                    <a:cubicBezTo>
                      <a:pt x="0" y="352"/>
                      <a:pt x="40" y="304"/>
                      <a:pt x="48" y="248"/>
                    </a:cubicBezTo>
                    <a:cubicBezTo>
                      <a:pt x="56" y="192"/>
                      <a:pt x="40" y="96"/>
                      <a:pt x="48" y="56"/>
                    </a:cubicBezTo>
                    <a:cubicBezTo>
                      <a:pt x="56" y="16"/>
                      <a:pt x="64" y="16"/>
                      <a:pt x="96" y="8"/>
                    </a:cubicBezTo>
                    <a:cubicBezTo>
                      <a:pt x="128" y="0"/>
                      <a:pt x="208" y="0"/>
                      <a:pt x="240" y="8"/>
                    </a:cubicBezTo>
                    <a:cubicBezTo>
                      <a:pt x="272" y="16"/>
                      <a:pt x="280" y="40"/>
                      <a:pt x="288" y="56"/>
                    </a:cubicBezTo>
                    <a:cubicBezTo>
                      <a:pt x="296" y="72"/>
                      <a:pt x="288" y="80"/>
                      <a:pt x="288" y="104"/>
                    </a:cubicBezTo>
                    <a:cubicBezTo>
                      <a:pt x="288" y="128"/>
                      <a:pt x="288" y="168"/>
                      <a:pt x="288" y="200"/>
                    </a:cubicBezTo>
                    <a:cubicBezTo>
                      <a:pt x="288" y="232"/>
                      <a:pt x="281" y="257"/>
                      <a:pt x="288" y="296"/>
                    </a:cubicBezTo>
                    <a:cubicBezTo>
                      <a:pt x="295" y="335"/>
                      <a:pt x="328" y="403"/>
                      <a:pt x="328" y="435"/>
                    </a:cubicBezTo>
                    <a:cubicBezTo>
                      <a:pt x="328" y="467"/>
                      <a:pt x="311" y="479"/>
                      <a:pt x="288" y="488"/>
                    </a:cubicBezTo>
                    <a:cubicBezTo>
                      <a:pt x="265" y="497"/>
                      <a:pt x="232" y="488"/>
                      <a:pt x="192" y="488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864800">
                <a:off x="530640" y="6361920"/>
                <a:ext cx="235800" cy="6948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274320" y="6326280"/>
              <a:ext cx="245520" cy="175320"/>
              <a:chOff x="274320" y="6326280"/>
              <a:chExt cx="245520" cy="175320"/>
            </a:xfrm>
          </p:grpSpPr>
          <p:sp>
            <p:nvSpPr>
              <p:cNvPr id="817" name=""/>
              <p:cNvSpPr/>
              <p:nvPr/>
            </p:nvSpPr>
            <p:spPr>
              <a:xfrm rot="20714400">
                <a:off x="357840" y="6406200"/>
                <a:ext cx="98640" cy="84240"/>
              </a:xfrm>
              <a:custGeom>
                <a:avLst/>
                <a:gdLst/>
                <a:ahLst/>
                <a:rect l="l" t="t" r="r" b="b"/>
                <a:pathLst>
                  <a:path w="328" h="504">
                    <a:moveTo>
                      <a:pt x="192" y="488"/>
                    </a:moveTo>
                    <a:cubicBezTo>
                      <a:pt x="152" y="488"/>
                      <a:pt x="80" y="504"/>
                      <a:pt x="48" y="488"/>
                    </a:cubicBezTo>
                    <a:cubicBezTo>
                      <a:pt x="16" y="472"/>
                      <a:pt x="0" y="432"/>
                      <a:pt x="0" y="392"/>
                    </a:cubicBezTo>
                    <a:cubicBezTo>
                      <a:pt x="0" y="352"/>
                      <a:pt x="40" y="304"/>
                      <a:pt x="48" y="248"/>
                    </a:cubicBezTo>
                    <a:cubicBezTo>
                      <a:pt x="56" y="192"/>
                      <a:pt x="40" y="96"/>
                      <a:pt x="48" y="56"/>
                    </a:cubicBezTo>
                    <a:cubicBezTo>
                      <a:pt x="56" y="16"/>
                      <a:pt x="64" y="16"/>
                      <a:pt x="96" y="8"/>
                    </a:cubicBezTo>
                    <a:cubicBezTo>
                      <a:pt x="128" y="0"/>
                      <a:pt x="208" y="0"/>
                      <a:pt x="240" y="8"/>
                    </a:cubicBezTo>
                    <a:cubicBezTo>
                      <a:pt x="272" y="16"/>
                      <a:pt x="280" y="40"/>
                      <a:pt x="288" y="56"/>
                    </a:cubicBezTo>
                    <a:cubicBezTo>
                      <a:pt x="296" y="72"/>
                      <a:pt x="288" y="80"/>
                      <a:pt x="288" y="104"/>
                    </a:cubicBezTo>
                    <a:cubicBezTo>
                      <a:pt x="288" y="128"/>
                      <a:pt x="288" y="168"/>
                      <a:pt x="288" y="200"/>
                    </a:cubicBezTo>
                    <a:cubicBezTo>
                      <a:pt x="288" y="232"/>
                      <a:pt x="281" y="257"/>
                      <a:pt x="288" y="296"/>
                    </a:cubicBezTo>
                    <a:cubicBezTo>
                      <a:pt x="295" y="335"/>
                      <a:pt x="328" y="403"/>
                      <a:pt x="328" y="435"/>
                    </a:cubicBezTo>
                    <a:cubicBezTo>
                      <a:pt x="328" y="467"/>
                      <a:pt x="311" y="479"/>
                      <a:pt x="288" y="488"/>
                    </a:cubicBezTo>
                    <a:cubicBezTo>
                      <a:pt x="265" y="497"/>
                      <a:pt x="232" y="488"/>
                      <a:pt x="192" y="488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0714400">
                <a:off x="279000" y="6355080"/>
                <a:ext cx="235440" cy="6948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215280" y="6455160"/>
              <a:ext cx="592920" cy="149040"/>
              <a:chOff x="215280" y="6455160"/>
              <a:chExt cx="592920" cy="14904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215280" y="6455160"/>
                <a:ext cx="330840" cy="100080"/>
                <a:chOff x="215280" y="6455160"/>
                <a:chExt cx="330840" cy="10008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215280" y="6458400"/>
                  <a:ext cx="163800" cy="95760"/>
                  <a:chOff x="215280" y="6458400"/>
                  <a:chExt cx="163800" cy="95760"/>
                </a:xfrm>
              </p:grpSpPr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319320" y="6458400"/>
                    <a:ext cx="59760" cy="67680"/>
                    <a:chOff x="319320" y="6458400"/>
                    <a:chExt cx="59760" cy="6768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 flipH="1" rot="21429000">
                      <a:off x="320400" y="64594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flipH="1" rot="21429000">
                      <a:off x="323640" y="64609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278640" y="6465960"/>
                    <a:ext cx="66600" cy="73440"/>
                    <a:chOff x="278640" y="6465960"/>
                    <a:chExt cx="66600" cy="7344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 flipH="1" rot="20978400">
                      <a:off x="283320" y="647028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flipH="1" rot="20978400">
                      <a:off x="286560" y="64724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215280" y="6472440"/>
                    <a:ext cx="78840" cy="81720"/>
                    <a:chOff x="215280" y="6472440"/>
                    <a:chExt cx="78840" cy="8172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 flipH="1" rot="19872000">
                      <a:off x="225720" y="648216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flipH="1" rot="19872000">
                      <a:off x="230400" y="64850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381600" y="6455160"/>
                  <a:ext cx="164520" cy="100080"/>
                  <a:chOff x="381600" y="6455160"/>
                  <a:chExt cx="164520" cy="100080"/>
                </a:xfrm>
              </p:grpSpPr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381600" y="6455160"/>
                    <a:ext cx="61200" cy="69480"/>
                    <a:chOff x="381600" y="6455160"/>
                    <a:chExt cx="61200" cy="6948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 rot="274200">
                      <a:off x="383760" y="64573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rot="274200">
                      <a:off x="400680" y="64587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415800" y="6463800"/>
                    <a:ext cx="68400" cy="74880"/>
                    <a:chOff x="415800" y="6463800"/>
                    <a:chExt cx="68400" cy="7488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 rot="724800">
                      <a:off x="421200" y="646884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rot="724800">
                      <a:off x="438480" y="64713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466560" y="6472440"/>
                    <a:ext cx="79560" cy="82800"/>
                    <a:chOff x="466560" y="6472440"/>
                    <a:chExt cx="79560" cy="8280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 rot="1831200">
                      <a:off x="477720" y="64825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rot="1831200">
                      <a:off x="493200" y="64861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483480" y="6474240"/>
                <a:ext cx="324720" cy="129960"/>
                <a:chOff x="483480" y="6474240"/>
                <a:chExt cx="324720" cy="129960"/>
              </a:xfrm>
            </p:grpSpPr>
            <p:grpSp>
              <p:nvGrpSpPr>
                <p:cNvPr id="842" name=""/>
                <p:cNvGrpSpPr/>
                <p:nvPr/>
              </p:nvGrpSpPr>
              <p:grpSpPr>
                <a:xfrm>
                  <a:off x="644400" y="6485400"/>
                  <a:ext cx="163800" cy="118800"/>
                  <a:chOff x="644400" y="6485400"/>
                  <a:chExt cx="163800" cy="118800"/>
                </a:xfrm>
              </p:grpSpPr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644400" y="6485400"/>
                    <a:ext cx="69480" cy="75960"/>
                    <a:chOff x="644400" y="6485400"/>
                    <a:chExt cx="69480" cy="7596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 rot="829800">
                      <a:off x="650520" y="649116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rot="829800">
                      <a:off x="666720" y="649368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676080" y="6500880"/>
                    <a:ext cx="74520" cy="79920"/>
                    <a:chOff x="676080" y="6500880"/>
                    <a:chExt cx="74520" cy="7992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 rot="1280400">
                      <a:off x="685080" y="6508800"/>
                      <a:ext cx="56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 rot="1280400">
                      <a:off x="701280" y="651204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9" name=""/>
                  <p:cNvGrpSpPr/>
                  <p:nvPr/>
                </p:nvGrpSpPr>
                <p:grpSpPr>
                  <a:xfrm>
                    <a:off x="726120" y="6520320"/>
                    <a:ext cx="82080" cy="83880"/>
                    <a:chOff x="726120" y="6520320"/>
                    <a:chExt cx="82080" cy="83880"/>
                  </a:xfrm>
                </p:grpSpPr>
                <p:sp>
                  <p:nvSpPr>
                    <p:cNvPr id="850" name=""/>
                    <p:cNvSpPr/>
                    <p:nvPr/>
                  </p:nvSpPr>
                  <p:spPr>
                    <a:xfrm rot="2386800">
                      <a:off x="738360" y="65314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 rot="2386800">
                      <a:off x="753480" y="653580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483480" y="6474240"/>
                  <a:ext cx="165600" cy="80640"/>
                  <a:chOff x="483480" y="6474240"/>
                  <a:chExt cx="165600" cy="80640"/>
                </a:xfrm>
              </p:grpSpPr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585720" y="6474240"/>
                    <a:ext cx="63360" cy="68760"/>
                    <a:chOff x="585720" y="6474240"/>
                    <a:chExt cx="63360" cy="68760"/>
                  </a:xfrm>
                </p:grpSpPr>
                <p:sp>
                  <p:nvSpPr>
                    <p:cNvPr id="854" name=""/>
                    <p:cNvSpPr/>
                    <p:nvPr/>
                  </p:nvSpPr>
                  <p:spPr>
                    <a:xfrm flipH="1" rot="384600">
                      <a:off x="588600" y="647712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 flipH="1" rot="384600">
                      <a:off x="591120" y="647676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49360" y="6480720"/>
                    <a:ext cx="57960" cy="66600"/>
                    <a:chOff x="549360" y="6480720"/>
                    <a:chExt cx="57960" cy="6660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flipH="1" rot="21534000">
                      <a:off x="549360" y="648108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flipH="1" rot="21534000">
                      <a:off x="551880" y="64825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483480" y="6476400"/>
                    <a:ext cx="73800" cy="78480"/>
                    <a:chOff x="483480" y="6476400"/>
                    <a:chExt cx="73800" cy="7848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flipH="1" rot="20427600">
                      <a:off x="491400" y="6483960"/>
                      <a:ext cx="568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flipH="1" rot="20427600">
                      <a:off x="495720" y="6486120"/>
                      <a:ext cx="3672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862" name="" descr=""/>
          <p:cNvPicPr/>
          <p:nvPr/>
        </p:nvPicPr>
        <p:blipFill>
          <a:blip r:embed="rId11"/>
          <a:stretch/>
        </p:blipFill>
        <p:spPr>
          <a:xfrm>
            <a:off x="-2557440" y="0"/>
            <a:ext cx="2282760" cy="21877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12"/>
          <a:stretch/>
        </p:blipFill>
        <p:spPr>
          <a:xfrm>
            <a:off x="9612360" y="4973760"/>
            <a:ext cx="1368360" cy="109692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13"/>
          <a:stretch/>
        </p:blipFill>
        <p:spPr>
          <a:xfrm>
            <a:off x="4211640" y="3573360"/>
            <a:ext cx="2803680" cy="28530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5292720" y="4653000"/>
            <a:ext cx="3311640" cy="162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c600a"/>
                </a:solidFill>
                <a:latin typeface="Arial"/>
              </a:rPr>
              <a:t>Презентацию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c600a"/>
                </a:solidFill>
                <a:latin typeface="Arial"/>
              </a:rPr>
              <a:t>Делидо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c600a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c600a"/>
                </a:solidFill>
                <a:latin typeface="Arial"/>
              </a:rPr>
              <a:t>МАОУ «Ашап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62 -3.76593E-006 L 1.37274 -0.01251 E">
                                      <p:cBhvr>
                                        <p:cTn id="6" dur="5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88 -0.01599 L -1.51441 -0.72028 E">
                                      <p:cBhvr>
                                        <p:cTn id="9" dur="7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Провер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353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2500"/>
                </a:solidFill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2500"/>
                </a:solidFill>
                <a:latin typeface="Times New Roman"/>
              </a:rPr>
              <a:t>Вариант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4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50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2500"/>
                </a:solidFill>
                <a:latin typeface="Times New Roman"/>
              </a:rPr>
              <a:t>«5» - 7, 6 правильных от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2500"/>
                </a:solidFill>
                <a:latin typeface="Times New Roman"/>
              </a:rPr>
              <a:t>«4» - 5 правильных от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2500"/>
                </a:solidFill>
                <a:latin typeface="Times New Roman"/>
              </a:rPr>
              <a:t>«3» - 4 правильных от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2500"/>
                </a:solidFill>
                <a:latin typeface="Times New Roman"/>
              </a:rPr>
              <a:t>«2» - менее 4 правильных от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7" dur="20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2000"/>
                                        <p:tgtEl>
                                          <p:spTgt spid="1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3" dur="2000"/>
                                        <p:tgtEl>
                                          <p:spTgt spid="1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2000"/>
                                        <p:tgtEl>
                                          <p:spTgt spid="1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3240360" cy="324036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2627280" y="1628640"/>
            <a:ext cx="5905440" cy="1368720"/>
          </a:xfrm>
          <a:prstGeom prst="wedgeEllipseCallout">
            <a:avLst>
              <a:gd name="adj1" fmla="val -50000"/>
              <a:gd name="adj2" fmla="val 114962"/>
            </a:avLst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708360" y="1844640"/>
            <a:ext cx="403236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2500"/>
                </a:solidFill>
                <a:latin typeface="Times New Roman"/>
              </a:rPr>
              <a:t>Вс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3e733"/>
                </a:solidFill>
                <a:latin typeface="Times New Roman"/>
              </a:rPr>
              <a:t>Найдите пропущенные чи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508720" y="1341360"/>
                <a:ext cx="8366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539640" y="3429000"/>
            <a:ext cx="1440000" cy="14400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780000" y="1916280"/>
            <a:ext cx="1512720" cy="1512720"/>
          </a:xfrm>
          <a:prstGeom prst="ellipse">
            <a:avLst/>
          </a:prstGeom>
          <a:solidFill>
            <a:srgbClr val="ffcc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588000" y="1916280"/>
            <a:ext cx="1513080" cy="1512720"/>
          </a:xfrm>
          <a:prstGeom prst="ellipse">
            <a:avLst/>
          </a:prstGeom>
          <a:solidFill>
            <a:srgbClr val="ffcc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588000" y="4724280"/>
            <a:ext cx="1513080" cy="1513080"/>
          </a:xfrm>
          <a:prstGeom prst="ellipse">
            <a:avLst/>
          </a:prstGeom>
          <a:solidFill>
            <a:srgbClr val="ffcc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780000" y="4724280"/>
            <a:ext cx="1512720" cy="1513080"/>
          </a:xfrm>
          <a:prstGeom prst="ellipse">
            <a:avLst/>
          </a:prstGeom>
          <a:solidFill>
            <a:srgbClr val="ffcc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26920" y="350028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292720" y="2637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18728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292720" y="5516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380360" y="3429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1186920" y="263700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187280" y="4869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187280" y="5516640"/>
            <a:ext cx="25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7524720" y="3429000"/>
                <a:ext cx="9255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2124000" y="1773360"/>
                <a:ext cx="9352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5292720" y="4149720"/>
                <a:ext cx="12952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2411280" y="4149720"/>
                <a:ext cx="11527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4284720" y="2060640"/>
                <a:ext cx="5335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7164360" y="2060640"/>
                <a:ext cx="496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8" name=""/>
          <p:cNvSpPr/>
          <p:nvPr/>
        </p:nvSpPr>
        <p:spPr>
          <a:xfrm>
            <a:off x="6948360" y="50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25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4356000" y="4869000"/>
                <a:ext cx="3589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3e733"/>
                </a:solidFill>
                <a:latin typeface="Times New Roman"/>
              </a:rPr>
              <a:t>Запишите процентами чи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03280" y="1484280"/>
            <a:ext cx="3030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2500"/>
                </a:solidFill>
                <a:latin typeface="Times New Roman"/>
              </a:rPr>
              <a:t>0,65</a:t>
            </a:r>
            <a:r>
              <a:rPr b="1" lang="en-US" sz="4000" spc="-1" strike="noStrike">
                <a:solidFill>
                  <a:srgbClr val="c02500"/>
                </a:solidFill>
                <a:latin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2500"/>
                </a:solidFill>
                <a:latin typeface="Times New Roman"/>
              </a:rPr>
              <a:t>0,3</a:t>
            </a:r>
            <a:r>
              <a:rPr b="1" lang="en-US" sz="4000" spc="-1" strike="noStrike">
                <a:solidFill>
                  <a:srgbClr val="c02500"/>
                </a:solidFill>
                <a:latin typeface="Times New Roman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2500"/>
                </a:solidFill>
                <a:latin typeface="Times New Roman"/>
              </a:rPr>
              <a:t>0,48</a:t>
            </a:r>
            <a:r>
              <a:rPr b="1" lang="en-US" sz="4000" spc="-1" strike="noStrike">
                <a:solidFill>
                  <a:srgbClr val="c02500"/>
                </a:solidFill>
                <a:latin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2500"/>
                </a:solidFill>
                <a:latin typeface="Times New Roman"/>
              </a:rPr>
              <a:t>1,5</a:t>
            </a:r>
            <a:r>
              <a:rPr b="0" lang="en-US" sz="3200" spc="-1" strike="noStrike">
                <a:solidFill>
                  <a:srgbClr val="c025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2500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25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25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780000" y="1484280"/>
            <a:ext cx="193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a1ff"/>
                </a:solidFill>
                <a:latin typeface="Times New Roman"/>
              </a:rPr>
              <a:t>6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a1ff"/>
                </a:solidFill>
                <a:latin typeface="Times New Roman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a1ff"/>
                </a:solidFill>
                <a:latin typeface="Times New Roman"/>
              </a:rPr>
              <a:t>4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a1ff"/>
                </a:solidFill>
                <a:latin typeface="Times New Roman"/>
              </a:rPr>
              <a:t>15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a1ff"/>
                </a:solidFill>
                <a:latin typeface="Times New Roman"/>
              </a:rPr>
              <a:t>7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a1ff"/>
                </a:solidFill>
                <a:latin typeface="Times New Roman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1547640" y="3933720"/>
                <a:ext cx="5288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403280" y="5300640"/>
                <a:ext cx="750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 flipH="1">
            <a:off x="5580000" y="1484280"/>
            <a:ext cx="2952720" cy="1728720"/>
          </a:xfrm>
          <a:prstGeom prst="cloudCallout">
            <a:avLst>
              <a:gd name="adj1" fmla="val -12097"/>
              <a:gd name="adj2" fmla="val 102796"/>
            </a:avLst>
          </a:prstGeom>
          <a:gradFill rotWithShape="0">
            <a:gsLst>
              <a:gs pos="0">
                <a:srgbClr val="e8b9ff">
                  <a:alpha val="50196"/>
                </a:srgbClr>
              </a:gs>
              <a:gs pos="100000">
                <a:srgbClr val="e0a1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a6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6119640" y="357336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084720" y="198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2500"/>
                </a:solidFill>
                <a:latin typeface="Times New Roman"/>
              </a:rPr>
              <a:t>Не помн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003640" y="4365720"/>
            <a:ext cx="1800360" cy="36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868000" y="198900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2500"/>
                </a:solidFill>
                <a:latin typeface="Times New Roman"/>
              </a:rPr>
              <a:t>СПАСИБ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3e733"/>
                </a:solidFill>
                <a:latin typeface="Times New Roman"/>
              </a:rPr>
              <a:t>Найдите дробь от чи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700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100000"/>
              </a:lnSpc>
              <a:spcBef>
                <a:spcPts val="901"/>
              </a:spcBef>
              <a:buClr>
                <a:srgbClr val="c025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от 36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00000"/>
              </a:lnSpc>
              <a:spcBef>
                <a:spcPts val="901"/>
              </a:spcBef>
              <a:buClr>
                <a:srgbClr val="c025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0,4 от 28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00000"/>
              </a:lnSpc>
              <a:spcBef>
                <a:spcPts val="901"/>
              </a:spcBef>
              <a:buClr>
                <a:srgbClr val="c025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1,2 от 8,5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00000"/>
              </a:lnSpc>
              <a:spcBef>
                <a:spcPts val="901"/>
              </a:spcBef>
              <a:buClr>
                <a:srgbClr val="c025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от       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100000"/>
              </a:lnSpc>
              <a:spcBef>
                <a:spcPts val="901"/>
              </a:spcBef>
              <a:buClr>
                <a:srgbClr val="c025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40% от 7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516720" y="1457280"/>
            <a:ext cx="262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1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1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348000" y="1197000"/>
                <a:ext cx="4748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2268360" y="1484280"/>
            <a:ext cx="6266160" cy="2160720"/>
          </a:xfrm>
          <a:prstGeom prst="wedgeRoundRectCallout">
            <a:avLst>
              <a:gd name="adj1" fmla="val -58412"/>
              <a:gd name="adj2" fmla="val 86884"/>
              <a:gd name="adj3" fmla="val 16667"/>
            </a:avLst>
          </a:prstGeom>
          <a:solidFill>
            <a:srgbClr val="e3cbfd"/>
          </a:solidFill>
          <a:ln w="0">
            <a:noFill/>
          </a:ln>
          <a:effectLst>
            <a:outerShdw dist="17819" dir="2700000" blurRad="0" rotWithShape="0">
              <a:srgbClr val="8779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b5b"/>
                </a:solidFill>
                <a:latin typeface="Times New Roman"/>
              </a:rPr>
              <a:t>Чтобы найти дробь от числа, нужно умножить число на эту дроб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3276720" y="4365720"/>
                <a:ext cx="6728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4365720"/>
                <a:ext cx="711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6588000" y="4292640"/>
                <a:ext cx="501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9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9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3e733"/>
                </a:solidFill>
                <a:latin typeface="Times New Roman"/>
              </a:rPr>
              <a:t>Задача № 4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643280" y="1052640"/>
            <a:ext cx="4748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025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Какую часть от квадрата </a:t>
            </a:r>
            <a:r>
              <a:rPr b="1" i="1" lang="en-US" sz="2800" spc="-1" strike="noStrike">
                <a:solidFill>
                  <a:srgbClr val="c02500"/>
                </a:solidFill>
                <a:latin typeface="Times New Roman"/>
              </a:rPr>
              <a:t>ABCD</a:t>
            </a: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 составляет квадрат</a:t>
            </a:r>
            <a:r>
              <a:rPr b="1" i="1" lang="en-US" sz="2800" spc="-1" strike="noStrike">
                <a:solidFill>
                  <a:srgbClr val="c02500"/>
                </a:solidFill>
                <a:latin typeface="Times New Roman"/>
              </a:rPr>
              <a:t>  AEFP</a:t>
            </a: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025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Какую часть составляет квадрат </a:t>
            </a:r>
            <a:r>
              <a:rPr b="1" i="1" lang="en-US" sz="2800" spc="-1" strike="noStrike">
                <a:solidFill>
                  <a:srgbClr val="c02500"/>
                </a:solidFill>
                <a:latin typeface="Times New Roman"/>
              </a:rPr>
              <a:t>AEFP </a:t>
            </a: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от квадрата </a:t>
            </a:r>
            <a:r>
              <a:rPr b="1" i="1" lang="en-US" sz="2800" spc="-1" strike="noStrike">
                <a:solidFill>
                  <a:srgbClr val="c02500"/>
                </a:solidFill>
                <a:latin typeface="Times New Roman"/>
              </a:rPr>
              <a:t>AMNK</a:t>
            </a: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025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Какую часть составляет квадрат </a:t>
            </a:r>
            <a:r>
              <a:rPr b="1" i="1" lang="en-US" sz="2800" spc="-1" strike="noStrike">
                <a:solidFill>
                  <a:srgbClr val="c02500"/>
                </a:solidFill>
                <a:latin typeface="Times New Roman"/>
              </a:rPr>
              <a:t>AMNK </a:t>
            </a: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от квадрата </a:t>
            </a:r>
            <a:r>
              <a:rPr b="1" i="1" lang="en-US" sz="2800" spc="-1" strike="noStrike">
                <a:solidFill>
                  <a:srgbClr val="c02500"/>
                </a:solidFill>
                <a:latin typeface="Times New Roman"/>
              </a:rPr>
              <a:t>ABCD</a:t>
            </a: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55640" y="364500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332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619280" y="364500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484360" y="3645000"/>
            <a:ext cx="86364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257560" y="16714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348000" y="364500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95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55640" y="450864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450864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484360" y="450864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348000" y="450864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55640" y="278136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619280" y="2781360"/>
            <a:ext cx="86364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84360" y="278136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348000" y="2781360"/>
            <a:ext cx="86364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55640" y="1916280"/>
            <a:ext cx="863640" cy="86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19280" y="1916280"/>
            <a:ext cx="863640" cy="86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84360" y="1916280"/>
            <a:ext cx="863640" cy="86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348000" y="1916280"/>
            <a:ext cx="863640" cy="86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7152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240" y="148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156560" y="143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181400" y="5373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04840" y="323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77480" y="2440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41308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7852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55640" y="1916280"/>
            <a:ext cx="3456000" cy="3456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350160" y="23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55640" y="2781360"/>
            <a:ext cx="2592360" cy="25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5640" y="3645000"/>
            <a:ext cx="1728720" cy="172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1332000" y="3860640"/>
                <a:ext cx="501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1692360" y="3213000"/>
                <a:ext cx="76968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1332000" y="3933720"/>
                <a:ext cx="646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2486160" y="321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00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1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6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10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1000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1c71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c02500"/>
                </a:solidFill>
                <a:latin typeface="Times New Roman"/>
              </a:rPr>
              <a:t>В двух цистернах 120 т нефти. В одной из них нефти было в        раза меньше, чем в другой. Сколько тонн нефти было в каждой цистер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       раз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050920" y="5516640"/>
                <a:ext cx="5367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348000" y="3716280"/>
                <a:ext cx="7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2" name=""/>
          <p:cNvGrpSpPr/>
          <p:nvPr/>
        </p:nvGrpSpPr>
        <p:grpSpPr>
          <a:xfrm>
            <a:off x="250920" y="3500280"/>
            <a:ext cx="3023640" cy="1513080"/>
            <a:chOff x="250920" y="3500280"/>
            <a:chExt cx="3023640" cy="1513080"/>
          </a:xfrm>
        </p:grpSpPr>
        <p:sp>
          <p:nvSpPr>
            <p:cNvPr id="953" name=""/>
            <p:cNvSpPr/>
            <p:nvPr/>
          </p:nvSpPr>
          <p:spPr>
            <a:xfrm>
              <a:off x="250920" y="3699360"/>
              <a:ext cx="30600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565200" y="4614840"/>
              <a:ext cx="435240" cy="398520"/>
              <a:chOff x="565200" y="4614840"/>
              <a:chExt cx="435240" cy="398520"/>
            </a:xfrm>
          </p:grpSpPr>
          <p:sp>
            <p:nvSpPr>
              <p:cNvPr id="955" name=""/>
              <p:cNvSpPr/>
              <p:nvPr/>
            </p:nvSpPr>
            <p:spPr>
              <a:xfrm>
                <a:off x="565200" y="4614840"/>
                <a:ext cx="435240" cy="39852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65200" y="4629240"/>
                <a:ext cx="435240" cy="383760"/>
              </a:xfrm>
              <a:custGeom>
                <a:avLst/>
                <a:gdLst>
                  <a:gd name="textAreaLeft" fmla="*/ 200160 w 435240"/>
                  <a:gd name="textAreaRight" fmla="*/ 235080 w 435240"/>
                  <a:gd name="textAreaTop" fmla="*/ 176760 h 383760"/>
                  <a:gd name="textAreaBottom" fmla="*/ 207000 h 38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2428200" y="4599720"/>
              <a:ext cx="435240" cy="398520"/>
              <a:chOff x="2428200" y="4599720"/>
              <a:chExt cx="435240" cy="398520"/>
            </a:xfrm>
          </p:grpSpPr>
          <p:sp>
            <p:nvSpPr>
              <p:cNvPr id="958" name=""/>
              <p:cNvSpPr/>
              <p:nvPr/>
            </p:nvSpPr>
            <p:spPr>
              <a:xfrm>
                <a:off x="2428200" y="4599720"/>
                <a:ext cx="435240" cy="39852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428200" y="4614120"/>
                <a:ext cx="435240" cy="383760"/>
              </a:xfrm>
              <a:custGeom>
                <a:avLst/>
                <a:gdLst>
                  <a:gd name="textAreaLeft" fmla="*/ 200160 w 435240"/>
                  <a:gd name="textAreaRight" fmla="*/ 235080 w 435240"/>
                  <a:gd name="textAreaTop" fmla="*/ 176760 h 383760"/>
                  <a:gd name="textAreaBottom" fmla="*/ 207000 h 38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266760" y="3714120"/>
              <a:ext cx="2870640" cy="966960"/>
            </a:xfrm>
            <a:custGeom>
              <a:avLst/>
              <a:gdLst/>
              <a:ahLst/>
              <a:rect l="l" t="t" r="r" b="b"/>
              <a:pathLst>
                <a:path w="2848" h="1048">
                  <a:moveTo>
                    <a:pt x="136" y="32"/>
                  </a:moveTo>
                  <a:lnTo>
                    <a:pt x="2720" y="0"/>
                  </a:lnTo>
                  <a:lnTo>
                    <a:pt x="2781" y="139"/>
                  </a:lnTo>
                  <a:lnTo>
                    <a:pt x="2832" y="312"/>
                  </a:lnTo>
                  <a:lnTo>
                    <a:pt x="2847" y="499"/>
                  </a:lnTo>
                  <a:lnTo>
                    <a:pt x="2848" y="632"/>
                  </a:lnTo>
                  <a:lnTo>
                    <a:pt x="2816" y="824"/>
                  </a:lnTo>
                  <a:lnTo>
                    <a:pt x="2768" y="936"/>
                  </a:lnTo>
                  <a:lnTo>
                    <a:pt x="2800" y="1008"/>
                  </a:lnTo>
                  <a:lnTo>
                    <a:pt x="176" y="1048"/>
                  </a:lnTo>
                  <a:lnTo>
                    <a:pt x="80" y="920"/>
                  </a:lnTo>
                  <a:lnTo>
                    <a:pt x="16" y="760"/>
                  </a:lnTo>
                  <a:lnTo>
                    <a:pt x="0" y="624"/>
                  </a:lnTo>
                  <a:lnTo>
                    <a:pt x="0" y="504"/>
                  </a:lnTo>
                  <a:lnTo>
                    <a:pt x="8" y="320"/>
                  </a:lnTo>
                  <a:lnTo>
                    <a:pt x="40" y="176"/>
                  </a:lnTo>
                  <a:lnTo>
                    <a:pt x="104" y="32"/>
                  </a:lnTo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777777"/>
                </a:gs>
                <a:gs pos="100000">
                  <a:srgbClr val="ddddd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2382480" y="3500280"/>
              <a:ext cx="462600" cy="250560"/>
              <a:chOff x="2382480" y="3500280"/>
              <a:chExt cx="462600" cy="250560"/>
            </a:xfrm>
          </p:grpSpPr>
          <p:sp>
            <p:nvSpPr>
              <p:cNvPr id="962" name=""/>
              <p:cNvSpPr/>
              <p:nvPr/>
            </p:nvSpPr>
            <p:spPr>
              <a:xfrm>
                <a:off x="2382480" y="3625560"/>
                <a:ext cx="444240" cy="1252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400840" y="3562920"/>
                <a:ext cx="407160" cy="10080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382480" y="3500280"/>
                <a:ext cx="462600" cy="11268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629640" y="3821400"/>
              <a:ext cx="196128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968200" y="3662640"/>
              <a:ext cx="30636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745560" y="3515040"/>
              <a:ext cx="462600" cy="250560"/>
              <a:chOff x="745560" y="3515040"/>
              <a:chExt cx="462600" cy="250560"/>
            </a:xfrm>
          </p:grpSpPr>
          <p:sp>
            <p:nvSpPr>
              <p:cNvPr id="968" name=""/>
              <p:cNvSpPr/>
              <p:nvPr/>
            </p:nvSpPr>
            <p:spPr>
              <a:xfrm>
                <a:off x="745560" y="3640320"/>
                <a:ext cx="444240" cy="1252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63920" y="3577320"/>
                <a:ext cx="407160" cy="10080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45560" y="3515040"/>
                <a:ext cx="462600" cy="11268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1" name=""/>
          <p:cNvGrpSpPr/>
          <p:nvPr/>
        </p:nvGrpSpPr>
        <p:grpSpPr>
          <a:xfrm>
            <a:off x="3995640" y="3429000"/>
            <a:ext cx="2881440" cy="1510920"/>
            <a:chOff x="3995640" y="3429000"/>
            <a:chExt cx="2881440" cy="1510920"/>
          </a:xfrm>
        </p:grpSpPr>
        <p:sp>
          <p:nvSpPr>
            <p:cNvPr id="972" name=""/>
            <p:cNvSpPr/>
            <p:nvPr/>
          </p:nvSpPr>
          <p:spPr>
            <a:xfrm>
              <a:off x="3995640" y="3628080"/>
              <a:ext cx="291600" cy="987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4295160" y="4542120"/>
              <a:ext cx="414720" cy="397800"/>
              <a:chOff x="4295160" y="4542120"/>
              <a:chExt cx="414720" cy="397800"/>
            </a:xfrm>
          </p:grpSpPr>
          <p:sp>
            <p:nvSpPr>
              <p:cNvPr id="974" name=""/>
              <p:cNvSpPr/>
              <p:nvPr/>
            </p:nvSpPr>
            <p:spPr>
              <a:xfrm>
                <a:off x="4295160" y="4542120"/>
                <a:ext cx="414720" cy="39780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295160" y="4556520"/>
                <a:ext cx="414720" cy="383040"/>
              </a:xfrm>
              <a:custGeom>
                <a:avLst/>
                <a:gdLst>
                  <a:gd name="textAreaLeft" fmla="*/ 190800 w 414720"/>
                  <a:gd name="textAreaRight" fmla="*/ 223920 w 414720"/>
                  <a:gd name="textAreaTop" fmla="*/ 176400 h 383040"/>
                  <a:gd name="textAreaBottom" fmla="*/ 206640 h 38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6070320" y="4527360"/>
              <a:ext cx="414720" cy="397800"/>
              <a:chOff x="6070320" y="4527360"/>
              <a:chExt cx="414720" cy="397800"/>
            </a:xfrm>
          </p:grpSpPr>
          <p:sp>
            <p:nvSpPr>
              <p:cNvPr id="977" name=""/>
              <p:cNvSpPr/>
              <p:nvPr/>
            </p:nvSpPr>
            <p:spPr>
              <a:xfrm>
                <a:off x="6070320" y="4527360"/>
                <a:ext cx="414720" cy="39780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70320" y="4541760"/>
                <a:ext cx="414720" cy="383040"/>
              </a:xfrm>
              <a:custGeom>
                <a:avLst/>
                <a:gdLst>
                  <a:gd name="textAreaLeft" fmla="*/ 190800 w 414720"/>
                  <a:gd name="textAreaRight" fmla="*/ 223920 w 414720"/>
                  <a:gd name="textAreaTop" fmla="*/ 176400 h 383040"/>
                  <a:gd name="textAreaBottom" fmla="*/ 206640 h 38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4010760" y="3642480"/>
              <a:ext cx="2735640" cy="965880"/>
            </a:xfrm>
            <a:custGeom>
              <a:avLst/>
              <a:gdLst/>
              <a:ahLst/>
              <a:rect l="l" t="t" r="r" b="b"/>
              <a:pathLst>
                <a:path w="2848" h="1048">
                  <a:moveTo>
                    <a:pt x="136" y="32"/>
                  </a:moveTo>
                  <a:lnTo>
                    <a:pt x="2720" y="0"/>
                  </a:lnTo>
                  <a:lnTo>
                    <a:pt x="2781" y="139"/>
                  </a:lnTo>
                  <a:lnTo>
                    <a:pt x="2832" y="312"/>
                  </a:lnTo>
                  <a:lnTo>
                    <a:pt x="2847" y="499"/>
                  </a:lnTo>
                  <a:lnTo>
                    <a:pt x="2848" y="632"/>
                  </a:lnTo>
                  <a:lnTo>
                    <a:pt x="2816" y="824"/>
                  </a:lnTo>
                  <a:lnTo>
                    <a:pt x="2768" y="936"/>
                  </a:lnTo>
                  <a:lnTo>
                    <a:pt x="2800" y="1008"/>
                  </a:lnTo>
                  <a:lnTo>
                    <a:pt x="176" y="1048"/>
                  </a:lnTo>
                  <a:lnTo>
                    <a:pt x="80" y="920"/>
                  </a:lnTo>
                  <a:lnTo>
                    <a:pt x="16" y="760"/>
                  </a:lnTo>
                  <a:lnTo>
                    <a:pt x="0" y="624"/>
                  </a:lnTo>
                  <a:lnTo>
                    <a:pt x="0" y="504"/>
                  </a:lnTo>
                  <a:lnTo>
                    <a:pt x="8" y="320"/>
                  </a:lnTo>
                  <a:lnTo>
                    <a:pt x="40" y="176"/>
                  </a:lnTo>
                  <a:lnTo>
                    <a:pt x="104" y="32"/>
                  </a:lnTo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777777"/>
                </a:gs>
                <a:gs pos="100000">
                  <a:srgbClr val="ddddd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6026760" y="3429000"/>
              <a:ext cx="440640" cy="250560"/>
              <a:chOff x="6026760" y="3429000"/>
              <a:chExt cx="440640" cy="250560"/>
            </a:xfrm>
          </p:grpSpPr>
          <p:sp>
            <p:nvSpPr>
              <p:cNvPr id="981" name=""/>
              <p:cNvSpPr/>
              <p:nvPr/>
            </p:nvSpPr>
            <p:spPr>
              <a:xfrm>
                <a:off x="6026760" y="3554280"/>
                <a:ext cx="423000" cy="1252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044040" y="3491280"/>
                <a:ext cx="388080" cy="10080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026760" y="3429000"/>
                <a:ext cx="440640" cy="11268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4356720" y="3749760"/>
              <a:ext cx="186912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585120" y="3591000"/>
              <a:ext cx="291960" cy="987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4466880" y="3443760"/>
              <a:ext cx="440640" cy="250560"/>
              <a:chOff x="4466880" y="3443760"/>
              <a:chExt cx="440640" cy="250560"/>
            </a:xfrm>
          </p:grpSpPr>
          <p:sp>
            <p:nvSpPr>
              <p:cNvPr id="987" name=""/>
              <p:cNvSpPr/>
              <p:nvPr/>
            </p:nvSpPr>
            <p:spPr>
              <a:xfrm>
                <a:off x="4466880" y="3569040"/>
                <a:ext cx="423000" cy="1252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484160" y="3506040"/>
                <a:ext cx="388080" cy="10080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466880" y="3443760"/>
                <a:ext cx="440640" cy="11268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948360" y="3860640"/>
                <a:ext cx="648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7524720" y="371628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2" name=""/>
          <p:cNvSpPr/>
          <p:nvPr/>
        </p:nvSpPr>
        <p:spPr>
          <a:xfrm>
            <a:off x="1547640" y="46530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47640" y="551664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364000" y="4581360"/>
            <a:ext cx="0" cy="93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003640" y="1341360"/>
                <a:ext cx="5112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10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1000"/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5580000" y="692280"/>
            <a:ext cx="33228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a1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2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6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e0a1ff"/>
                </a:solidFill>
                <a:latin typeface="Times New Roman"/>
              </a:rPr>
              <a:t>9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5875200" y="2781360"/>
            <a:ext cx="3268800" cy="326844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468360" y="2205000"/>
            <a:ext cx="5257800" cy="934920"/>
          </a:xfrm>
          <a:prstGeom prst="wedgeRoundRectCallout">
            <a:avLst>
              <a:gd name="adj1" fmla="val 69745"/>
              <a:gd name="adj2" fmla="val 135569"/>
              <a:gd name="adj3" fmla="val 16667"/>
            </a:avLst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43960" y="242100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42275"/>
                </a:solidFill>
                <a:latin typeface="Times New Roman"/>
              </a:rPr>
              <a:t>Как найти число по его дро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Найдите значение величины, е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55280" y="7646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которой равны 15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которой равны         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0,8 которой равны 184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которой равны 3,5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02500"/>
                </a:solidFill>
                <a:latin typeface="Times New Roman"/>
              </a:rPr>
              <a:t>17% которой равны 15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900000" y="981000"/>
                <a:ext cx="412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971640" y="2205000"/>
                <a:ext cx="704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900000" y="4581360"/>
                <a:ext cx="6541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6804000" y="2205000"/>
                <a:ext cx="595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4716360" y="2205000"/>
                <a:ext cx="890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1000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1000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1000"/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1000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1000"/>
                                        <p:tgtEl>
                                          <p:spTgt spid="10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1000"/>
                                        <p:tgtEl>
                                          <p:spTgt spid="9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1000"/>
                                        <p:tgtEl>
                                          <p:spTgt spid="10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6" dur="1000"/>
                                        <p:tgtEl>
                                          <p:spTgt spid="9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362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02500"/>
                </a:solidFill>
                <a:latin typeface="Times New Roman"/>
              </a:rPr>
              <a:t>В первый час автомашина прошла 12% всего пути, после чего ей осталось пройти 440 км. Какова длина всего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-3240" y="3219480"/>
            <a:ext cx="9304920" cy="704160"/>
            <a:chOff x="-3240" y="3219480"/>
            <a:chExt cx="9304920" cy="704160"/>
          </a:xfrm>
        </p:grpSpPr>
        <p:sp>
          <p:nvSpPr>
            <p:cNvPr id="1011" name=""/>
            <p:cNvSpPr/>
            <p:nvPr/>
          </p:nvSpPr>
          <p:spPr>
            <a:xfrm flipV="1" rot="10848000">
              <a:off x="0" y="3283920"/>
              <a:ext cx="9298080" cy="574560"/>
            </a:xfrm>
            <a:prstGeom prst="rect">
              <a:avLst/>
            </a:prstGeom>
            <a:gradFill rotWithShape="0">
              <a:gsLst>
                <a:gs pos="0">
                  <a:srgbClr val="c6c6c6"/>
                </a:gs>
                <a:gs pos="100000">
                  <a:srgbClr val="8f8f8f"/>
                </a:gs>
              </a:gsLst>
              <a:lin ang="189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9600" y="3514680"/>
              <a:ext cx="9258480" cy="75600"/>
            </a:xfrm>
            <a:custGeom>
              <a:avLst/>
              <a:gdLst/>
              <a:ahLst/>
              <a:rect l="l" t="t" r="r" b="b"/>
              <a:pathLst>
                <a:path w="5952" h="48">
                  <a:moveTo>
                    <a:pt x="5952" y="4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3" name="" descr=""/>
          <p:cNvPicPr/>
          <p:nvPr/>
        </p:nvPicPr>
        <p:blipFill>
          <a:blip r:embed="rId1"/>
          <a:stretch/>
        </p:blipFill>
        <p:spPr>
          <a:xfrm>
            <a:off x="9144000" y="1413000"/>
            <a:ext cx="2612880" cy="2612880"/>
          </a:xfrm>
          <a:prstGeom prst="rect">
            <a:avLst/>
          </a:prstGeom>
          <a:ln w="0">
            <a:noFill/>
          </a:ln>
        </p:spPr>
      </p:pic>
      <p:grpSp>
        <p:nvGrpSpPr>
          <p:cNvPr id="1014" name=""/>
          <p:cNvGrpSpPr/>
          <p:nvPr/>
        </p:nvGrpSpPr>
        <p:grpSpPr>
          <a:xfrm>
            <a:off x="0" y="3860640"/>
            <a:ext cx="7236000" cy="1206000"/>
            <a:chOff x="0" y="3860640"/>
            <a:chExt cx="7236000" cy="1206000"/>
          </a:xfrm>
        </p:grpSpPr>
        <p:sp>
          <p:nvSpPr>
            <p:cNvPr id="1015" name=""/>
            <p:cNvSpPr/>
            <p:nvPr/>
          </p:nvSpPr>
          <p:spPr>
            <a:xfrm>
              <a:off x="2325600" y="4241520"/>
              <a:ext cx="3229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  </a:t>
              </a:r>
              <a:r>
                <a:rPr b="1" lang="en-US" sz="3600" spc="-1" strike="noStrike">
                  <a:solidFill>
                    <a:srgbClr val="c02500"/>
                  </a:solidFill>
                  <a:latin typeface="Times New Roman"/>
                  <a:ea typeface="Arial"/>
                </a:rPr>
                <a:t>440 км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3351240" y="509400"/>
              <a:ext cx="533520" cy="723600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88640 h 7236000"/>
                <a:gd name="textAreaBottom" fmla="*/ 7047360 h 723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7093080" y="2637000"/>
            <a:ext cx="1096560" cy="1331280"/>
            <a:chOff x="7093080" y="2637000"/>
            <a:chExt cx="1096560" cy="1331280"/>
          </a:xfrm>
        </p:grpSpPr>
        <p:grpSp>
          <p:nvGrpSpPr>
            <p:cNvPr id="1018" name=""/>
            <p:cNvGrpSpPr/>
            <p:nvPr/>
          </p:nvGrpSpPr>
          <p:grpSpPr>
            <a:xfrm>
              <a:off x="7207200" y="2637000"/>
              <a:ext cx="982440" cy="1230120"/>
              <a:chOff x="7207200" y="2637000"/>
              <a:chExt cx="982440" cy="1230120"/>
            </a:xfrm>
          </p:grpSpPr>
          <p:sp>
            <p:nvSpPr>
              <p:cNvPr id="1019" name=""/>
              <p:cNvSpPr/>
              <p:nvPr/>
            </p:nvSpPr>
            <p:spPr>
              <a:xfrm>
                <a:off x="7224480" y="2660760"/>
                <a:ext cx="965160" cy="1206360"/>
              </a:xfrm>
              <a:custGeom>
                <a:avLst/>
                <a:gdLst/>
                <a:ahLst/>
                <a:rect l="l" t="t" r="r" b="b"/>
                <a:pathLst>
                  <a:path w="608" h="760">
                    <a:moveTo>
                      <a:pt x="0" y="392"/>
                    </a:moveTo>
                    <a:lnTo>
                      <a:pt x="96" y="392"/>
                    </a:lnTo>
                    <a:lnTo>
                      <a:pt x="608" y="394"/>
                    </a:lnTo>
                    <a:lnTo>
                      <a:pt x="471" y="203"/>
                    </a:lnTo>
                    <a:lnTo>
                      <a:pt x="597" y="0"/>
                    </a:lnTo>
                    <a:lnTo>
                      <a:pt x="16" y="13"/>
                    </a:lnTo>
                    <a:lnTo>
                      <a:pt x="16" y="760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207200" y="2637000"/>
                <a:ext cx="183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7093080" y="3824280"/>
              <a:ext cx="326880" cy="144000"/>
              <a:chOff x="7093080" y="3824280"/>
              <a:chExt cx="326880" cy="144000"/>
            </a:xfrm>
          </p:grpSpPr>
          <p:sp>
            <p:nvSpPr>
              <p:cNvPr id="1022" name=""/>
              <p:cNvSpPr/>
              <p:nvPr/>
            </p:nvSpPr>
            <p:spPr>
              <a:xfrm>
                <a:off x="7093080" y="3853080"/>
                <a:ext cx="32688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37720" y="3838320"/>
                <a:ext cx="252360" cy="8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67240" y="3824280"/>
                <a:ext cx="178200" cy="4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"/>
          <p:cNvSpPr/>
          <p:nvPr/>
        </p:nvSpPr>
        <p:spPr>
          <a:xfrm rot="16200000">
            <a:off x="7995960" y="3219120"/>
            <a:ext cx="433440" cy="18622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01880 h 1862280"/>
              <a:gd name="textAreaBottom" fmla="*/ 1760400 h 18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4"/>
                  <a:pt x="10800" y="3788"/>
                </a:cubicBezTo>
                <a:lnTo>
                  <a:pt x="10800" y="6337"/>
                </a:lnTo>
                <a:cubicBezTo>
                  <a:pt x="10800" y="8231"/>
                  <a:pt x="5400" y="10125"/>
                  <a:pt x="0" y="10125"/>
                </a:cubicBezTo>
                <a:cubicBezTo>
                  <a:pt x="5400" y="10125"/>
                  <a:pt x="10800" y="12019"/>
                  <a:pt x="10800" y="13913"/>
                </a:cubicBezTo>
                <a:lnTo>
                  <a:pt x="10800" y="17812"/>
                </a:lnTo>
                <a:cubicBezTo>
                  <a:pt x="10800" y="1970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59780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2500"/>
                </a:solidFill>
                <a:latin typeface="Times New Roman"/>
              </a:rPr>
              <a:t>1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rot="16200000">
            <a:off x="3564000" y="441360"/>
            <a:ext cx="2016000" cy="9144000"/>
          </a:xfrm>
          <a:custGeom>
            <a:avLst/>
            <a:gdLst>
              <a:gd name="textAreaLeft" fmla="*/ 1288080 w 2016000"/>
              <a:gd name="textAreaRight" fmla="*/ 2016360 w 2016000"/>
              <a:gd name="textAreaTop" fmla="*/ 233640 h 9144000"/>
              <a:gd name="textAreaBottom" fmla="*/ 891036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3"/>
                  <a:pt x="10800" y="1766"/>
                </a:cubicBezTo>
                <a:lnTo>
                  <a:pt x="10800" y="8857"/>
                </a:lnTo>
                <a:cubicBezTo>
                  <a:pt x="10800" y="9740"/>
                  <a:pt x="5400" y="10623"/>
                  <a:pt x="0" y="10623"/>
                </a:cubicBezTo>
                <a:cubicBezTo>
                  <a:pt x="5400" y="10623"/>
                  <a:pt x="10800" y="11506"/>
                  <a:pt x="10800" y="12389"/>
                </a:cubicBezTo>
                <a:lnTo>
                  <a:pt x="10800" y="19834"/>
                </a:lnTo>
                <a:cubicBezTo>
                  <a:pt x="10800" y="20717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80000" y="5950080"/>
            <a:ext cx="14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7fc5"/>
                </a:solidFill>
                <a:latin typeface="Times New Roman"/>
              </a:rPr>
              <a:t>х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192080" y="27558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10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75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2.74623E-006 L -1.32014 -0.00162 E">
                                      <p:cBhvr>
                                        <p:cTn id="593" dur="3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85690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c02500"/>
                </a:solidFill>
                <a:latin typeface="Times New Roman"/>
              </a:rPr>
              <a:t>Учащиеся  младших классов составляют 45% всех учащихся школы. В 5 – 11 классах – 365 учащихся. Сколько всего учащихся в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1619280" cy="200016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5076720" y="3357720"/>
            <a:ext cx="3595680" cy="109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5076720" y="2276640"/>
            <a:ext cx="3595680" cy="2160000"/>
            <a:chOff x="5076720" y="2276640"/>
            <a:chExt cx="3595680" cy="2160000"/>
          </a:xfrm>
        </p:grpSpPr>
        <p:grpSp>
          <p:nvGrpSpPr>
            <p:cNvPr id="1035" name=""/>
            <p:cNvGrpSpPr/>
            <p:nvPr/>
          </p:nvGrpSpPr>
          <p:grpSpPr>
            <a:xfrm>
              <a:off x="5292720" y="3500280"/>
              <a:ext cx="3223800" cy="326520"/>
              <a:chOff x="5292720" y="3500280"/>
              <a:chExt cx="3223800" cy="32652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5292720" y="3500280"/>
                <a:ext cx="248040" cy="326520"/>
                <a:chOff x="5292720" y="3500280"/>
                <a:chExt cx="248040" cy="32652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529272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29272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41656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5664600" y="3500280"/>
                <a:ext cx="248040" cy="326520"/>
                <a:chOff x="5664600" y="3500280"/>
                <a:chExt cx="248040" cy="3265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566460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66460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78844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6036480" y="3500280"/>
                <a:ext cx="248040" cy="326520"/>
                <a:chOff x="6036480" y="3500280"/>
                <a:chExt cx="248040" cy="32652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03648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03648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16032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6408720" y="3500280"/>
                <a:ext cx="248040" cy="326520"/>
                <a:chOff x="6408720" y="3500280"/>
                <a:chExt cx="248040" cy="32652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640872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40872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53256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7152480" y="3500280"/>
                <a:ext cx="248040" cy="326520"/>
                <a:chOff x="7152480" y="3500280"/>
                <a:chExt cx="248040" cy="32652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715248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15248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27632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7524720" y="3500280"/>
                <a:ext cx="248040" cy="326520"/>
                <a:chOff x="7524720" y="3500280"/>
                <a:chExt cx="248040" cy="3265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752472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52472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4856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7896600" y="3500280"/>
                <a:ext cx="248040" cy="326520"/>
                <a:chOff x="7896600" y="3500280"/>
                <a:chExt cx="248040" cy="32652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789660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89660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802044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8268480" y="3500280"/>
                <a:ext cx="248040" cy="326520"/>
                <a:chOff x="8268480" y="3500280"/>
                <a:chExt cx="248040" cy="32652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826848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26848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839232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780600" y="3500280"/>
                <a:ext cx="248040" cy="326520"/>
                <a:chOff x="6780600" y="3500280"/>
                <a:chExt cx="248040" cy="32652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780600" y="3500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780600" y="3622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904440" y="3520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"/>
            <p:cNvGrpSpPr/>
            <p:nvPr/>
          </p:nvGrpSpPr>
          <p:grpSpPr>
            <a:xfrm>
              <a:off x="5292720" y="3932280"/>
              <a:ext cx="247680" cy="327960"/>
              <a:chOff x="5292720" y="3932280"/>
              <a:chExt cx="247680" cy="327960"/>
            </a:xfrm>
          </p:grpSpPr>
          <p:sp>
            <p:nvSpPr>
              <p:cNvPr id="1073" name=""/>
              <p:cNvSpPr/>
              <p:nvPr/>
            </p:nvSpPr>
            <p:spPr>
              <a:xfrm>
                <a:off x="5292720" y="3932280"/>
                <a:ext cx="247680" cy="327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292720" y="4055040"/>
                <a:ext cx="24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16560" y="3952800"/>
                <a:ext cx="720" cy="300600"/>
              </a:xfrm>
              <a:custGeom>
                <a:avLst/>
                <a:gdLst/>
                <a:ahLst/>
                <a:rect l="l" t="t" r="r" b="b"/>
                <a:pathLst>
                  <a:path w="1" h="352">
                    <a:moveTo>
                      <a:pt x="0" y="0"/>
                    </a:moveTo>
                    <a:lnTo>
                      <a:pt x="0" y="35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5664240" y="3932280"/>
              <a:ext cx="249120" cy="327960"/>
              <a:chOff x="5664240" y="3932280"/>
              <a:chExt cx="249120" cy="327960"/>
            </a:xfrm>
          </p:grpSpPr>
          <p:sp>
            <p:nvSpPr>
              <p:cNvPr id="1077" name=""/>
              <p:cNvSpPr/>
              <p:nvPr/>
            </p:nvSpPr>
            <p:spPr>
              <a:xfrm>
                <a:off x="5664240" y="3932280"/>
                <a:ext cx="249120" cy="327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664240" y="4055040"/>
                <a:ext cx="249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788800" y="3952800"/>
                <a:ext cx="720" cy="300600"/>
              </a:xfrm>
              <a:custGeom>
                <a:avLst/>
                <a:gdLst/>
                <a:ahLst/>
                <a:rect l="l" t="t" r="r" b="b"/>
                <a:pathLst>
                  <a:path w="1" h="352">
                    <a:moveTo>
                      <a:pt x="0" y="0"/>
                    </a:moveTo>
                    <a:lnTo>
                      <a:pt x="0" y="35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6037200" y="3932280"/>
              <a:ext cx="247680" cy="327960"/>
              <a:chOff x="6037200" y="3932280"/>
              <a:chExt cx="247680" cy="327960"/>
            </a:xfrm>
          </p:grpSpPr>
          <p:sp>
            <p:nvSpPr>
              <p:cNvPr id="1081" name=""/>
              <p:cNvSpPr/>
              <p:nvPr/>
            </p:nvSpPr>
            <p:spPr>
              <a:xfrm>
                <a:off x="6037200" y="3932280"/>
                <a:ext cx="247680" cy="327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037200" y="4055040"/>
                <a:ext cx="24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61040" y="3952800"/>
                <a:ext cx="720" cy="300600"/>
              </a:xfrm>
              <a:custGeom>
                <a:avLst/>
                <a:gdLst/>
                <a:ahLst/>
                <a:rect l="l" t="t" r="r" b="b"/>
                <a:pathLst>
                  <a:path w="1" h="352">
                    <a:moveTo>
                      <a:pt x="0" y="0"/>
                    </a:moveTo>
                    <a:lnTo>
                      <a:pt x="0" y="35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7524720" y="3932280"/>
              <a:ext cx="247680" cy="327960"/>
              <a:chOff x="7524720" y="3932280"/>
              <a:chExt cx="247680" cy="327960"/>
            </a:xfrm>
          </p:grpSpPr>
          <p:sp>
            <p:nvSpPr>
              <p:cNvPr id="1085" name=""/>
              <p:cNvSpPr/>
              <p:nvPr/>
            </p:nvSpPr>
            <p:spPr>
              <a:xfrm>
                <a:off x="7524720" y="3932280"/>
                <a:ext cx="247680" cy="327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24720" y="4055040"/>
                <a:ext cx="24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48560" y="3952800"/>
                <a:ext cx="720" cy="300600"/>
              </a:xfrm>
              <a:custGeom>
                <a:avLst/>
                <a:gdLst/>
                <a:ahLst/>
                <a:rect l="l" t="t" r="r" b="b"/>
                <a:pathLst>
                  <a:path w="1" h="352">
                    <a:moveTo>
                      <a:pt x="0" y="0"/>
                    </a:moveTo>
                    <a:lnTo>
                      <a:pt x="0" y="35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7896240" y="3932280"/>
              <a:ext cx="249120" cy="327960"/>
              <a:chOff x="7896240" y="3932280"/>
              <a:chExt cx="249120" cy="327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7896240" y="3932280"/>
                <a:ext cx="249120" cy="327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896240" y="4055040"/>
                <a:ext cx="249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020800" y="3952800"/>
                <a:ext cx="720" cy="300600"/>
              </a:xfrm>
              <a:custGeom>
                <a:avLst/>
                <a:gdLst/>
                <a:ahLst/>
                <a:rect l="l" t="t" r="r" b="b"/>
                <a:pathLst>
                  <a:path w="1" h="352">
                    <a:moveTo>
                      <a:pt x="0" y="0"/>
                    </a:moveTo>
                    <a:lnTo>
                      <a:pt x="0" y="35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8269200" y="3932280"/>
              <a:ext cx="247680" cy="327960"/>
              <a:chOff x="8269200" y="3932280"/>
              <a:chExt cx="247680" cy="327960"/>
            </a:xfrm>
          </p:grpSpPr>
          <p:sp>
            <p:nvSpPr>
              <p:cNvPr id="1093" name=""/>
              <p:cNvSpPr/>
              <p:nvPr/>
            </p:nvSpPr>
            <p:spPr>
              <a:xfrm>
                <a:off x="8269200" y="3932280"/>
                <a:ext cx="247680" cy="327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269200" y="4055040"/>
                <a:ext cx="24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393040" y="3952800"/>
                <a:ext cx="720" cy="300600"/>
              </a:xfrm>
              <a:custGeom>
                <a:avLst/>
                <a:gdLst/>
                <a:ahLst/>
                <a:rect l="l" t="t" r="r" b="b"/>
                <a:pathLst>
                  <a:path w="1" h="352">
                    <a:moveTo>
                      <a:pt x="0" y="0"/>
                    </a:moveTo>
                    <a:lnTo>
                      <a:pt x="0" y="35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5076720" y="2276640"/>
              <a:ext cx="3595680" cy="1093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5292720" y="2997000"/>
              <a:ext cx="3223800" cy="326880"/>
              <a:chOff x="5292720" y="2997000"/>
              <a:chExt cx="3223800" cy="32688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5292720" y="2997000"/>
                <a:ext cx="248040" cy="326880"/>
                <a:chOff x="5292720" y="2997000"/>
                <a:chExt cx="248040" cy="32688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29272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29272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41656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5664600" y="2997000"/>
                <a:ext cx="248040" cy="326880"/>
                <a:chOff x="5664600" y="2997000"/>
                <a:chExt cx="248040" cy="3268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566460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66460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78844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6036480" y="2997000"/>
                <a:ext cx="248040" cy="326880"/>
                <a:chOff x="6036480" y="2997000"/>
                <a:chExt cx="248040" cy="32688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603648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03648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616032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08720" y="2997000"/>
                <a:ext cx="248040" cy="326880"/>
                <a:chOff x="6408720" y="2997000"/>
                <a:chExt cx="248040" cy="32688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0872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640872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653256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7152480" y="2997000"/>
                <a:ext cx="248040" cy="326880"/>
                <a:chOff x="7152480" y="2997000"/>
                <a:chExt cx="248040" cy="32688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15248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15248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27632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7524720" y="2997000"/>
                <a:ext cx="248040" cy="326880"/>
                <a:chOff x="7524720" y="2997000"/>
                <a:chExt cx="248040" cy="32688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752472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52472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64856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7896600" y="2997000"/>
                <a:ext cx="248040" cy="326880"/>
                <a:chOff x="7896600" y="2997000"/>
                <a:chExt cx="248040" cy="32688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89660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89660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02044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8268480" y="2997000"/>
                <a:ext cx="248040" cy="326880"/>
                <a:chOff x="8268480" y="2997000"/>
                <a:chExt cx="248040" cy="32688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826848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26848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39232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6780600" y="2997000"/>
                <a:ext cx="248040" cy="326880"/>
                <a:chOff x="6780600" y="2997000"/>
                <a:chExt cx="248040" cy="3268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6780600" y="2997000"/>
                  <a:ext cx="24804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780600" y="311940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904440" y="3017160"/>
                  <a:ext cx="720" cy="29952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4" name=""/>
            <p:cNvGrpSpPr/>
            <p:nvPr/>
          </p:nvGrpSpPr>
          <p:grpSpPr>
            <a:xfrm>
              <a:off x="5292720" y="2492280"/>
              <a:ext cx="3223800" cy="326520"/>
              <a:chOff x="5292720" y="2492280"/>
              <a:chExt cx="3223800" cy="32652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5292720" y="2492280"/>
                <a:ext cx="248040" cy="326520"/>
                <a:chOff x="5292720" y="2492280"/>
                <a:chExt cx="248040" cy="32652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529272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9272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41656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5664600" y="2492280"/>
                <a:ext cx="248040" cy="326520"/>
                <a:chOff x="5664600" y="2492280"/>
                <a:chExt cx="248040" cy="3265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566460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66460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78844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036480" y="2492280"/>
                <a:ext cx="248040" cy="326520"/>
                <a:chOff x="6036480" y="2492280"/>
                <a:chExt cx="248040" cy="3265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03648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03648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616032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6408720" y="2492280"/>
                <a:ext cx="248040" cy="326520"/>
                <a:chOff x="6408720" y="2492280"/>
                <a:chExt cx="248040" cy="32652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640872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40872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653256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7152480" y="2492280"/>
                <a:ext cx="248040" cy="326520"/>
                <a:chOff x="7152480" y="2492280"/>
                <a:chExt cx="248040" cy="32652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715248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15248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27632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7524720" y="2492280"/>
                <a:ext cx="248040" cy="326520"/>
                <a:chOff x="7524720" y="2492280"/>
                <a:chExt cx="248040" cy="3265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752472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52472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64856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7896600" y="2492280"/>
                <a:ext cx="248040" cy="326520"/>
                <a:chOff x="7896600" y="2492280"/>
                <a:chExt cx="248040" cy="32652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789660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89660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02044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8268480" y="2492280"/>
                <a:ext cx="248040" cy="326520"/>
                <a:chOff x="8268480" y="2492280"/>
                <a:chExt cx="248040" cy="32652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826848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826848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39232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6780600" y="2492280"/>
                <a:ext cx="248040" cy="326520"/>
                <a:chOff x="6780600" y="2492280"/>
                <a:chExt cx="248040" cy="32652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6780600" y="2492280"/>
                  <a:ext cx="248040" cy="32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6780600" y="2614680"/>
                  <a:ext cx="24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904440" y="2512440"/>
                  <a:ext cx="720" cy="299160"/>
                </a:xfrm>
                <a:custGeom>
                  <a:avLst/>
                  <a:gdLst/>
                  <a:ahLst/>
                  <a:rect l="l" t="t" r="r" b="b"/>
                  <a:pathLst>
                    <a:path w="1" h="352">
                      <a:moveTo>
                        <a:pt x="0" y="0"/>
                      </a:moveTo>
                      <a:lnTo>
                        <a:pt x="0" y="35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"/>
            <p:cNvSpPr/>
            <p:nvPr/>
          </p:nvSpPr>
          <p:spPr>
            <a:xfrm>
              <a:off x="6661080" y="3932280"/>
              <a:ext cx="504720" cy="504360"/>
            </a:xfrm>
            <a:prstGeom prst="rect">
              <a:avLst/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5076720" y="2205000"/>
            <a:ext cx="3600720" cy="73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rot="5400000">
            <a:off x="1044360" y="4148280"/>
            <a:ext cx="431640" cy="1873080"/>
          </a:xfrm>
          <a:custGeom>
            <a:avLst/>
            <a:gdLst>
              <a:gd name="textAreaLeft" fmla="*/ 0 w 431640"/>
              <a:gd name="textAreaRight" fmla="*/ 155880 w 431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828720" y="530064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2500"/>
                </a:solidFill>
                <a:latin typeface="Times New Roman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6"/>
          <a:stretch/>
        </p:blipFill>
        <p:spPr>
          <a:xfrm>
            <a:off x="3851280" y="321300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7"/>
          <a:stretch/>
        </p:blipFill>
        <p:spPr>
          <a:xfrm>
            <a:off x="5292720" y="3573360"/>
            <a:ext cx="2664000" cy="200052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 rot="16200000">
            <a:off x="5554800" y="3238560"/>
            <a:ext cx="792000" cy="4052880"/>
          </a:xfrm>
          <a:custGeom>
            <a:avLst/>
            <a:gdLst>
              <a:gd name="textAreaLeft" fmla="*/ 506160 w 792000"/>
              <a:gd name="textAreaRight" fmla="*/ 792360 w 792000"/>
              <a:gd name="textAreaTop" fmla="*/ 105480 h 4052880"/>
              <a:gd name="textAreaBottom" fmla="*/ 3947400 h 40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510880" y="558972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2500"/>
                </a:solidFill>
                <a:latin typeface="Times New Roman"/>
              </a:rPr>
              <a:t>365 у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rot="16200000">
            <a:off x="3996360" y="2132280"/>
            <a:ext cx="576360" cy="7921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206280 h 7921440"/>
              <a:gd name="textAreaBottom" fmla="*/ 7715160 h 79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14180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25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10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95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41:03Z</dcterms:created>
  <dc:creator>xx</dc:creator>
  <dc:description/>
  <dc:language>en-US</dc:language>
  <cp:lastModifiedBy>User</cp:lastModifiedBy>
  <dcterms:modified xsi:type="dcterms:W3CDTF">2012-02-18T18:37:00Z</dcterms:modified>
  <cp:revision>33</cp:revision>
  <dc:subject/>
  <dc:title>Слайд 1</dc:title>
</cp:coreProperties>
</file>