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gif" ContentType="image/gif"/>
  <Override PartName="/ppt/media/image17.png" ContentType="image/png"/>
  <Override PartName="/ppt/media/image15.jpeg" ContentType="image/jpeg"/>
  <Override PartName="/ppt/media/image19.gif" ContentType="image/gif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6E5-8F18-464F-BC6D-55E7FC30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DA4-962D-4D00-A4FE-23D01BD2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D82-4CF6-4073-BD0C-D53D1F2F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4BD-5732-4E46-8C98-3D225A1F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BA2E-99FF-4EBF-B0E9-252CC1B6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86A-1D45-47E0-91A4-8DFE33A0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0974-662A-4E40-8564-3B8AD4B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57BD-66E9-49D5-B818-2ADF9EE5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B3A6-A9F2-4C8F-BE67-8DF0386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278-1FBA-4D5D-AECB-11B863A3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D4C0-BD87-42C7-A8AE-B399A05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781-80C8-4D0B-B7FC-B09E462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2477-1B0F-41EE-8550-CBE55E1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3550-1F71-491B-BFE3-3BB7625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D80-381B-4CF2-B755-5081CBF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5DB8-7234-4389-8041-53108794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9F6-4835-4564-A447-4C12DCA9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90E-C513-4D71-BBC5-96672E8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5CF-F797-4583-89DD-33C16489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C72-B7B7-475A-B092-34EB0DE1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04F-3998-4041-8193-6AF5D79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02C-01F6-42E9-BEA1-5A7FBF1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5BD-F113-4880-89AC-7A1EE48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E52-D316-4BA3-B93B-07C7F91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75da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da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da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5da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575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5da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575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49E-1DEE-4E1D-B110-DF14BD156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75da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da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da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575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5da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575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5da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575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A63B-EE89-431D-90B0-77608A4B1A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a9fbbd"/>
                </a:solidFill>
                <a:latin typeface="Trebuchet MS"/>
              </a:rPr>
              <a:t>Зртительные иллюзии</a:t>
            </a:r>
            <a:endParaRPr b="0" lang="en-US" sz="8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6720" y="4365360"/>
            <a:ext cx="40672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ffcc"/>
                </a:solidFill>
                <a:latin typeface="Trebuchet MS"/>
              </a:rPr>
              <a:t>Презентацию выполн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ffcc"/>
                </a:solidFill>
                <a:latin typeface="Trebuchet MS"/>
              </a:rPr>
              <a:t>Делидова Л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ffcc"/>
                </a:solidFill>
                <a:latin typeface="Trebuchet MS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ffcc"/>
                </a:solidFill>
                <a:latin typeface="Trebuchet MS"/>
              </a:rPr>
              <a:t>МАОУ «Ашап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xit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0920" y="4508640"/>
            <a:ext cx="8280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А здесь нижний овал кажется больше внутреннего верхнего, хотя они одинак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35049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360" y="458100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Равные расстояния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AB</a:t>
            </a: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,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CD</a:t>
            </a: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и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EF</a:t>
            </a: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 кажутся нерав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527280" cy="2948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 rot="2377200">
            <a:off x="4858920" y="981000"/>
            <a:ext cx="1809720" cy="2684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419640" y="260280"/>
            <a:ext cx="2592360" cy="1476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 rot="19164000">
            <a:off x="2916360" y="1196640"/>
            <a:ext cx="1619280" cy="2521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644640" y="836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57d"/>
                </a:solidFill>
                <a:latin typeface="Trebuchet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51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57d"/>
                </a:solidFill>
                <a:latin typeface="Trebuchet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8320" y="126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57d"/>
                </a:solidFill>
                <a:latin typeface="Trebuchet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0080" y="265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57d"/>
                </a:solidFill>
                <a:latin typeface="Trebuchet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7600" y="265572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57d"/>
                </a:solidFill>
                <a:latin typeface="Trebuchet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41360" y="155736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57d"/>
                </a:solidFill>
                <a:latin typeface="Trebuchet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Намного ли больше эта фигура по высоте, чем по шир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4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Высота и ширина фигуры одинак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311472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84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Верхняя фигура кажется короче и шире нижн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хотя они совершенно одинак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609640" cy="2752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6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7993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5fddf"/>
                </a:solidFill>
                <a:latin typeface="Trebuchet MS"/>
              </a:rPr>
              <a:t>А на этом рисунке все линии параллель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761080" cy="4368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60480" y="4941720"/>
            <a:ext cx="7283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cc"/>
                </a:solidFill>
                <a:latin typeface="Trebuchet MS"/>
              </a:rPr>
              <a:t>Выделенные отрезки на этом изображении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095720" cy="4062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4360" y="49579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cc"/>
                </a:solidFill>
                <a:latin typeface="Trebuchet MS"/>
              </a:rPr>
              <a:t>При сравнении центральных окружностей, вторая кажется больше, чем перв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19308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280" y="459432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Правый кружок этой фигуры кажется меньше равного ему лев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537080" cy="326052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324000" y="5877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a9fbbd"/>
              </a:gs>
              <a:gs pos="100000">
                <a:srgbClr val="0cdc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12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19bfd"/>
                </a:solidFill>
                <a:latin typeface="Trebuchet MS"/>
              </a:rPr>
              <a:t>Иллюзорные трансформаци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91440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5fd"/>
                </a:solidFill>
                <a:latin typeface="Trebuchet MS"/>
              </a:rPr>
              <a:t>При рассматривании этой фигуры будет казаться выступающими вперёд поочерёдно то два куба вверху, то два куба вниз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8843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5fd"/>
                </a:solidFill>
                <a:latin typeface="Trebuchet MS"/>
              </a:rPr>
              <a:t>Эта фигура может представляться трояк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2d5fd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5fd"/>
                </a:solidFill>
                <a:latin typeface="Trebuchet MS"/>
              </a:rPr>
              <a:t>в виде лестни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2d5fd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5fd"/>
                </a:solidFill>
                <a:latin typeface="Trebuchet MS"/>
              </a:rPr>
              <a:t>в виде ступенчатой ниш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2d5fd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5fd"/>
                </a:solidFill>
                <a:latin typeface="Trebuchet MS"/>
              </a:rPr>
              <a:t>в виде бумажной «гармош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3174840" cy="335736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468360" y="5805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gradFill rotWithShape="0">
            <a:gsLst>
              <a:gs pos="0">
                <a:srgbClr val="e5c6fe"/>
              </a:gs>
              <a:gs pos="100000">
                <a:srgbClr val="d19bf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4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4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92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88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38512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9fbbd"/>
                </a:solidFill>
                <a:latin typeface="Trebuchet MS"/>
              </a:rPr>
              <a:t>ОПТИЧЕСКИЕ ИЛЛЮЗИИ</a:t>
            </a:r>
            <a:r>
              <a:rPr b="1" i="1" lang="en-US" sz="4800" spc="-1" strike="noStrike">
                <a:solidFill>
                  <a:srgbClr val="d4fee4"/>
                </a:solidFill>
                <a:latin typeface="Trebuchet MS"/>
              </a:rPr>
              <a:t> </a:t>
            </a:r>
            <a:br>
              <a:rPr sz="4800"/>
            </a:br>
            <a:br>
              <a:rPr sz="3200"/>
            </a:br>
            <a:r>
              <a:rPr b="1" i="1" lang="en-US" sz="2600" spc="-1" strike="noStrike">
                <a:solidFill>
                  <a:srgbClr val="d5fdd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d5fddf"/>
                </a:solidFill>
                <a:latin typeface="Trebuchet MS"/>
              </a:rPr>
              <a:t>ЭТО</a:t>
            </a:r>
            <a:r>
              <a:rPr b="1" i="1" lang="en-US" sz="3200" spc="-1" strike="noStrike">
                <a:solidFill>
                  <a:srgbClr val="d5fddf"/>
                </a:solidFill>
                <a:latin typeface="Trebuchet MS"/>
              </a:rPr>
              <a:t> систематические ошибки зрительного восприятия, а также различные искусственно создаваемые зрительные эффекты и виртуальные образы, основанные на использовании особенностей зрительных механизмов.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d7f7"/>
                </a:solidFill>
                <a:latin typeface="Trebuchet MS"/>
              </a:rPr>
              <a:t>Динамические иллюзи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cf6fc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смотрите не отрывая взгляд на точку в центре 30 сек.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cf6fc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потом переведи взгляд на стен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cf6fc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вы увидите пульсирующее си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 rot="5400000">
            <a:off x="4752360" y="2311200"/>
            <a:ext cx="4827600" cy="346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80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88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bcf6fc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Сосредоточьте свой взгляд на крестике в цент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bcf6fc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Потом вам начнёт казаться, что розовые пятна начнут постепенно исче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159440" cy="41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64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16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10920" y="404280"/>
            <a:ext cx="7561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Всмотритесь в чёрную точку и серое начнёт исчез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96072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6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cf6fc"/>
                </a:solidFill>
                <a:latin typeface="Trebuchet MS"/>
              </a:rPr>
              <a:t>На этом изображении есть чёрные точки или их н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680000" cy="3466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19bfd"/>
                </a:solidFill>
                <a:latin typeface="Trebuchet MS"/>
              </a:rPr>
              <a:t>Геометрические иллюзии создают богатые возможности для художников, фотографов, модельеров. Однако инженерам и математикам приходится быть осторожными с чертежами и подкреплять «очевидное» точными расчё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19bfd"/>
                </a:solidFill>
                <a:latin typeface="Trebuchet MS"/>
              </a:rPr>
              <a:t>Список литературы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19b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d5fd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f2d5fd"/>
                </a:solidFill>
                <a:latin typeface="Trebuchet MS"/>
              </a:rPr>
              <a:t>А.П. Савин «Я познаю мир», издательство «АСТ-ЛТД», г.Москва, 1998 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19b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d5fd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f2d5fd"/>
                </a:solidFill>
                <a:latin typeface="Trebuchet MS"/>
              </a:rPr>
              <a:t>С. Асанин «Смекалка для малышей», издательство «Омега», г. Москва, 1994 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9fbbd"/>
                </a:solidFill>
                <a:latin typeface="Trebuchet MS"/>
              </a:rPr>
              <a:t>Использование зрительных иллюзий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Уже тысячи лет зрительные иллюзии целенаправленно используются в архитектуре для создания определённых пространственных впечатл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a78cfc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fdd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Arial"/>
              </a:rPr>
              <a:t>для кажущегося увеличения  высоты и площади за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429000" cy="381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57360" y="2637000"/>
            <a:ext cx="3429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2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9fbbd"/>
                </a:solidFill>
                <a:latin typeface="Trebuchet MS"/>
              </a:rPr>
              <a:t>Ещё используются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в изобразительном искус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в цирковом искус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в кинематограф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в телевиде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в полиграф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в военном дел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4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4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96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44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9fbbd"/>
                </a:solidFill>
                <a:latin typeface="Trebuchet MS"/>
              </a:rPr>
              <a:t>Виды иллюзий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ccffcc"/>
                </a:solidFill>
                <a:uFillTx/>
                <a:latin typeface="Trebuchet MS"/>
                <a:hlinkClick r:id="rId1" action="ppaction://hlinksldjump"/>
              </a:rPr>
              <a:t>Геометрические иллюз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 </a:t>
            </a:r>
            <a:r>
              <a:rPr b="0" lang="en-US" sz="4000" spc="-1" strike="noStrike" u="sng">
                <a:solidFill>
                  <a:srgbClr val="ccffcc"/>
                </a:solidFill>
                <a:uFillTx/>
                <a:latin typeface="Trebuchet MS"/>
                <a:hlinkClick r:id="rId2" action="ppaction://hlinksldjump"/>
              </a:rPr>
              <a:t>Иллюзорные транс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78cf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5fddf"/>
                </a:solidFill>
                <a:latin typeface="Trebuchet MS"/>
              </a:rPr>
              <a:t>  </a:t>
            </a:r>
            <a:r>
              <a:rPr b="0" lang="en-US" sz="4000" spc="-1" strike="noStrike" u="sng">
                <a:solidFill>
                  <a:srgbClr val="ccffcc"/>
                </a:solidFill>
                <a:uFillTx/>
                <a:latin typeface="Trebuchet MS"/>
                <a:hlinkClick r:id="rId3" action="ppaction://hlinksldjump"/>
              </a:rPr>
              <a:t>Динамические иллюз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9fbbd"/>
                </a:solidFill>
                <a:latin typeface="Trebuchet MS"/>
              </a:rPr>
              <a:t>Геометрические иллюзи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5fddf"/>
                </a:solidFill>
                <a:latin typeface="Trebuchet MS"/>
              </a:rPr>
              <a:t>	</a:t>
            </a:r>
            <a:r>
              <a:rPr b="0" i="1" lang="en-US" sz="2400" spc="-1" strike="noStrike">
                <a:solidFill>
                  <a:srgbClr val="d5fddf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d5fddf"/>
                </a:solidFill>
                <a:latin typeface="Trebuchet MS"/>
              </a:rPr>
              <a:t>Посмотрите на рисуно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5fddf"/>
                </a:solidFill>
                <a:latin typeface="Trebuchet MS"/>
              </a:rPr>
              <a:t>   </a:t>
            </a:r>
            <a:r>
              <a:rPr b="0" i="1" lang="en-US" sz="2800" spc="-1" strike="noStrike">
                <a:solidFill>
                  <a:srgbClr val="d5fddf"/>
                </a:solidFill>
                <a:latin typeface="Trebuchet MS"/>
              </a:rPr>
              <a:t>При рассматривании издали белые фигуры кажутся крупнее чёр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5fddf"/>
                </a:solidFill>
                <a:latin typeface="Trebuchet MS"/>
              </a:rPr>
              <a:t>хотя те и другие рав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4038840" cy="227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8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8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Сравните отрезки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AB</a:t>
            </a:r>
            <a:r>
              <a:rPr b="0" i="1" lang="en-US" sz="3200" spc="-1" strike="noStrike">
                <a:solidFill>
                  <a:srgbClr val="d5fddf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и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CD</a:t>
            </a: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Они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d5fddf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4032360" cy="260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691000" y="32050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03680" y="32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83080" y="4284720"/>
            <a:ext cx="4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264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8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8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Посмотрите на этот рисунок – расстояние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AB</a:t>
            </a: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 кажется больше равного ему расстояния </a:t>
            </a:r>
            <a:r>
              <a:rPr b="0" i="1" lang="en-US" sz="3200" spc="-1" strike="noStrike">
                <a:solidFill>
                  <a:srgbClr val="0cdcb4"/>
                </a:solidFill>
                <a:latin typeface="Trebuchet MS"/>
              </a:rPr>
              <a:t>CD</a:t>
            </a:r>
            <a:r>
              <a:rPr b="0" i="1" lang="ru-RU" sz="3200" spc="-1" strike="noStrike">
                <a:solidFill>
                  <a:srgbClr val="d5fdd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4000320" cy="2505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762280" y="1044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1320" y="105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87800" y="2197080"/>
            <a:ext cx="4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57d"/>
                </a:solidFill>
                <a:latin typeface="Trebuchet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9:21:30Z</dcterms:created>
  <dc:creator>Lentussik</dc:creator>
  <dc:description/>
  <dc:language>en-US</dc:language>
  <cp:lastModifiedBy>User</cp:lastModifiedBy>
  <dcterms:modified xsi:type="dcterms:W3CDTF">2012-02-18T18:23:03Z</dcterms:modified>
  <cp:revision>24</cp:revision>
  <dc:subject/>
  <dc:title>Оптические иллюзии</dc:title>
</cp:coreProperties>
</file>