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2.gif" ContentType="image/gif"/>
  <Override PartName="/ppt/media/image9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8123-2344-426D-BBB1-FE90F388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69C9-4F76-4973-9DC3-6603E321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A69-8A77-459A-943A-7A487FE7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5D1-9204-486E-AA1B-84EB4C9F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0EB-7D43-46BD-BD0A-91AD60EF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08F-E9B3-40A2-9AF2-51D01C18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C1A-ACF3-4F59-9BB8-6EA3C6C8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909-D60E-4B86-9FF9-F0825D10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63F-740C-4BE7-BD2F-85FD4A10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B56-6C6C-4753-B478-57C46F09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568-C3A7-4DFB-B372-C4CD9651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703-A43A-42CD-A99E-84F51534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8EC02B-4B4C-43F0-A734-AC6DD3E921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animo2.ucoz.ru/photo/animacii_malogo_razmera/animacija_kosmos/animacija_planeta_saturn/53-0-2792" TargetMode="Externa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C:\Users\Дом\Desktop\ПЛАНЕТАРИЙ\IMGP6096.JPG"/>
          <p:cNvPicPr/>
          <p:nvPr/>
        </p:nvPicPr>
        <p:blipFill>
          <a:blip r:embed="rId1"/>
          <a:stretch/>
        </p:blipFill>
        <p:spPr>
          <a:xfrm>
            <a:off x="1079640" y="900000"/>
            <a:ext cx="8064360" cy="57596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712800" y="6656400"/>
            <a:ext cx="8675640" cy="622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http://animo2.ucoz.ru/_ph/53/1/35811664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61440" y="971640"/>
            <a:ext cx="1645920" cy="1514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2" descr="C:\Users\Дом\Desktop\ПЛАНЕТАРИЙ\IMGP6108.JPG"/>
          <p:cNvPicPr/>
          <p:nvPr/>
        </p:nvPicPr>
        <p:blipFill>
          <a:blip r:embed="rId1"/>
          <a:stretch/>
        </p:blipFill>
        <p:spPr>
          <a:xfrm>
            <a:off x="216000" y="684360"/>
            <a:ext cx="4083120" cy="27367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3" descr="C:\Users\Дом\Desktop\ПЛАНЕТАРИЙ\IMGP6109.JPG"/>
          <p:cNvPicPr/>
          <p:nvPr/>
        </p:nvPicPr>
        <p:blipFill>
          <a:blip r:embed="rId2"/>
          <a:stretch/>
        </p:blipFill>
        <p:spPr>
          <a:xfrm>
            <a:off x="3456000" y="2916360"/>
            <a:ext cx="3456000" cy="2663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C:\Users\Дом\Desktop\ПЛАНЕТАРИЙ\IMGP6103.JPG"/>
          <p:cNvPicPr/>
          <p:nvPr/>
        </p:nvPicPr>
        <p:blipFill>
          <a:blip r:embed="rId3"/>
          <a:stretch/>
        </p:blipFill>
        <p:spPr>
          <a:xfrm>
            <a:off x="6767640" y="4859280"/>
            <a:ext cx="3313080" cy="2700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C:\Users\Дом\Desktop\ПЛАНЕТАРИЙ\IMGP6105.JPG"/>
          <p:cNvPicPr/>
          <p:nvPr/>
        </p:nvPicPr>
        <p:blipFill>
          <a:blip r:embed="rId4"/>
          <a:stretch/>
        </p:blipFill>
        <p:spPr>
          <a:xfrm>
            <a:off x="6624720" y="611280"/>
            <a:ext cx="3456000" cy="257148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6" descr=""/>
          <p:cNvPicPr/>
          <p:nvPr/>
        </p:nvPicPr>
        <p:blipFill>
          <a:blip r:embed="rId5"/>
          <a:stretch/>
        </p:blipFill>
        <p:spPr>
          <a:xfrm>
            <a:off x="4286160" y="1255680"/>
            <a:ext cx="2151000" cy="140184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7" descr=""/>
          <p:cNvPicPr/>
          <p:nvPr/>
        </p:nvPicPr>
        <p:blipFill>
          <a:blip r:embed="rId6"/>
          <a:stretch/>
        </p:blipFill>
        <p:spPr>
          <a:xfrm>
            <a:off x="993600" y="3292560"/>
            <a:ext cx="2694240" cy="25178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8" descr=""/>
          <p:cNvPicPr/>
          <p:nvPr/>
        </p:nvPicPr>
        <p:blipFill>
          <a:blip r:embed="rId7"/>
          <a:stretch/>
        </p:blipFill>
        <p:spPr>
          <a:xfrm>
            <a:off x="6907320" y="3224160"/>
            <a:ext cx="2962080" cy="159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Дом\Pictures\chasa-37.gif"/>
          <p:cNvPicPr/>
          <p:nvPr/>
        </p:nvPicPr>
        <p:blipFill>
          <a:blip r:embed="rId8"/>
          <a:stretch/>
        </p:blipFill>
        <p:spPr>
          <a:xfrm rot="1248600">
            <a:off x="4963680" y="592308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Дом\Pictures\liniia-1247.gif"/>
          <p:cNvPicPr/>
          <p:nvPr/>
        </p:nvPicPr>
        <p:blipFill>
          <a:blip r:embed="rId9"/>
          <a:stretch/>
        </p:blipFill>
        <p:spPr>
          <a:xfrm>
            <a:off x="4248000" y="2627280"/>
            <a:ext cx="2028960" cy="24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Дом\Pictures\liniia-1247.gif"/>
          <p:cNvPicPr/>
          <p:nvPr/>
        </p:nvPicPr>
        <p:blipFill>
          <a:blip r:embed="rId10"/>
          <a:stretch/>
        </p:blipFill>
        <p:spPr>
          <a:xfrm>
            <a:off x="1295280" y="3419640"/>
            <a:ext cx="2028960" cy="247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Дом\Pictures\liniia-1247.gif"/>
          <p:cNvPicPr/>
          <p:nvPr/>
        </p:nvPicPr>
        <p:blipFill>
          <a:blip r:embed="rId11"/>
          <a:stretch/>
        </p:blipFill>
        <p:spPr>
          <a:xfrm>
            <a:off x="4025880" y="3656160"/>
            <a:ext cx="2028960" cy="24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Users\Дом\Pictures\liniia-1247.gif"/>
          <p:cNvPicPr/>
          <p:nvPr/>
        </p:nvPicPr>
        <p:blipFill>
          <a:blip r:embed="rId12"/>
          <a:stretch/>
        </p:blipFill>
        <p:spPr>
          <a:xfrm>
            <a:off x="4680000" y="5651640"/>
            <a:ext cx="2028600" cy="247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:\Users\Дом\Pictures\liniia-1247.gif"/>
          <p:cNvPicPr/>
          <p:nvPr/>
        </p:nvPicPr>
        <p:blipFill>
          <a:blip r:embed="rId13"/>
          <a:stretch/>
        </p:blipFill>
        <p:spPr>
          <a:xfrm>
            <a:off x="2735280" y="6083280"/>
            <a:ext cx="2028960" cy="247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C:\Users\Дом\Pictures\liniia-1247.gif"/>
          <p:cNvPicPr/>
          <p:nvPr/>
        </p:nvPicPr>
        <p:blipFill>
          <a:blip r:embed="rId14"/>
          <a:stretch/>
        </p:blipFill>
        <p:spPr>
          <a:xfrm>
            <a:off x="7416720" y="3274920"/>
            <a:ext cx="2028960" cy="247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Дом\Pictures\liniia-1247.gif"/>
          <p:cNvPicPr/>
          <p:nvPr/>
        </p:nvPicPr>
        <p:blipFill>
          <a:blip r:embed="rId15"/>
          <a:stretch/>
        </p:blipFill>
        <p:spPr>
          <a:xfrm>
            <a:off x="4392720" y="1332000"/>
            <a:ext cx="2028600" cy="247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C:\Users\Дом\Desktop\ПЛАНЕТАРИЙ\IMGP6116.JPG"/>
          <p:cNvPicPr/>
          <p:nvPr/>
        </p:nvPicPr>
        <p:blipFill>
          <a:blip r:embed="rId1"/>
          <a:stretch/>
        </p:blipFill>
        <p:spPr>
          <a:xfrm>
            <a:off x="1008000" y="900000"/>
            <a:ext cx="4680000" cy="36165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C:\Users\Дом\Desktop\ПЛАНЕТАРИЙ\IMGP6115.JPG"/>
          <p:cNvPicPr/>
          <p:nvPr/>
        </p:nvPicPr>
        <p:blipFill>
          <a:blip r:embed="rId2"/>
          <a:stretch/>
        </p:blipFill>
        <p:spPr>
          <a:xfrm>
            <a:off x="4896000" y="3851280"/>
            <a:ext cx="4241520" cy="28224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4" descr=""/>
          <p:cNvPicPr/>
          <p:nvPr/>
        </p:nvPicPr>
        <p:blipFill>
          <a:blip r:embed="rId3"/>
          <a:stretch/>
        </p:blipFill>
        <p:spPr>
          <a:xfrm>
            <a:off x="5619600" y="1109520"/>
            <a:ext cx="3756240" cy="2603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Дом\Pictures\apogoda-66.gif"/>
          <p:cNvPicPr/>
          <p:nvPr/>
        </p:nvPicPr>
        <p:blipFill>
          <a:blip r:embed="rId4"/>
          <a:stretch/>
        </p:blipFill>
        <p:spPr>
          <a:xfrm rot="20521800">
            <a:off x="2787480" y="4700520"/>
            <a:ext cx="1944720" cy="1927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4:40:48Z</dcterms:created>
  <dc:creator>Дом</dc:creator>
  <dc:description/>
  <dc:language>en-US</dc:language>
  <cp:lastModifiedBy>Дом</cp:lastModifiedBy>
  <dcterms:modified xsi:type="dcterms:W3CDTF">2012-03-10T20:03:24Z</dcterms:modified>
  <cp:revision>6</cp:revision>
  <dc:subject/>
  <dc:title>Слайд 1</dc:title>
</cp:coreProperties>
</file>