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44.jpeg" ContentType="image/jpeg"/>
  <Override PartName="/ppt/media/image54.wmf" ContentType="image/x-wmf"/>
  <Override PartName="/ppt/media/image45.jpeg" ContentType="image/jpeg"/>
  <Override PartName="/ppt/media/image46.jpeg" ContentType="image/jpeg"/>
  <Override PartName="/ppt/media/image5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48.jpeg" ContentType="image/jpeg"/>
  <Override PartName="/ppt/media/image53.png" ContentType="image/png"/>
  <Override PartName="/ppt/media/image47.jpeg" ContentType="image/jpeg"/>
  <Override PartName="/ppt/media/image55.jpeg" ContentType="image/jpeg"/>
  <Override PartName="/ppt/media/image56.png" ContentType="image/png"/>
  <Override PartName="/ppt/media/image57.jpeg" ContentType="image/jpeg"/>
  <Override PartName="/ppt/media/image58.png" ContentType="image/png"/>
  <Override PartName="/ppt/media/image13.jpeg" ContentType="image/jpeg"/>
  <Override PartName="/ppt/media/image59.jpeg" ContentType="image/jpeg"/>
  <Override PartName="/ppt/media/image41.png" ContentType="image/png"/>
  <Override PartName="/ppt/media/image3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5D6-458F-46BC-BA17-97FD0A40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62F-29AF-4FED-AFAB-D1EC7F69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53C73-C9B4-4591-9F8F-902A5827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FC7BF-325E-4114-AD90-B2A0DE53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32D60-2153-409D-8ECE-162DBBFF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85103-D619-4D6E-9C37-61E65830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4E64-D723-4948-AEFD-C3E3A642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77CE8-2257-4436-A3B8-C52504B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2433A-3ADC-49BB-8722-AAFD40E3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2B13A-45C7-4627-A7AC-6D4BD9AF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03D41-A7F6-4884-ACDD-78ABB102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1CC-56E3-4856-9A3C-626A0E5E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7E9-07E2-4EFE-8E9E-C71734C1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ECD3-37E9-48EB-B807-462D3785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E281-9D29-48CE-BAE8-1B6F1338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CD72-D152-4CD8-B955-32819976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431F-9D1A-4561-AB6D-830B7A2E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1213-2012-4A89-A994-B7711724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EF75-0197-4466-BA77-8C6766C8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276A-DDFD-4365-B896-9ED92916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9C2-6788-48AE-9F0E-DF381975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E5C0-6D75-4B30-865B-DC25298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27DC-BCB9-4E0B-B8F4-7788C62D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8196-AD86-45FF-871E-C617E103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5E73-FBF4-4ED6-B970-9521F9AD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20DB-9199-463C-B1A5-636D115B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3433-8744-4A8B-8B72-B3B95805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AC3D3-C630-4D74-B850-E0C42750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3280-2DCD-4715-AA73-49894779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EF48C-F1B6-458A-8B5A-14D2CC44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A4148-A17F-40BE-8AA6-F9070921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A7A-373C-4F34-B3C2-BB5D120B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C963-E7AB-4213-9535-6FFC23E7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840D-85C5-42E1-A90B-E8BC3856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AC1E-6D03-476B-8F5E-FB7F61F4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3E87-C87E-4949-A06C-5A809ABB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1116-1C57-4B65-AE70-FCBF2E4E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E084-F006-410C-AF68-6763FE93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5CAB-902A-4ED3-AECB-C8D96A0C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1883-86A8-459C-B124-F5139238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B410-B33D-4842-8E18-0784CF2B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984E-0138-4E49-A326-24F1D24C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F1A-1AD3-4298-8694-3A4B09D5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02C5F-E2E4-47AF-9E8E-4F6DB22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C822-3760-4180-88FE-070090A4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41812-3D3A-4086-A226-93BC477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3672-EA2B-4D64-821E-D63D9B42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FD8D-4C7B-4C0F-AE57-1A2877A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21E9-F224-4E12-B2DA-8C83EFB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7145B-7AB2-4A10-B369-1DE62886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CC4C-E09F-4184-83A1-2F2890F7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9F09-133D-4046-8DDA-EE857CB3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4AC48-5B06-4187-9608-23CBF90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1BB-6CDA-46D9-B476-D4FB1D61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1B33-B7F7-46C8-8977-F4183F75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5B912-8A0E-4388-A5D0-228A5744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10ABD-DB82-4020-86EA-F1E8DFC5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2421F-8DE7-49E5-ADC6-FD6BD4FF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A85CC-B52E-4E14-AB8A-8EF16176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70DC-7AE9-4CF6-A47B-BE225CA7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B7892-5625-4B7C-BBD9-19A7C376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001EF-5A56-4FB2-A88A-3B883B7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16653-D5F8-44F6-B4B0-DAC5F43E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E5AC-4516-43D1-ABE1-B15E7377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3E4-B023-440C-ABDC-4F50AC63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7650-AA21-4212-8681-80D4877E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5772-27AC-4B20-8F46-D2B9FF1A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E10E5-AC08-4613-BFD4-927822BC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3D035-D8DD-4480-ACDB-EB84A333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B561D-27F4-485A-8C1C-C23BA121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8016A-FDA6-437A-A351-79A9666B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3D52-CEAD-4487-A6C9-84DE1FBA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1FAD6-13B2-4211-A733-CB0989E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F0F6D-5742-463B-A363-B1AFBB39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7D224-9122-4423-AABF-D00D611B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954-6F7C-432D-8F72-1576795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A510-05B5-4DA4-9F91-A4F62CA9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AF30-F5F5-460B-8D22-1E372A3D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5C003-D648-4815-91CB-1A4E4D58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DE7EF-703C-4A80-BC5A-E9C3BB66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9877E-D0DF-4211-B033-03AB3EF5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A7711-B15B-4220-9B1A-6D13DC32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042F-2FDA-48AD-BE7F-06CE94DB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1E972-8C6D-4B26-9DEF-954C6C5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10CC7-4229-4707-9198-16025328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9C515-F76A-4849-808A-DF24C5E2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D7E-CD81-4C9A-9A5A-0D94D937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26885-1861-4839-8535-A0D3384D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CA1FF-7B1A-49CC-B76D-96C81473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3AD6-DA28-4235-A030-3325F5CB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0135E-D649-466F-8F89-A3F0E1BF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9E0A-DFC9-44E6-8956-678969CB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5D7BA-336B-4506-99F4-CA29D44A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63B4E-AE16-4F6C-B7A8-2C2BA749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C2B7D-F7C0-4FFC-96D4-29B41C70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1AC8A-C4CF-48DC-8A72-7347072F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7E7E1-8678-4225-8051-D55C7259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EE4-9F02-4F3A-A83B-D6C435A8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5ACC7-C7E7-4361-9073-431C4C5A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93505-74D6-457B-9A9B-BFAEFEB9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F17F7-2990-4C91-94B6-3A5D914D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7B89C-B26C-4148-B6C9-6662DC74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0D875-BDB7-4B91-9291-C97D1236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54A6-B79C-4E43-BD57-66A580FB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A9193-B3AC-4D81-AF96-DA39F9FC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08867-1515-42FE-95CD-82B32011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A8B92-8C4A-44B8-8FA4-7E9B97F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6238-E094-4054-BDC1-03918D03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8AEE-FB22-4321-A00E-508F18CFB5B5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D256-5E36-4890-92EC-07BE71177FFA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4EB4-DDF8-422B-8BC3-CB4D4CFB139F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39D3-0EA3-46AF-8F92-BC9104D7F058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B55D-E142-4483-A4D1-E9CD111876E0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8A58-145F-4AD8-AC99-564A77E26362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C62B-6534-4CE8-B26B-6CDCE8193F40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6951-B379-48E0-BC47-ACABC3A86766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0E05-08C6-44AE-9499-4358310EDED6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14200" y="1642680"/>
            <a:ext cx="542952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Цель:</a:t>
            </a: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понять нравственные  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уроки  сказки, увидеть нераз-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рывное единство природы и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человека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01" name="Рисунок 8" descr="paustovskiy_04_h100.jpg"/>
          <p:cNvPicPr/>
          <p:nvPr/>
        </p:nvPicPr>
        <p:blipFill>
          <a:blip r:embed="rId2"/>
          <a:stretch/>
        </p:blipFill>
        <p:spPr>
          <a:xfrm>
            <a:off x="5857920" y="1357200"/>
            <a:ext cx="2928960" cy="342900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4" descr="tarusa_17_w100.jpg"/>
          <p:cNvPicPr/>
          <p:nvPr/>
        </p:nvPicPr>
        <p:blipFill>
          <a:blip r:embed="rId3"/>
          <a:stretch/>
        </p:blipFill>
        <p:spPr>
          <a:xfrm rot="20190000">
            <a:off x="65160" y="4088880"/>
            <a:ext cx="3367080" cy="21495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5" descr="tarusa_14_w100.jpg"/>
          <p:cNvPicPr/>
          <p:nvPr/>
        </p:nvPicPr>
        <p:blipFill>
          <a:blip r:embed="rId4"/>
          <a:stretch/>
        </p:blipFill>
        <p:spPr>
          <a:xfrm rot="849000">
            <a:off x="5810040" y="4302000"/>
            <a:ext cx="2757240" cy="20671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6" descr="tarusa_16_w100.jpg"/>
          <p:cNvPicPr/>
          <p:nvPr/>
        </p:nvPicPr>
        <p:blipFill>
          <a:blip r:embed="rId5"/>
          <a:stretch/>
        </p:blipFill>
        <p:spPr>
          <a:xfrm>
            <a:off x="3071880" y="34290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405" name="(muzimir.ru)_002 - Detskie pesenki - Esli dobryj ty.mp3" descr=""/>
          <p:cNvPicPr/>
          <p:nvPr/>
        </p:nvPicPr>
        <p:blipFill>
          <a:blip r:embed="rId6"/>
          <a:stretch/>
        </p:blipFill>
        <p:spPr>
          <a:xfrm>
            <a:off x="785808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0235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85480" y="1143000"/>
            <a:ext cx="8705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А) дающий, источающий тепло ; 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Б) защищающий тело от холода (тёплый свитер);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В) хорошо сохраняющий тепло (тёплая комната)   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Г) отличающийся внутренней теплотой,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согревающий душу, ласковый, приветливый</a:t>
            </a: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57" name="Picture 4" descr="U3NTQCA9IKJD4CA9AL2OWCANXYUJLCAV0JSVWCAPHI1C8CAY213AGCASGQIZ0CA6Y1Q86CAPNN4ZKCASN4GCPCABZ08R2CAX5FSODCAFCGOUVCA48V6NXCAZ1F977CASJZKBQCAWOY000CA6LTTCK"/>
          <p:cNvPicPr/>
          <p:nvPr/>
        </p:nvPicPr>
        <p:blipFill>
          <a:blip r:embed="rId2"/>
          <a:stretch/>
        </p:blipFill>
        <p:spPr>
          <a:xfrm rot="874800">
            <a:off x="6048360" y="4206960"/>
            <a:ext cx="2448000" cy="2300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i[11]"/>
          <p:cNvPicPr/>
          <p:nvPr/>
        </p:nvPicPr>
        <p:blipFill>
          <a:blip r:embed="rId3"/>
          <a:stretch/>
        </p:blipFill>
        <p:spPr>
          <a:xfrm rot="20893800">
            <a:off x="892080" y="4156200"/>
            <a:ext cx="249408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Как аукнется, так и откликнется.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Каков привет, таков и ответ.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Люби ближнего своего </a:t>
            </a: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(из заповедей Божьих).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Поступай по отношению к другим так, как ты желал бы, чтоб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поступили с тобой.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Умение прощать – свойство сильных.  Слабые никогда не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прощают.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Нет ничего отважнее, чем победа над собой.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61" name="Picture 4" descr="MCj04319090000[1]"/>
          <p:cNvPicPr/>
          <p:nvPr/>
        </p:nvPicPr>
        <p:blipFill>
          <a:blip r:embed="rId2"/>
          <a:stretch/>
        </p:blipFill>
        <p:spPr>
          <a:xfrm rot="1021200">
            <a:off x="6643800" y="356760"/>
            <a:ext cx="2357280" cy="24289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YG1VQCAXSZQ2ICAG4IXSCCA4QIRJACA3APRB6CA3M04SICAFNJI6XCAMC6DNVCAMOQA8FCAO4GPILCA6QEOVBCACCVQRFCA6I6ZTACASI4VH1CAAYGHF2CACBLFIGCAH7GCB0CAMBLQXVCAMTV0XS"/>
          <p:cNvPicPr/>
          <p:nvPr/>
        </p:nvPicPr>
        <p:blipFill>
          <a:blip r:embed="rId3"/>
          <a:stretch/>
        </p:blipFill>
        <p:spPr>
          <a:xfrm>
            <a:off x="6500880" y="4214880"/>
            <a:ext cx="2500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4617b"/>
                </a:solidFill>
                <a:uFillTx/>
                <a:latin typeface="Franklin Gothic Book"/>
              </a:rPr>
              <a:t>«</a:t>
            </a: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Franklin Gothic Book"/>
              </a:rPr>
              <a:t>О чём заставила меня задуматься сказка 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Franklin Gothic Book"/>
              </a:rPr>
              <a:t>К. Г. Паустовского «Тёплый хлеб»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65" name="Picture 7" descr="ZC59SCAW1ZHJBCAHKI17RCAT5HIW2CAHW34L3CARA5LRUCAQD81XNCAM1BRLSCAK41SE1CAY3I9TICAY3PGCICA5629R5CA1IN4B3CAK2A5RTCAEIIQK6CAKA2M0WCAMRD6VRCAM0J2KRCAQIWYDR"/>
          <p:cNvPicPr/>
          <p:nvPr/>
        </p:nvPicPr>
        <p:blipFill>
          <a:blip r:embed="rId2"/>
          <a:stretch/>
        </p:blipFill>
        <p:spPr>
          <a:xfrm>
            <a:off x="5000760" y="2714760"/>
            <a:ext cx="3738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Напишете  речь Фильки, с которой он обратился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к ребятам за помощью</a:t>
            </a:r>
            <a:r>
              <a:rPr b="1" lang="ru-RU" sz="3200" spc="-1" strike="noStrike">
                <a:solidFill>
                  <a:srgbClr val="04617b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Franklin Gothic Book"/>
              </a:rPr>
              <a:t>Учтите, что с этими ребятами он плохо дружил,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Franklin Gothic Book"/>
              </a:rPr>
              <a:t>говорил им : “ Да ну тебя!”, обижал их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Найдите душевные слова, которые помогли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Фильке подружиться с ребятами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68" name="Picture 4" descr="EEC71E1B"/>
          <p:cNvPicPr/>
          <p:nvPr/>
        </p:nvPicPr>
        <p:blipFill>
          <a:blip r:embed="rId2"/>
          <a:stretch/>
        </p:blipFill>
        <p:spPr>
          <a:xfrm>
            <a:off x="6143760" y="4000680"/>
            <a:ext cx="300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Содержимое 4" descr="1262963542_heart20in20hands.jpg"/>
          <p:cNvPicPr/>
          <p:nvPr/>
        </p:nvPicPr>
        <p:blipFill>
          <a:blip r:embed="rId1"/>
          <a:stretch/>
        </p:blipFill>
        <p:spPr>
          <a:xfrm>
            <a:off x="357120" y="214200"/>
            <a:ext cx="2643120" cy="2197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3"/>
          <p:cNvSpPr/>
          <p:nvPr/>
        </p:nvSpPr>
        <p:spPr>
          <a:xfrm>
            <a:off x="357120" y="2286000"/>
            <a:ext cx="835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словарю С.И. Ожегова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добр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1. Все положительное, хорошее, полезное, 2. Имущество, вещ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Содержимое 3" descr="158354_1.jpg"/>
          <p:cNvPicPr/>
          <p:nvPr/>
        </p:nvPicPr>
        <p:blipFill>
          <a:blip r:embed="rId2"/>
          <a:stretch/>
        </p:blipFill>
        <p:spPr>
          <a:xfrm>
            <a:off x="3143160" y="285840"/>
            <a:ext cx="3071880" cy="20001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7" descr="c-42.jpg"/>
          <p:cNvPicPr/>
          <p:nvPr/>
        </p:nvPicPr>
        <p:blipFill>
          <a:blip r:embed="rId3"/>
          <a:stretch/>
        </p:blipFill>
        <p:spPr>
          <a:xfrm>
            <a:off x="500040" y="4357800"/>
            <a:ext cx="2784600" cy="230976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10" descr="dobro.jpg"/>
          <p:cNvPicPr/>
          <p:nvPr/>
        </p:nvPicPr>
        <p:blipFill>
          <a:blip r:embed="rId4"/>
          <a:stretch/>
        </p:blipFill>
        <p:spPr>
          <a:xfrm>
            <a:off x="5357880" y="4429080"/>
            <a:ext cx="3500280" cy="21668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12" descr="kindness_by_mwink.jpg"/>
          <p:cNvPicPr/>
          <p:nvPr/>
        </p:nvPicPr>
        <p:blipFill>
          <a:blip r:embed="rId5"/>
          <a:stretch/>
        </p:blipFill>
        <p:spPr>
          <a:xfrm>
            <a:off x="6429240" y="214200"/>
            <a:ext cx="2500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633240" y="2120760"/>
            <a:ext cx="7834320" cy="25974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1"/>
          <p:cNvSpPr txBox="1"/>
          <p:nvPr/>
        </p:nvSpPr>
        <p:spPr>
          <a:xfrm>
            <a:off x="714240" y="1928880"/>
            <a:ext cx="771552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5" name="WordArt 3"/>
          <p:cNvSpPr txBox="1"/>
          <p:nvPr/>
        </p:nvSpPr>
        <p:spPr>
          <a:xfrm>
            <a:off x="357120" y="2214720"/>
            <a:ext cx="8072640" cy="24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ё лучшее своей душ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6" name="Picture 4" descr="paustovskiy"/>
          <p:cNvPicPr/>
          <p:nvPr/>
        </p:nvPicPr>
        <p:blipFill>
          <a:blip r:embed="rId8"/>
          <a:stretch/>
        </p:blipFill>
        <p:spPr>
          <a:xfrm>
            <a:off x="428760" y="357120"/>
            <a:ext cx="8001000" cy="1569960"/>
          </a:xfrm>
          <a:prstGeom prst="rect">
            <a:avLst/>
          </a:prstGeom>
          <a:ln w="0">
            <a:noFill/>
          </a:ln>
        </p:spPr>
      </p:pic>
      <p:sp>
        <p:nvSpPr>
          <p:cNvPr id="417" name="WordArt 4"/>
          <p:cNvSpPr txBox="1"/>
          <p:nvPr/>
        </p:nvSpPr>
        <p:spPr>
          <a:xfrm>
            <a:off x="357120" y="1643040"/>
            <a:ext cx="80726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7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дела ты добрые влож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8" name="Picture 5" descr="0_5f4a_729a9967_XS[1]"/>
          <p:cNvPicPr/>
          <p:nvPr/>
        </p:nvPicPr>
        <p:blipFill>
          <a:blip r:embed="rId11"/>
          <a:stretch/>
        </p:blipFill>
        <p:spPr>
          <a:xfrm>
            <a:off x="1285920" y="4572000"/>
            <a:ext cx="62863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3"/>
          <p:cNvSpPr/>
          <p:nvPr/>
        </p:nvSpPr>
        <p:spPr>
          <a:xfrm>
            <a:off x="2286000" y="21430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емало встречается злого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любой человечьей судьбе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 скажут лишь доброе слово –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 легче на сердце тебе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о доброе слово такое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е каждый умеет найти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тоб справиться другу с тоскою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евзгоды осилить в пути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ет доброго слова дороже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Заветного слова того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о редко, друзья мои, все же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ы вслух произносим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арк Шехте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Содержимое 4" descr="http://t1.gstatic.com/images?q=tbn:ANd9GcTq1b6LQxADXa5NIZzh2aCLTJEmZ-QlcE6pm3X49WrWdz1hRCAR"/>
          <p:cNvPicPr/>
          <p:nvPr/>
        </p:nvPicPr>
        <p:blipFill>
          <a:blip r:embed="rId1"/>
          <a:stretch/>
        </p:blipFill>
        <p:spPr>
          <a:xfrm>
            <a:off x="285840" y="285840"/>
            <a:ext cx="2000160" cy="3000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http://t2.gstatic.com/images?q=tbn:ANd9GcROk1lzg6xrcbqji_iOsn-hw4NBkpWSN4vKdGnp9qQnN_X5VtP0"/>
          <p:cNvPicPr/>
          <p:nvPr/>
        </p:nvPicPr>
        <p:blipFill>
          <a:blip r:embed="rId2"/>
          <a:stretch/>
        </p:blipFill>
        <p:spPr>
          <a:xfrm rot="1242600">
            <a:off x="6428880" y="3758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http://t0.gstatic.com/images?q=tbn:ANd9GcQelb-4TIVC6DEu2yG5zSI7Gh65TGH0JWPUSTSpJk5huehKz3rFCQ"/>
          <p:cNvPicPr/>
          <p:nvPr/>
        </p:nvPicPr>
        <p:blipFill>
          <a:blip r:embed="rId3"/>
          <a:stretch/>
        </p:blipFill>
        <p:spPr>
          <a:xfrm rot="1899000">
            <a:off x="6370200" y="4365360"/>
            <a:ext cx="2376720" cy="1589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http://t3.gstatic.com/images?q=tbn:ANd9GcTkAzJ1pm21kl8Lj7E1kItmLFXz42lAOB2HjbznLPaWGi2S88M8"/>
          <p:cNvPicPr/>
          <p:nvPr/>
        </p:nvPicPr>
        <p:blipFill>
          <a:blip r:embed="rId4"/>
          <a:stretch/>
        </p:blipFill>
        <p:spPr>
          <a:xfrm rot="20252400">
            <a:off x="-15840" y="4335480"/>
            <a:ext cx="2120760" cy="1838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2" descr="http://t0.gstatic.com/images?q=tbn:ANd9GcTliERZ-DHeuRCSmUmyLr_9jdhKogsj9zMFficFOsKzs9WIqd2q"/>
          <p:cNvPicPr/>
          <p:nvPr/>
        </p:nvPicPr>
        <p:blipFill>
          <a:blip r:embed="rId5"/>
          <a:stretch/>
        </p:blipFill>
        <p:spPr>
          <a:xfrm>
            <a:off x="3071880" y="2858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55600" y="12600"/>
            <a:ext cx="8742240" cy="151776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3" descr="[LI7RK_16-02]_[IL_01]-k.jpg"/>
          <p:cNvPicPr/>
          <p:nvPr/>
        </p:nvPicPr>
        <p:blipFill>
          <a:blip r:embed="rId2"/>
          <a:stretch/>
        </p:blipFill>
        <p:spPr>
          <a:xfrm>
            <a:off x="1928880" y="1643040"/>
            <a:ext cx="5429160" cy="40006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5" descr="museum_mos_w150.jpg"/>
          <p:cNvPicPr/>
          <p:nvPr/>
        </p:nvPicPr>
        <p:blipFill>
          <a:blip r:embed="rId3"/>
          <a:stretch/>
        </p:blipFill>
        <p:spPr>
          <a:xfrm rot="21051600">
            <a:off x="220320" y="3935160"/>
            <a:ext cx="2935440" cy="275256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5" descr="paustovskiy_08_h100.jpg"/>
          <p:cNvPicPr/>
          <p:nvPr/>
        </p:nvPicPr>
        <p:blipFill>
          <a:blip r:embed="rId4"/>
          <a:stretch/>
        </p:blipFill>
        <p:spPr>
          <a:xfrm rot="1033800">
            <a:off x="6162840" y="3416400"/>
            <a:ext cx="2604960" cy="31874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5"/>
          <p:cNvSpPr/>
          <p:nvPr/>
        </p:nvSpPr>
        <p:spPr>
          <a:xfrm>
            <a:off x="1285920" y="11444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4071960" y="114444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19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pic>
        <p:nvPicPr>
          <p:cNvPr id="432" name="Содержимое 4" descr="tarusa_06_w100.jpg"/>
          <p:cNvPicPr/>
          <p:nvPr/>
        </p:nvPicPr>
        <p:blipFill>
          <a:blip r:embed="rId1"/>
          <a:stretch/>
        </p:blipFill>
        <p:spPr>
          <a:xfrm>
            <a:off x="5500800" y="214200"/>
            <a:ext cx="3341520" cy="221472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3" descr="tarusa_03_w100.jpg"/>
          <p:cNvPicPr/>
          <p:nvPr/>
        </p:nvPicPr>
        <p:blipFill>
          <a:blip r:embed="rId2"/>
          <a:stretch/>
        </p:blipFill>
        <p:spPr>
          <a:xfrm>
            <a:off x="0" y="428760"/>
            <a:ext cx="3270240" cy="245268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5" descr="tarusa_01_w200.jpg"/>
          <p:cNvPicPr/>
          <p:nvPr/>
        </p:nvPicPr>
        <p:blipFill>
          <a:blip r:embed="rId3"/>
          <a:stretch/>
        </p:blipFill>
        <p:spPr>
          <a:xfrm>
            <a:off x="2357280" y="1857240"/>
            <a:ext cx="4346640" cy="292896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6" descr="tarusa_08_w100.jpg"/>
          <p:cNvPicPr/>
          <p:nvPr/>
        </p:nvPicPr>
        <p:blipFill>
          <a:blip r:embed="rId4"/>
          <a:stretch/>
        </p:blipFill>
        <p:spPr>
          <a:xfrm>
            <a:off x="285840" y="4214880"/>
            <a:ext cx="3257640" cy="244296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7" descr="tarusa_02_w100.jpg"/>
          <p:cNvPicPr/>
          <p:nvPr/>
        </p:nvPicPr>
        <p:blipFill>
          <a:blip r:embed="rId5"/>
          <a:stretch/>
        </p:blipFill>
        <p:spPr>
          <a:xfrm>
            <a:off x="5429160" y="414324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9017280" cy="1036800"/>
          </a:xfrm>
          <a:prstGeom prst="rect">
            <a:avLst/>
          </a:prstGeom>
          <a:ln w="0">
            <a:noFill/>
          </a:ln>
        </p:spPr>
      </p:pic>
      <p:pic>
        <p:nvPicPr>
          <p:cNvPr id="438" name="Содержимое 3" descr="218991"/>
          <p:cNvPicPr/>
          <p:nvPr/>
        </p:nvPicPr>
        <p:blipFill>
          <a:blip r:embed="rId2"/>
          <a:stretch/>
        </p:blipFill>
        <p:spPr>
          <a:xfrm>
            <a:off x="7000920" y="1071720"/>
            <a:ext cx="1905120" cy="292392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теплый хлеб"/>
          <p:cNvPicPr/>
          <p:nvPr/>
        </p:nvPicPr>
        <p:blipFill>
          <a:blip r:embed="rId3"/>
          <a:stretch/>
        </p:blipFill>
        <p:spPr>
          <a:xfrm>
            <a:off x="3071880" y="1143000"/>
            <a:ext cx="3000240" cy="321480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5" descr="1000069517"/>
          <p:cNvPicPr/>
          <p:nvPr/>
        </p:nvPicPr>
        <p:blipFill>
          <a:blip r:embed="rId4"/>
          <a:stretch/>
        </p:blipFill>
        <p:spPr>
          <a:xfrm>
            <a:off x="642960" y="128592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6" descr="225390"/>
          <p:cNvPicPr/>
          <p:nvPr/>
        </p:nvPicPr>
        <p:blipFill>
          <a:blip r:embed="rId5"/>
          <a:stretch/>
        </p:blipFill>
        <p:spPr>
          <a:xfrm>
            <a:off x="214200" y="3714840"/>
            <a:ext cx="3214800" cy="285732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7" descr="Kkotvor"/>
          <p:cNvPicPr/>
          <p:nvPr/>
        </p:nvPicPr>
        <p:blipFill>
          <a:blip r:embed="rId6"/>
          <a:stretch/>
        </p:blipFill>
        <p:spPr>
          <a:xfrm rot="1150200">
            <a:off x="3526920" y="4362480"/>
            <a:ext cx="1460520" cy="228600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8" descr="226186"/>
          <p:cNvPicPr/>
          <p:nvPr/>
        </p:nvPicPr>
        <p:blipFill>
          <a:blip r:embed="rId7"/>
          <a:stretch/>
        </p:blipFill>
        <p:spPr>
          <a:xfrm rot="731400">
            <a:off x="5428800" y="378576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85204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1071720" y="1571760"/>
            <a:ext cx="264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Ответы: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1А,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2Б,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3Б,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4А,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5В,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6А,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7А,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8Б,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9А,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10А.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46" name="Picture 4" descr="%D0%A2%D1%91%D0%BF%D0%BB%D1%8B%D0%B9_%D1%85%D0%BB%D0%B5%D0%B1"/>
          <p:cNvPicPr/>
          <p:nvPr/>
        </p:nvPicPr>
        <p:blipFill>
          <a:blip r:embed="rId2"/>
          <a:stretch/>
        </p:blipFill>
        <p:spPr>
          <a:xfrm>
            <a:off x="3857760" y="1643040"/>
            <a:ext cx="5072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GZS2MCALJXR0ACA8GDS3XCAR21RTGCA5GBI5KCAE25DVQCALPZQG5CANWJA6TCAM85UHZCA2HJ60CCA7TTT7ZCADCNS41CA12HIT0CACGCDP7CAHYKL4ECAI7WJCNCAEENQ9LCAS3MJF1CAKXIXDQ"/>
          <p:cNvPicPr/>
          <p:nvPr/>
        </p:nvPicPr>
        <p:blipFill>
          <a:blip r:embed="rId1"/>
          <a:stretch/>
        </p:blipFill>
        <p:spPr>
          <a:xfrm rot="21037200">
            <a:off x="577800" y="628200"/>
            <a:ext cx="3587760" cy="3008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234BBF6A"/>
          <p:cNvPicPr/>
          <p:nvPr/>
        </p:nvPicPr>
        <p:blipFill>
          <a:blip r:embed="rId2"/>
          <a:stretch/>
        </p:blipFill>
        <p:spPr>
          <a:xfrm rot="991800">
            <a:off x="5222880" y="248760"/>
            <a:ext cx="3409920" cy="3740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8" descr="9RDIBCATSHC11CAF68G6YCARUD41TCARF979BCATXPWNHCAM41UMPCAB40J3NCA5BI01ACAVMRLCFCA3XV9A6CAD0GB69CAUO524PCA3599GWCA99726CCAVVALTQCA2F3WH5CAYYOJ6ECA3IU9J5"/>
          <p:cNvPicPr/>
          <p:nvPr/>
        </p:nvPicPr>
        <p:blipFill>
          <a:blip r:embed="rId3"/>
          <a:stretch/>
        </p:blipFill>
        <p:spPr>
          <a:xfrm rot="20427000">
            <a:off x="320760" y="3959280"/>
            <a:ext cx="3095640" cy="2450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MPj04328000000[1]"/>
          <p:cNvPicPr/>
          <p:nvPr/>
        </p:nvPicPr>
        <p:blipFill>
          <a:blip r:embed="rId4"/>
          <a:stretch/>
        </p:blipFill>
        <p:spPr>
          <a:xfrm>
            <a:off x="4643280" y="3643200"/>
            <a:ext cx="3357720" cy="300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4C7C425F"/>
          <p:cNvPicPr/>
          <p:nvPr/>
        </p:nvPicPr>
        <p:blipFill>
          <a:blip r:embed="rId5"/>
          <a:stretch/>
        </p:blipFill>
        <p:spPr>
          <a:xfrm>
            <a:off x="2214720" y="2787480"/>
            <a:ext cx="3270240" cy="3838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8Z68CCAK8M83QCADRWXP2CAWI79G2CAB1L7JHCA0S5A57CA5RZZG0CA04HEN4CABBIMWLCAL0DYSBCACDROY9CAX2FDU5CAKPO82SCAD77VBLCASPZPC1CA3MGM9ECACMJ8L8CAOVV062CAPP5XXX"/>
          <p:cNvPicPr/>
          <p:nvPr/>
        </p:nvPicPr>
        <p:blipFill>
          <a:blip r:embed="rId6"/>
          <a:stretch/>
        </p:blipFill>
        <p:spPr>
          <a:xfrm>
            <a:off x="3571920" y="285840"/>
            <a:ext cx="2663640" cy="2376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33C35AC5"/>
          <p:cNvPicPr/>
          <p:nvPr/>
        </p:nvPicPr>
        <p:blipFill>
          <a:blip r:embed="rId7"/>
          <a:stretch/>
        </p:blipFill>
        <p:spPr>
          <a:xfrm rot="1557600">
            <a:off x="5037120" y="2048040"/>
            <a:ext cx="3929040" cy="3357360"/>
          </a:xfrm>
          <a:prstGeom prst="rect">
            <a:avLst/>
          </a:prstGeom>
          <a:ln w="0">
            <a:noFill/>
          </a:ln>
        </p:spPr>
      </p:pic>
      <p:pic>
        <p:nvPicPr>
          <p:cNvPr id="454" name="Zvuki_-_Metel_(get-tune.net).mp3" descr=""/>
          <p:cNvPicPr/>
          <p:nvPr/>
        </p:nvPicPr>
        <p:blipFill>
          <a:blip r:embed="rId8"/>
          <a:stretch/>
        </p:blipFill>
        <p:spPr>
          <a:xfrm>
            <a:off x="8072280" y="121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9978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1:47:45Z</dcterms:created>
  <dc:creator>User</dc:creator>
  <dc:description/>
  <dc:language>en-US</dc:language>
  <cp:lastModifiedBy>User</cp:lastModifiedBy>
  <dcterms:modified xsi:type="dcterms:W3CDTF">2012-03-11T15:26:21Z</dcterms:modified>
  <cp:revision>36</cp:revision>
  <dc:subject/>
  <dc:title>Слайд 1</dc:title>
</cp:coreProperties>
</file>