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E91-8497-4B36-92FB-6082C607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C77-EDD3-4EE8-B567-C896546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95C-46A2-45A5-AC09-C188CAE3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1EF-4B16-4F01-B366-0EA0F450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1EBB-669B-41FD-B495-6EEBDBCB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289-E6AE-4A78-97E1-6FAF3760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9C94-622E-4B50-9187-7CB5F673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B55D-3222-4420-9B2F-210D92EB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F3A7-4C65-4EEB-BCEA-ED4EC2F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F4FD-C1C7-4112-B893-745A7549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DC30-2911-434E-97D4-C608596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8BA-0011-4C5C-94C0-D235EA5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30A6-C0D1-45E7-96A3-8CCD09EE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0526-9F09-41C4-AFAB-0194E47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677B-FD6A-44AE-805D-5717CC7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D6A7-67EC-40B8-8F64-A28CA2D1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164-9879-4919-AE84-1C5EBD55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DBF-1558-4BDD-A667-46DF425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FA4-4EA7-430F-B60D-1CF7B248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9DD-F3A0-4CCA-82EF-F07649CE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C36-9B67-4003-931B-FFBC7D13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B6D-6833-43F6-A35D-DE21E9BE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568-3018-4661-A3B4-5285E465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45E-C0CA-487C-860E-87C55DB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C6C-5EA9-46FA-847F-B0EE8901E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B8B9-F980-430C-8B95-D55A6B0EB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11280" y="119700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Times New Roman"/>
              </a:rPr>
              <a:t>Озё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Тектонические озё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45440" cy="4897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51280" y="6278400"/>
            <a:ext cx="16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айк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Вулканические озё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816360" cy="3600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92720" y="52182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ер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059360" cy="3600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15280" y="522936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ноц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Запрудные озё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714680" y="1504800"/>
            <a:ext cx="5715000" cy="3848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771640" y="566100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ре́з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Каспийское море 2"/>
          <p:cNvPicPr/>
          <p:nvPr/>
        </p:nvPicPr>
        <p:blipFill>
          <a:blip r:embed="rId1"/>
          <a:stretch/>
        </p:blipFill>
        <p:spPr>
          <a:xfrm>
            <a:off x="179280" y="2349360"/>
            <a:ext cx="4537080" cy="4319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Новый рисунок"/>
          <p:cNvPicPr/>
          <p:nvPr/>
        </p:nvPicPr>
        <p:blipFill>
          <a:blip r:embed="rId2"/>
          <a:stretch/>
        </p:blipFill>
        <p:spPr>
          <a:xfrm>
            <a:off x="4788000" y="2349360"/>
            <a:ext cx="4211640" cy="431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826920" y="0"/>
            <a:ext cx="73454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Impact"/>
              </a:rPr>
              <a:t>Каспийское море-оз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Impact"/>
              <a:ea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1557360"/>
            <a:ext cx="78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амое большое озе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250920" y="2421000"/>
            <a:ext cx="4321080" cy="4103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Новый рисунок (3)"/>
          <p:cNvPicPr/>
          <p:nvPr/>
        </p:nvPicPr>
        <p:blipFill>
          <a:blip r:embed="rId2"/>
          <a:stretch/>
        </p:blipFill>
        <p:spPr>
          <a:xfrm>
            <a:off x="4643280" y="2421000"/>
            <a:ext cx="4211640" cy="4064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539640" y="0"/>
            <a:ext cx="799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Impact"/>
              </a:rPr>
              <a:t>озеро Байк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1403280" y="1484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амое глубокое озе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250920" y="1341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Самое большое море-озе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324000" y="27813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Самое глубокое озе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24000" y="4221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Озеро, из которого берёт начало р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50920" y="5516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На этом  полуострове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располагаются вулкан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озё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4360" y="260280"/>
            <a:ext cx="777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26828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Каспий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49228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Байк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640" y="45086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Сточ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39640" y="566100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Камча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2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8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зеро – это скопление воды в природном углубле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H="1">
            <a:off x="1763280" y="249228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637000"/>
            <a:ext cx="1008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836640"/>
            <a:ext cx="784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Impact"/>
              </a:rPr>
              <a:t>Типы озёр по сточ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1280" y="3429000"/>
            <a:ext cx="2400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оч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19640" y="2781360"/>
            <a:ext cx="345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сточны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Ладожское озеро1"/>
          <p:cNvPicPr/>
          <p:nvPr/>
        </p:nvPicPr>
        <p:blipFill>
          <a:blip r:embed="rId1"/>
          <a:stretch/>
        </p:blipFill>
        <p:spPr>
          <a:xfrm>
            <a:off x="250920" y="765000"/>
            <a:ext cx="4086000" cy="3168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Онежское озеро"/>
          <p:cNvPicPr/>
          <p:nvPr/>
        </p:nvPicPr>
        <p:blipFill>
          <a:blip r:embed="rId2"/>
          <a:stretch/>
        </p:blipFill>
        <p:spPr>
          <a:xfrm>
            <a:off x="5003640" y="692280"/>
            <a:ext cx="3872160" cy="345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Новый рисунок (1)"/>
          <p:cNvPicPr/>
          <p:nvPr/>
        </p:nvPicPr>
        <p:blipFill>
          <a:blip r:embed="rId3"/>
          <a:stretch/>
        </p:blipFill>
        <p:spPr>
          <a:xfrm>
            <a:off x="1908000" y="3284640"/>
            <a:ext cx="4319640" cy="3371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332000" y="0"/>
            <a:ext cx="6769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Impact"/>
              </a:rPr>
              <a:t>Сточные озё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565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адож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436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неж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7080" y="595008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айк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Каспийское море"/>
          <p:cNvPicPr/>
          <p:nvPr/>
        </p:nvPicPr>
        <p:blipFill>
          <a:blip r:embed="rId1"/>
          <a:stretch/>
        </p:blipFill>
        <p:spPr>
          <a:xfrm>
            <a:off x="179280" y="836640"/>
            <a:ext cx="4753080" cy="403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Аральское море"/>
          <p:cNvPicPr/>
          <p:nvPr/>
        </p:nvPicPr>
        <p:blipFill>
          <a:blip r:embed="rId2"/>
          <a:stretch/>
        </p:blipFill>
        <p:spPr>
          <a:xfrm>
            <a:off x="4427640" y="3284640"/>
            <a:ext cx="4556160" cy="318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971640" y="260280"/>
            <a:ext cx="734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Impact"/>
              </a:rPr>
              <a:t>Бессточные озё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4786200" y="1844640"/>
            <a:ext cx="36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спийское м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0760" y="573408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ральское м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H="1">
            <a:off x="2123640" y="2060640"/>
            <a:ext cx="136836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80000" y="206064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611280" y="3357720"/>
            <a:ext cx="3600360" cy="2809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26920" y="6021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59280" y="627840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айк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3780000" cy="2835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941080" y="627840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аскунч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5640" y="0"/>
            <a:ext cx="756144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Impact"/>
              </a:rPr>
              <a:t>Типы озёр по солё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42920" y="2781360"/>
            <a:ext cx="295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сны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35640" y="2781360"/>
            <a:ext cx="295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ёны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H="1">
            <a:off x="1331640" y="256536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0" y="2708280"/>
            <a:ext cx="181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стариц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627280" y="2565360"/>
            <a:ext cx="720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342900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ледниковы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2492280"/>
            <a:ext cx="144360" cy="23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869000"/>
            <a:ext cx="30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тектоническ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9640" y="2637000"/>
            <a:ext cx="57636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378936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вулканическ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2637000"/>
            <a:ext cx="792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24520" y="3141720"/>
            <a:ext cx="231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запрудны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5640" y="0"/>
            <a:ext cx="770400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Impact"/>
              </a:rPr>
              <a:t>Типы озёр по происхожден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зёра-стар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4360" y="1523880"/>
            <a:ext cx="777528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Ледниковые озёра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(ледниково-тектонические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11" descr="Онежское озеро"/>
          <p:cNvPicPr/>
          <p:nvPr/>
        </p:nvPicPr>
        <p:blipFill>
          <a:blip r:embed="rId1"/>
          <a:stretch/>
        </p:blipFill>
        <p:spPr>
          <a:xfrm>
            <a:off x="179280" y="1484280"/>
            <a:ext cx="8569440" cy="4962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187280" y="5300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адожское и Онеж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2:17:59Z</dcterms:created>
  <dc:creator>Admin</dc:creator>
  <dc:description/>
  <dc:language>en-US</dc:language>
  <cp:lastModifiedBy>Admin</cp:lastModifiedBy>
  <dcterms:modified xsi:type="dcterms:W3CDTF">2012-03-11T16:05:07Z</dcterms:modified>
  <cp:revision>4</cp:revision>
  <dc:subject/>
  <dc:title>к</dc:title>
</cp:coreProperties>
</file>