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FD4-781B-45D2-A90C-FAE2110D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7751-9FB9-4428-BCFF-19706A56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5F7-260C-46F6-8F0D-9D34DC57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299-2161-472B-AB19-52A2A116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270-E4BD-481B-B7E2-D43A633A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6EB-84EA-4814-A914-EEF8B611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8DF-3823-40FC-B2A1-8EAF2BF4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5FF-4211-494D-BC1A-848F0D9A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781-39E0-4744-9F94-90A43CE5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F3CA-2D96-45F8-9D57-EABF16EE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B05-5B2B-4483-9C80-A929373E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48E-A2EA-45B1-AED1-F74173B5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4FE4-A61A-4B68-92A8-7D700EF51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532720" cy="1884600"/>
          </a:xfrm>
          <a:prstGeom prst="rect">
            <a:avLst/>
          </a:prstGeom>
          <a:ln w="22320">
            <a:solidFill>
              <a:srgbClr val="ff660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2268360" y="2637000"/>
            <a:ext cx="415152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4920">
                  <a:solidFill>
                    <a:srgbClr val="def6f1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мый</a:t>
            </a:r>
            <a:endParaRPr b="0" i="1" lang="en-US" sz="1800" spc="1" strike="noStrike">
              <a:ln w="34920">
                <a:solidFill>
                  <a:srgbClr val="def6f1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03280" y="4221000"/>
            <a:ext cx="6481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def6f1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мный</a:t>
            </a:r>
            <a:endParaRPr b="0" lang="en-US" sz="1800" spc="1" strike="noStrike">
              <a:ln w="25560">
                <a:solidFill>
                  <a:srgbClr val="def6f1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animClr clrSpc="rgb">
                                      <p:cBhvr>
                                        <p:cTn id="1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set>
                                      <p:cBhvr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11280" y="260280"/>
            <a:ext cx="590544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II тур</a:t>
            </a:r>
            <a:endParaRPr b="0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9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3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1989000"/>
            <a:ext cx="316872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V t S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, др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3141720"/>
            <a:ext cx="3168720" cy="647640"/>
          </a:xfrm>
          <a:prstGeom prst="rect">
            <a:avLst/>
          </a:prstGeom>
          <a:solidFill>
            <a:srgbClr val="ffffff"/>
          </a:solidFill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Арифмет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4365720"/>
            <a:ext cx="3168720" cy="6476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Натуральн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03640" y="3213000"/>
            <a:ext cx="3168720" cy="647640"/>
          </a:xfrm>
          <a:prstGeom prst="rect">
            <a:avLst/>
          </a:prstGeom>
          <a:solidFill>
            <a:srgbClr val="ffffff"/>
          </a:solidFill>
          <a:ln w="475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Сек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76720" y="1989000"/>
            <a:ext cx="3168720" cy="648000"/>
          </a:xfrm>
          <a:prstGeom prst="rect">
            <a:avLst/>
          </a:prstGeom>
          <a:solidFill>
            <a:srgbClr val="ffffff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Метрическая система 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6720" y="4365720"/>
            <a:ext cx="3168720" cy="6476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efd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cef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efd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cefd8"/>
                </a:solidFill>
                <a:latin typeface="Arial"/>
              </a:rPr>
              <a:t>60 кг макулатуры сохраняют одно дерево, растущее в лесу свыше пятидесяти лет. Сколько деревьев сохранят учащиеся одной школы, собрав свыше 720 кг макулатур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cef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efd8"/>
                </a:solidFill>
                <a:latin typeface="Arial"/>
              </a:rPr>
              <a:t>Окружность Земли равна 40 тыс. км. До ближайшего города 100 км. Сколько раз нужно пройти это расстояние, чтобы проделать путь, равный окружности земл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cef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efd8"/>
                </a:solidFill>
                <a:latin typeface="Arial"/>
              </a:rPr>
              <a:t>Ондатры ( североамериканские грызуны) впервые завезены в Россию в 1928 году. Сколько лет прошло с тех пор, как первые ондатры появились  в нашей стра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efd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cef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efd8"/>
                </a:solidFill>
                <a:latin typeface="Arial"/>
              </a:rPr>
              <a:t>Розовый скворец съедает 200 г саранчи в день. Сколько грамм саранчи уничтожат за 4 дня 10 скворц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cef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efd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cefd8"/>
                </a:solidFill>
                <a:latin typeface="Arial"/>
              </a:rPr>
              <a:t>Учитывая известные вам сведения о строении муравья, подсчитайте их количество, если по дорожке ползет 72 лапк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cef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efd8"/>
                </a:solidFill>
                <a:latin typeface="Arial"/>
              </a:rPr>
              <a:t>Сколько меда могут собрать пчелы с 3 га гречишного поля, если с 1 га они собирают 70 кг мед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cef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efd8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cefd8"/>
                </a:solidFill>
                <a:latin typeface="Arial"/>
              </a:rPr>
              <a:t>264 + 692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cef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efd8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cefd8"/>
                </a:solidFill>
                <a:latin typeface="Arial"/>
              </a:rPr>
              <a:t>24 *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cef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efd8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cefd8"/>
                </a:solidFill>
                <a:latin typeface="Arial"/>
              </a:rPr>
              <a:t>68 : 17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cef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efd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cefd8"/>
                </a:solidFill>
                <a:latin typeface="Arial"/>
              </a:rPr>
              <a:t>Назови число, которого нет в таблице умн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ef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efd8"/>
                </a:solidFill>
                <a:latin typeface="Arial"/>
              </a:rPr>
              <a:t>48, 24, 49, 36, 12, 30, 57, 18, 42, 54</a:t>
            </a:r>
            <a:r>
              <a:rPr b="0" lang="en-US" sz="2000" spc="-1" strike="noStrike">
                <a:solidFill>
                  <a:srgbClr val="fcefd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979640" y="476280"/>
            <a:ext cx="51912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рифметические действ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4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45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466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92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77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9" dur="77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3" dur="77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8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77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77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9" dur="77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5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8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fd8"/>
            </a:gs>
            <a:gs pos="100000">
              <a:srgbClr val="f8dc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 какое время самолет сможет облететь Землю, если скорость его 1000 км/ч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орость волка в случае опасности 55 км/ч. сколько км может пробежать волк с такой же скоростью за 3 час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ройка лошадей проскакала 15 км . Сколько км проскакала каждая лошад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вый поезд идет со скоростью на 10 км/ч больше, чем второй. На сколько км / ч первый поезд должен уменьшить, а второй увеличить скорость, чтобы идти с одинаковой скорость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шеход проходит 1 км за 15 мин. Сколько километров он пройдет за 1 час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авни скорости        300км/ч…5км/м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найти дробь от числ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 модель, которая соответствует дроби 2/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есной у тюленей появляются детеныши. Масса детеныша - 20 кг. Это составляет 1/20 часть массы взрослого тюленя. Какова масса взрослого тюлен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авни: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     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68360" y="476280"/>
            <a:ext cx="420372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V t S и дроби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867280" y="4365720"/>
            <a:ext cx="28800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82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95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0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1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2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4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6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1" dur="2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4" dur="2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2" dur="5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77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0" dur="77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2" dur="77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4" dur="77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77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9" dur="77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3" dur="77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8" dur="5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1" dur="5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2fdd7"/>
            </a:gs>
            <a:gs pos="100000">
              <a:srgbClr val="f9b5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полни пропуски, определив, какими единицами пользовались при измере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 длина синего кита                                                               33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рост человека                                                                        171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 средняя продолжительность жизни человека                    65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нежный барс - отличный охотник. На охоте он не уступает в ловкости льву. сравни массу барса и льва, если известно, что масса снежного барса достигает 40 кг, а льва - 2 ц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 Москвы до Санкт - Петербурга самолет долетает за 85 минут, а из  Санкт - Петербурга до Москвы за 1 час 25 минут. Какой полет длится меньш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ина озера Байкал 2000 км, а озера Баскунчак 20 км. Во сколько раз озеро Байкал длиннее озера Баскунчак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ая единица измерения времени меньше года, но больше недел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рож вышел на дежурство в 9 часов вечера, а его сменили в 9 часов утра. Сколько времени он дежурил?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олько мм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в дм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олько дней в високосном год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упили полтора килограмма масла, полтора килограмма сыра и два с половиной килограмма огурцов. Какова масса всей покупк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32000" y="692280"/>
            <a:ext cx="64022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8d98"/>
                </a:solidFill>
                <a:latin typeface="Arial"/>
              </a:rPr>
              <a:t>Метрическая система мер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8d98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783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08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0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8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8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8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8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5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8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8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8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0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3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dced"/>
            </a:gs>
            <a:gs pos="100000">
              <a:srgbClr val="def6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Arial"/>
              </a:rPr>
              <a:t>Секр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евку разрезали на 5 частей ,сколько сделали разрезов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ую фигуру получим, если у квадрата срежем все угл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какой посуды нельзя ничего е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есть ног, а бежит быстрее, чем на четыре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школу шли 5 мальчиков. На пути они встретили еще трех мальчиков. Сколько всего мальчиков шло в школ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х камней нет ни в одном мор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м кончается как день, так и ноч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но ли в решете нести вод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яблоне было 10 яблок, а на иве на 2 меньше. Сколько всего было ябл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тверо играли в домино четыре часа. Сколько времени играл кажд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692280"/>
            <a:ext cx="81914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993366"/>
                  </a:solidFill>
                  <a:miter/>
                </a:ln>
                <a:solidFill>
                  <a:srgbClr val="ff8d98"/>
                </a:solidFill>
                <a:latin typeface="Arial"/>
              </a:rPr>
              <a:t>Шуточные вопросы и "логические" задачки</a:t>
            </a:r>
            <a:endParaRPr b="0" lang="en-US" sz="3200" spc="1" strike="noStrike">
              <a:ln w="15840">
                <a:solidFill>
                  <a:srgbClr val="993366"/>
                </a:solidFill>
                <a:miter/>
              </a:ln>
              <a:solidFill>
                <a:srgbClr val="ff8d98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2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39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5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4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62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90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8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4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5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2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Сколько различных прямоугольников можно построить с периметром12 с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Во сколько раз увеличится площадь квадрата, если его сторону увеличить в 2 раз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На листе белой бумаги прямоугольной формы длиной 12 см и шириной 5 см нарисован квадрат со стороной 4 см. Найди площадь белой части  листа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сколько прямоугольников можно насчитать в изображении ок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Чему равен радиус окружности диаметром 15 с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Как называется четырехугольник, у которого все углы прямы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Гриша выставил на посты  семь солдатиков на расстоянии 3 см один от другого. Какое расстояние от первого солдатика до последне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Как найти перимет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Чему равна длина прямоугольника, если площадь равна 36 см</a:t>
            </a:r>
            <a:r>
              <a:rPr b="0" lang="en-US" sz="18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, ширина 9с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24000" y="333360"/>
            <a:ext cx="43210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еометр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2997360"/>
            <a:ext cx="1871640" cy="792000"/>
          </a:xfrm>
          <a:prstGeom prst="rect">
            <a:avLst/>
          </a:prstGeom>
          <a:noFill/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2997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63640" y="371628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3640" y="2997360"/>
            <a:ext cx="503280" cy="504720"/>
          </a:xfrm>
          <a:prstGeom prst="rect">
            <a:avLst/>
          </a:prstGeom>
          <a:solidFill>
            <a:srgbClr val="ffcc99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4360" y="4653000"/>
            <a:ext cx="1511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451640" y="3573360"/>
            <a:ext cx="142740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105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9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1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3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45" dur="2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157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9" dur="50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Сколько знаков будет в числе, в записи которого содержится 5 нуле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Какое из чисел  333, 555, 666, 999 не делится на 3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Какое число кратное 3, следует за числом 203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На руках 10 пальцев. Сколько пальцев на 10 рук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Прочитай пример:       *** + 1 = 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Какое число, содержащее 7 десятков, разделилось бы на 1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Два десятка умножили на три десятка. Сколько десятков получило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Что легче кг пуха или кг желе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Сколько будет 2+2 *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Сколько сотен в числе 288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9280" y="620640"/>
            <a:ext cx="626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туральное числ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6" dur="5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22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77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7" dur="77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9" dur="77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1" dur="77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6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8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2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4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65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5" dur="8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6" dur="8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7" dur="8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1" dur="10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3" dur="10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43280" y="333360"/>
            <a:ext cx="3082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II ту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565360"/>
            <a:ext cx="2519640" cy="1728720"/>
          </a:xfrm>
          <a:prstGeom prst="bevel">
            <a:avLst>
              <a:gd name="adj" fmla="val 12500"/>
            </a:avLst>
          </a:prstGeom>
          <a:solidFill>
            <a:srgbClr val="f8e3dc"/>
          </a:solidFill>
          <a:ln w="34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календ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4653000"/>
            <a:ext cx="2519280" cy="1728720"/>
          </a:xfrm>
          <a:prstGeom prst="bevel">
            <a:avLst>
              <a:gd name="adj" fmla="val 12500"/>
            </a:avLst>
          </a:prstGeom>
          <a:solidFill>
            <a:srgbClr val="f8e3dc"/>
          </a:solidFill>
          <a:ln w="34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и рим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нум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2637000"/>
            <a:ext cx="2519280" cy="1728720"/>
          </a:xfrm>
          <a:prstGeom prst="bevel">
            <a:avLst>
              <a:gd name="adj" fmla="val 12500"/>
            </a:avLst>
          </a:prstGeom>
          <a:solidFill>
            <a:srgbClr val="f8e3dc"/>
          </a:solidFill>
          <a:ln w="34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Ист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2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4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6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3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7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4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6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8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5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7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9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ери недостающий домик, не нарушая закономер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39640" y="1700280"/>
            <a:ext cx="4826160" cy="369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16360" y="5229360"/>
            <a:ext cx="3803760" cy="14270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782ea"/>
                </a:solidFill>
                <a:latin typeface="Arial"/>
              </a:rPr>
              <a:t>I</a:t>
            </a:r>
            <a:r>
              <a:rPr b="1" lang="ru-RU" sz="6000" spc="-1" strike="noStrike">
                <a:solidFill>
                  <a:srgbClr val="8782ea"/>
                </a:solidFill>
                <a:latin typeface="Arial"/>
              </a:rPr>
              <a:t> т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800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Баранова Вер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800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Загорулько Макс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800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Орлова Екате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800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Горбенко Ан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800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Слепух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800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Чернобривец Гри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800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Милега Ю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800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Сероштанов Иго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800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Одинцова Со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800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Новиков Серг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800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Беба Ан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800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Гетта Влади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95,-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6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95,-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6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1052640"/>
          <a:ext cx="8147160" cy="5073120"/>
        </p:xfrm>
        <a:graphic>
          <a:graphicData uri="http://schemas.openxmlformats.org/drawingml/2006/table">
            <a:tbl>
              <a:tblPr/>
              <a:tblGrid>
                <a:gridCol w="2036520"/>
                <a:gridCol w="2036880"/>
                <a:gridCol w="2036880"/>
                <a:gridCol w="2036880"/>
              </a:tblGrid>
              <a:tr h="16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7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3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календ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у равна продолжительность солнечного го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точное чис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лендарная единица измерения времени, получившая свое название за периодичность изменения фаз Лу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ая планета управляет днем недели « вторник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6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139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arn(inHorizontal)" transition="out">
                                      <p:cBhvr additive="repl">
                                        <p:cTn id="140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История системы 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хорошо узнать человека, нужно с ним…?..соли съесть. Масса маятника курантов в 2 раза больше указанного количества соли. Какова масса маятни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и точно был тюльпан, только в самой чашечке на зеленом стульчике сидела девочка, совсем крошка, росточком-то всего в дюйм, что ее так и прозвали – Дюймовочка. Какого роста была девоч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, кто отправляется в плавание, жел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7 футов под килем». Это значит, что глубина под кораблем была не менее  7 футов. Какая это глуб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Системы счисления и римская нуме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ите , в какой системе счисления выполнялось следующее действ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 + 14 = 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MMCMXCI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ти запись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, записанное в десятичной системе счисления, оканчивается цифрой 5. Будет ли это число делиться на 5 в троичной системе счис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6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8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dc6ff"/>
                </a:solidFill>
                <a:latin typeface="Arial"/>
              </a:rPr>
              <a:t>Секр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дники на земле занимают седьмую часть суши, а горы – четверть. Что занимает большую площа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лько получится, если число 1 умножить само на себя тысячу 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ждый ученик возьмет в столовой 100-граммовый кусочек хлеба и половину его не доест. Сколько хлеба пойдет в отходы. Если в классе 40 учен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77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7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9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1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7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arn(inHorizontal)" transition="out">
                                      <p:cBhvr additive="repl">
                                        <p:cTn id="153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езентацию подгото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4737240" cy="386712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Магический квадр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42920" y="1700280"/>
          <a:ext cx="3745080" cy="3600360"/>
        </p:xfrm>
        <a:graphic>
          <a:graphicData uri="http://schemas.openxmlformats.org/drawingml/2006/table">
            <a:tbl>
              <a:tblPr/>
              <a:tblGrid>
                <a:gridCol w="1248120"/>
                <a:gridCol w="1248480"/>
                <a:gridCol w="1248480"/>
              </a:tblGrid>
              <a:tr h="134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5580000" y="1916280"/>
            <a:ext cx="2664000" cy="3384360"/>
          </a:xfrm>
          <a:prstGeom prst="rect">
            <a:avLst/>
          </a:prstGeom>
          <a:solidFill>
            <a:srgbClr val="ccff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ed6"/>
            </a:gs>
            <a:gs pos="100000">
              <a:srgbClr val="85ff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19280" y="4292640"/>
            <a:ext cx="2087640" cy="1944720"/>
          </a:xfrm>
          <a:prstGeom prst="rect">
            <a:avLst/>
          </a:prstGeom>
          <a:gradFill rotWithShape="0">
            <a:gsLst>
              <a:gs pos="0">
                <a:srgbClr val="edfed6"/>
              </a:gs>
              <a:gs pos="100000">
                <a:srgbClr val="85ff8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тавьте в окошко натуральное число, чтобы запись была верной.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72 : 6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72 :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2492280"/>
            <a:ext cx="108108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я количество воды, даваемое родником, туристы заметили. что 2-литровая банк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полнилась за 4 с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воды дает родник за 1 ми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за 1 ми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2376360" cy="3671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716360" y="4941720"/>
            <a:ext cx="2087640" cy="151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30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20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40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10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7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77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77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7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7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ина стороны квадрата 1 дециметр. Этот квадрат разрезали на квадратики со стороной 1 сантиметр, из которых выложили полосу. Какой длины получилась полос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2421000"/>
            <a:ext cx="2735280" cy="2736720"/>
          </a:xfrm>
          <a:prstGeom prst="rect">
            <a:avLst/>
          </a:prstGeom>
          <a:solidFill>
            <a:srgbClr val="f7d8fc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2421000"/>
            <a:ext cx="73080" cy="73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3072200">
            <a:off x="2339640" y="3789000"/>
            <a:ext cx="7543800" cy="69840"/>
          </a:xfrm>
          <a:prstGeom prst="rect">
            <a:avLst/>
          </a:prstGeom>
          <a:solidFill>
            <a:srgbClr val="f7d8fc"/>
          </a:solidFill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5084640"/>
            <a:ext cx="2376720" cy="1152720"/>
          </a:xfrm>
          <a:prstGeom prst="rect">
            <a:avLst/>
          </a:prstGeom>
          <a:solidFill>
            <a:srgbClr val="fde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100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10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1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5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0ff"/>
            </a:gs>
            <a:gs pos="100000">
              <a:srgbClr val="acba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ая из этих фигур лишня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819792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0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айди закономерность и выбери нужное число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0" b="7336"/>
          <a:stretch/>
        </p:blipFill>
        <p:spPr>
          <a:xfrm>
            <a:off x="826920" y="1773360"/>
            <a:ext cx="4857840" cy="3693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948360" y="3357720"/>
            <a:ext cx="1368720" cy="2303280"/>
          </a:xfrm>
          <a:prstGeom prst="rect">
            <a:avLst/>
          </a:prstGeom>
          <a:gradFill rotWithShape="0">
            <a:gsLst>
              <a:gs pos="0">
                <a:srgbClr val="ffffa0"/>
              </a:gs>
              <a:gs pos="100000">
                <a:srgbClr val="acbae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8fc"/>
            </a:gs>
            <a:gs pos="100000">
              <a:srgbClr val="fded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нови правило. по которому записаны величины в первых двух столбцах, и по этому же правилу запиши величины в третьем столбце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м                              63 т                   2 сут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0 дм                         635 ц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500 см                      63 500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 000мм                    63 500 000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2205000"/>
            <a:ext cx="1656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2637000"/>
            <a:ext cx="1656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8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20:34:42Z</dcterms:created>
  <dc:creator>Никита</dc:creator>
  <dc:description/>
  <dc:language>en-US</dc:language>
  <cp:lastModifiedBy>Никита</cp:lastModifiedBy>
  <dcterms:modified xsi:type="dcterms:W3CDTF">2007-01-23T20:47:38Z</dcterms:modified>
  <cp:revision>6</cp:revision>
  <dc:subject/>
  <dc:title>Слайд 1</dc:title>
</cp:coreProperties>
</file>