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7.jpeg" ContentType="image/jpeg"/>
  <Override PartName="/ppt/media/image4.jpeg" ContentType="image/jpeg"/>
  <Override PartName="/ppt/media/image25.png" ContentType="image/png"/>
  <Override PartName="/ppt/media/image8.gif" ContentType="image/gif"/>
  <Override PartName="/ppt/media/image13.gif" ContentType="image/gif"/>
  <Override PartName="/ppt/media/image5.jpeg" ContentType="image/jpeg"/>
  <Override PartName="/ppt/media/image9.wmf" ContentType="image/x-wmf"/>
  <Override PartName="/ppt/media/image11.gif" ContentType="image/gif"/>
  <Override PartName="/ppt/media/image6.jpeg" ContentType="image/jpeg"/>
  <Override PartName="/ppt/media/image3.jpeg" ContentType="image/jpeg"/>
  <Override PartName="/ppt/media/image12.gif" ContentType="image/gif"/>
  <Override PartName="/ppt/media/image30.gif" ContentType="image/gif"/>
  <Override PartName="/ppt/media/image16.wmf" ContentType="image/x-wmf"/>
  <Override PartName="/ppt/media/image28.gif" ContentType="image/gif"/>
  <Override PartName="/ppt/media/image20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27.gif" ContentType="image/gif"/>
  <Override PartName="/ppt/media/image17.png" ContentType="image/png"/>
  <Override PartName="/ppt/media/image19.png" ContentType="image/png"/>
  <Override PartName="/ppt/media/image14.png" ContentType="image/png"/>
  <Override PartName="/ppt/media/image10.jpeg" ContentType="image/jpeg"/>
  <Override PartName="/ppt/media/image21.gif" ContentType="image/gif"/>
  <Override PartName="/ppt/media/image24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DB1-757D-4786-B3E8-B94D0C1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638-9E3A-48A3-8954-09B200C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D14-BE67-4868-BD6E-D62DEA0B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A95-B4FB-444F-93FF-58A795B6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FE0C-04ED-426F-B561-6C42A284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CD75-6551-4EAC-926C-17594D06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835F-E5C6-4EA3-A029-A6932FD8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A2E-6A16-4145-B8AC-F932DB1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72FD-31E3-448D-B5B0-16FFF07A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099A-CA46-4CC2-8527-3547747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C347-90C5-4F70-95C3-415D193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A33-20EE-4657-B991-5FC65401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780C-5E48-4A5C-A16F-4DAF0EF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622-B1B4-429D-A4C6-68FA080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4C4-4713-471F-AB40-9BFD4350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CA4-B959-45A2-9DCA-137A6B62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8E3C-A7C7-4709-ABE2-79A77F1D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C81-C0FB-4B07-80F0-FF59046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EA0-FA28-4C48-929C-0CFA4F8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AEF-2FCE-4256-98DD-69148297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9A-249B-4F7E-B45E-B265B354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1F7-A7A5-4443-B904-F321855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74E-AB23-43AC-985A-3D38F29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B63-66B6-4799-BFA2-6231A5B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19D-7E69-4E04-899B-BB983A2F19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416B-16EA-4CDF-A39F-B01533980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4BB-9820-48A5-BF0A-439E39596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700360" y="3716280"/>
            <a:ext cx="3286080" cy="18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Подготовил</a:t>
            </a: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Иванов Анато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ученик 4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МБ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«Верхнезаимская СОШ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с. Верхняя Заим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Чирва Н.А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826920" y="1557360"/>
            <a:ext cx="7775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КОМПЬЮТЕРНЫЕ ИГРЫ –</a:t>
            </a:r>
            <a:endParaRPr b="1" i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ХОРОШО ИЛИ ПЛОХО?</a:t>
            </a:r>
            <a:endParaRPr b="1" i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4" name="Picture 10" descr="P1030571"/>
          <p:cNvPicPr/>
          <p:nvPr/>
        </p:nvPicPr>
        <p:blipFill>
          <a:blip r:embed="rId2"/>
          <a:stretch/>
        </p:blipFill>
        <p:spPr>
          <a:xfrm>
            <a:off x="395280" y="3860640"/>
            <a:ext cx="2023920" cy="269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22636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84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Цель анкетирования: </a:t>
            </a:r>
            <a:br>
              <a:rPr sz="28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выяснить,  в какие игры любят играть ученики и их отношение к компьютерным игр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490680" y="429264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ультаты проведенного исследования показали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что почти все ребята в классе (5 чел из 8) имеют дома компьютер, учатся пользоваться разными программами, но большую часть времени проводят  за играми. Немногие задумываются о вреде и пользе этих игр, как и о том, сколько времени можно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6862680" y="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deti-66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Диаграмма 8"/>
          <p:cNvGraphicFramePr/>
          <p:nvPr/>
        </p:nvGraphicFramePr>
        <p:xfrm>
          <a:off x="573120" y="1576440"/>
          <a:ext cx="4068720" cy="269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Диаграмма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3120" y="1576440"/>
                    <a:ext cx="406872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Диаграмма 10" descr=""/>
          <p:cNvPicPr/>
          <p:nvPr/>
        </p:nvPicPr>
        <p:blipFill>
          <a:blip r:embed="rId4"/>
          <a:stretch/>
        </p:blipFill>
        <p:spPr>
          <a:xfrm>
            <a:off x="4286160" y="1571760"/>
            <a:ext cx="4429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5B50-11B4-4561-8B24-AC56102E0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G:\Варсопко М. проект\компьютер\солнце в облаках.gif"/>
          <p:cNvPicPr/>
          <p:nvPr/>
        </p:nvPicPr>
        <p:blipFill>
          <a:blip r:embed="rId2"/>
          <a:stretch/>
        </p:blipFill>
        <p:spPr>
          <a:xfrm>
            <a:off x="0" y="0"/>
            <a:ext cx="1428840" cy="117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K:\Варсопко М. проект\компьютер\18931945.gif"/>
          <p:cNvPicPr/>
          <p:nvPr/>
        </p:nvPicPr>
        <p:blipFill>
          <a:blip r:embed="rId3"/>
          <a:stretch/>
        </p:blipFill>
        <p:spPr>
          <a:xfrm>
            <a:off x="4143240" y="2840040"/>
            <a:ext cx="536760" cy="1789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1551960" y="692280"/>
            <a:ext cx="62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ласс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час в 4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5"/>
          <a:stretch/>
        </p:blipFill>
        <p:spPr>
          <a:xfrm>
            <a:off x="4716360" y="278136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Елена\Рабочий стол\Рисунок1.png"/>
          <p:cNvPicPr/>
          <p:nvPr/>
        </p:nvPicPr>
        <p:blipFill>
          <a:blip r:embed="rId2"/>
          <a:stretch/>
        </p:blipFill>
        <p:spPr>
          <a:xfrm>
            <a:off x="133200" y="1474920"/>
            <a:ext cx="4389480" cy="343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Елена\Рабочий стол\Рисунок2.png"/>
          <p:cNvPicPr/>
          <p:nvPr/>
        </p:nvPicPr>
        <p:blipFill>
          <a:blip r:embed="rId3"/>
          <a:stretch/>
        </p:blipFill>
        <p:spPr>
          <a:xfrm>
            <a:off x="4857840" y="1554120"/>
            <a:ext cx="4030560" cy="334656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1042920" y="203040"/>
            <a:ext cx="6446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70c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сравним Человека Разумного и Человека Играющего</a:t>
            </a:r>
            <a:endParaRPr b="0" lang="en-US" sz="1800" spc="1" strike="noStrike">
              <a:ln w="9360">
                <a:solidFill>
                  <a:srgbClr val="0070c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0" y="5229360"/>
            <a:ext cx="87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Врачи говорят, что на коробках с играми давно пора ставить надпись наподобие этой: «КУРЕНИЕ УБИВАЕТ». Но даже это не поможет, пока сам человек не сделает выбор: хочет он настоящей полноценной жизни – или картинки на экране монитора, которая погаснет вместе с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5760" y="1054080"/>
          <a:ext cx="8229600" cy="58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жи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Л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ЖЕЛАНИЕ ОБЩАТЬСЯ С ЛЮДЬМИ, ОТСУТСТВИЕ ДРУЗ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АДЕНИЕ УМСТВЕННЫХ СПОСО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ЕСТОКОСТЬ И НАСИЛ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ОСРЕДОТОЧ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СКРИВЛЕНИЕ ПОЗВОНОЧ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ЕЛКИХ МЫШЦ Р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РАВМА КИ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ДЕРЖКА ИНТЕРЕСА К УЧЁ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ОЛЕЗНИ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ОРМОЗИТ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ИЕ НАХОДИТЬ ЗАКОНОМЕР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ЕССОННИЦА И НОЧНЫЕ КОШМ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СОРЫ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ПАСНОСТЬ СЕТЕВ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«КОМПЬЮТЕРНАЯ ЗАВИС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3246-A473-498D-907C-4D6BE87AF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08320" y="2602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лияние компьютерных игр  на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3" descr="K:\Варсопко М. проект\komp\hw28.gif"/>
          <p:cNvPicPr/>
          <p:nvPr/>
        </p:nvPicPr>
        <p:blipFill>
          <a:blip r:embed="rId2"/>
          <a:stretch/>
        </p:blipFill>
        <p:spPr>
          <a:xfrm>
            <a:off x="7588080" y="1103400"/>
            <a:ext cx="1160640" cy="74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4" descr="K:\Варсопко М. проект\komp\hw23.gif"/>
          <p:cNvPicPr/>
          <p:nvPr/>
        </p:nvPicPr>
        <p:blipFill>
          <a:blip r:embed="rId3"/>
          <a:stretch/>
        </p:blipFill>
        <p:spPr>
          <a:xfrm>
            <a:off x="447840" y="1136520"/>
            <a:ext cx="11095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Мои предположения не подтвердились. Нельзя сказать, что компьютерные игры – это плохо, и надо отказаться от них. Как  нельзя сказать, что хорошо, и можно играть сколько хочется и в любые игры. Влияние компьютерных игр на  детей неоднозначно. Кто–то развивает логическое мышление, кто-то забывает про окружающий реальный мир.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Здесь нужно придерживаться главного принципа – не навреди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. Компьютер, как и всё, что окружает нас, может быть и полезным, и вред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8C8-AA80-4855-B147-39CC549349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F523-1D87-402C-93E5-E0DEF2CC5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428840" y="214200"/>
            <a:ext cx="62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gradFill rotWithShape="0">
                  <a:gsLst>
                    <a:gs pos="0">
                      <a:srgbClr val="0070c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 моего исследования. 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gradFill rotWithShape="0">
                <a:gsLst>
                  <a:gs pos="0">
                    <a:srgbClr val="0070c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Picture 7" descr="K:\Варсопко М. проект\komp\komputeri-498.gif"/>
          <p:cNvPicPr/>
          <p:nvPr/>
        </p:nvPicPr>
        <p:blipFill>
          <a:blip r:embed="rId2"/>
          <a:stretch/>
        </p:blipFill>
        <p:spPr>
          <a:xfrm>
            <a:off x="179280" y="297000"/>
            <a:ext cx="1149480" cy="128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K:\Варсопко М. проект\komp\komputeri-422.gif"/>
          <p:cNvPicPr/>
          <p:nvPr/>
        </p:nvPicPr>
        <p:blipFill>
          <a:blip r:embed="rId3"/>
          <a:stretch/>
        </p:blipFill>
        <p:spPr>
          <a:xfrm>
            <a:off x="7684920" y="369720"/>
            <a:ext cx="1233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779E-DD3C-43B3-9D45-59D636D8B7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3738-0B3D-4D42-94EB-EF2DCF345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93760" y="1636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Я выбрал эту тему потому, что меня заинтересовало,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ак же воздействуют компьютерные игры  на ребенка,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в какие игры можно играть, а в какие нельзя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D:\Елена\анимашки\анимации новые\x_a89db78c.jpg"/>
          <p:cNvPicPr/>
          <p:nvPr/>
        </p:nvPicPr>
        <p:blipFill>
          <a:blip r:embed="rId2"/>
          <a:stretch/>
        </p:blipFill>
        <p:spPr>
          <a:xfrm>
            <a:off x="0" y="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4"/>
          <p:cNvSpPr txBox="1"/>
          <p:nvPr/>
        </p:nvSpPr>
        <p:spPr>
          <a:xfrm>
            <a:off x="2050920" y="549360"/>
            <a:ext cx="513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основание выбо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3"/>
          <a:stretch/>
        </p:blipFill>
        <p:spPr>
          <a:xfrm>
            <a:off x="642960" y="4000680"/>
            <a:ext cx="3149640" cy="236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605858_w640_h640_17"/>
          <p:cNvPicPr/>
          <p:nvPr/>
        </p:nvPicPr>
        <p:blipFill>
          <a:blip r:embed="rId4"/>
          <a:stretch/>
        </p:blipFill>
        <p:spPr>
          <a:xfrm>
            <a:off x="7380360" y="476280"/>
            <a:ext cx="1403280" cy="104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E:\исследовательская работа Компьютерные игры - хорошо или плохо\визитка\rdgisvoyhf.jpg"/>
          <p:cNvPicPr/>
          <p:nvPr/>
        </p:nvPicPr>
        <p:blipFill>
          <a:blip r:embed="rId5"/>
          <a:stretch/>
        </p:blipFill>
        <p:spPr>
          <a:xfrm>
            <a:off x="4286160" y="3429000"/>
            <a:ext cx="2330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356760"/>
            <a:ext cx="864396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оего исслед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снить положительные и отрица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ороны влияния компьютерных игр  в жизни    школьник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 ответить н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вный вопрос: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грать в компьютерные игры – это хорошо или  плох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 меня возникло дв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полож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Предположим: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играть в компьютерные  игр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плохо, т.к. вредит здоровь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Возможно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,  играть в компьютерные игры 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хорошо, т.к. игра  развивает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56E-995F-463B-BEF9-7F9890FA88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0AAC-8F40-4349-9093-A84104B67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G:\Варсопко М. проект\компьютер\anylizing_computer_10066WHT[1].gif"/>
          <p:cNvPicPr/>
          <p:nvPr/>
        </p:nvPicPr>
        <p:blipFill>
          <a:blip r:embed="rId2"/>
          <a:stretch/>
        </p:blipFill>
        <p:spPr>
          <a:xfrm>
            <a:off x="8101080" y="23760"/>
            <a:ext cx="904680" cy="111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K:\Варсопко М. проект\компьютер\j0404263.wmf"/>
          <p:cNvPicPr/>
          <p:nvPr/>
        </p:nvPicPr>
        <p:blipFill>
          <a:blip r:embed="rId3"/>
          <a:stretch/>
        </p:blipFill>
        <p:spPr>
          <a:xfrm>
            <a:off x="158760" y="4917960"/>
            <a:ext cx="1420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354-2373-4CE9-A6D3-57C050D828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B84-AE9C-4116-84EE-9689B7B33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14200" y="171468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знать, какую пользу и какой вред несут для детей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знать, как правильно организовать рабочее место за компьютером, какие правила безопасного поведения должны соблюд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читься работать в программах Microsoft Word,, Microsoft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1317744330_zavisimost-rebenka-ot-igrovyh-pristavok"/>
          <p:cNvPicPr/>
          <p:nvPr/>
        </p:nvPicPr>
        <p:blipFill>
          <a:blip r:embed="rId2"/>
          <a:stretch/>
        </p:blipFill>
        <p:spPr>
          <a:xfrm>
            <a:off x="3500280" y="3929040"/>
            <a:ext cx="328644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2864880" y="428760"/>
            <a:ext cx="296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46c0a"/>
                </a:solidFill>
                <a:latin typeface="Arial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3600" y="1773000"/>
            <a:ext cx="842508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Найти и изучить в литературе  и интернете сведения о влиянии  компьютерных игр на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ть существуют ли гигиенические требования, которые необходимо соблюдать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анкетирование у одноклассников, с целью узнать в каки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ят играть ученики и их отношение к компьютерным иг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собра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Выработать Памятку по безопасному пользованию иг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ть презентацию по собранн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Участвовать в проведении урока с использованием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Представить результат проектно-исследовательской работы на районной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K:\Варсопко М. проект\компьютер\Изображение 142.gif"/>
          <p:cNvPicPr/>
          <p:nvPr/>
        </p:nvPicPr>
        <p:blipFill>
          <a:blip r:embed="rId2"/>
          <a:stretch/>
        </p:blipFill>
        <p:spPr>
          <a:xfrm>
            <a:off x="282600" y="766800"/>
            <a:ext cx="121608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:\Варсопко М. проект\компьютер\компьютер.gif"/>
          <p:cNvPicPr/>
          <p:nvPr/>
        </p:nvPicPr>
        <p:blipFill>
          <a:blip r:embed="rId3"/>
          <a:stretch/>
        </p:blipFill>
        <p:spPr>
          <a:xfrm>
            <a:off x="7451640" y="27792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1857240" y="277920"/>
            <a:ext cx="54421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7030a0">
                        <a:alpha val="50196"/>
                      </a:srgbClr>
                    </a:gs>
                    <a:gs pos="100000">
                      <a:srgbClr val="00b0f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лан исследования.</a:t>
            </a:r>
            <a:endParaRPr b="0" lang="en-US" sz="3200" spc="1" strike="noStrike">
              <a:ln w="1260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7030a0">
                      <a:alpha val="50196"/>
                    </a:srgbClr>
                  </a:gs>
                  <a:gs pos="100000">
                    <a:srgbClr val="00b0f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оценивать полезность компьютерных иг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выбирать игры, развивающие мышление, логику, мелкие мышцы ру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выполнять гимнастику для мышц и глаз, следить за временем, проведенном у компьюте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рассказывать о необходимости соблюдения  правил безопасного поведения за компьютером   своим близким, знаком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BD9-B847-4B8C-957D-A1A538FA84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B14C-3241-47F2-A2ED-CD582BE3F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1403280" y="428760"/>
            <a:ext cx="58834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полагаемый результ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7" descr="G:\Варсопко М. проект\компьютер\komp35.gif"/>
          <p:cNvPicPr/>
          <p:nvPr/>
        </p:nvPicPr>
        <p:blipFill>
          <a:blip r:embed="rId2"/>
          <a:stretch/>
        </p:blipFill>
        <p:spPr>
          <a:xfrm>
            <a:off x="214200" y="214200"/>
            <a:ext cx="107172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G:\Варсопко М. проект\компьютер\ui7i.png"/>
          <p:cNvPicPr/>
          <p:nvPr/>
        </p:nvPicPr>
        <p:blipFill>
          <a:blip r:embed="rId3"/>
          <a:stretch/>
        </p:blipFill>
        <p:spPr>
          <a:xfrm>
            <a:off x="7215120" y="42876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Играешь ли ты в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компьютерные иг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3492360" y="2852640"/>
          <a:ext cx="482616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2852640"/>
                    <a:ext cx="48261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10"/>
          <p:cNvSpPr/>
          <p:nvPr/>
        </p:nvSpPr>
        <p:spPr>
          <a:xfrm>
            <a:off x="252360" y="5445000"/>
            <a:ext cx="57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8 учеников моего класса на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Играешь ли ты в компьютерные игры?» ответ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а» - 75%; «нет»-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116000" y="32544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Результаты АНКЕТИРОВАНИЯ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Какими компьютерными программами ты пользуешь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В какие игры ты играеш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2"/>
          <a:stretch/>
        </p:blipFill>
        <p:spPr>
          <a:xfrm>
            <a:off x="4680" y="1643040"/>
            <a:ext cx="9139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1:25:19Z</dcterms:created>
  <dc:creator>Соломаха Е.И.</dc:creator>
  <dc:description>http://aida.ucoz.ru</dc:description>
  <dc:language>en-US</dc:language>
  <cp:lastModifiedBy>Даня</cp:lastModifiedBy>
  <dcterms:modified xsi:type="dcterms:W3CDTF">2012-03-11T05:48:51Z</dcterms:modified>
  <cp:revision>69</cp:revision>
  <dc:subject/>
  <dc:title>Слайд 1</dc:title>
</cp:coreProperties>
</file>