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07E-AC5F-4D40-A517-09ADDDE8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9A-5ACA-494D-B8D9-EF1FCF0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E08-BEE9-44B1-8878-E3E62979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7D5-5BA5-4878-89B4-6BE4CBE2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9EC-CEC0-41A0-9B61-3A193BDE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FD7B-63EB-4546-9222-2CFC938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A05-2EC3-4991-804C-D07510C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0A5-F30A-4E32-B365-91BA2FD0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64A2-20E5-4CB8-B287-55AE892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5388-F31A-4B5B-8CB0-BC3134D5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FBF2-784B-4DCE-AF63-5AE524E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684-09D0-4B78-BBED-C980EDC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0FF9-898E-48D1-AE5E-8D0C6F5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43AD-5F06-4C45-B70C-17F11C8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5564-33E7-4243-9528-E84972F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A4CF-9010-4338-9216-6A50C5F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985-21EA-4AB1-88C4-9A8A0370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870-58AF-4448-B05A-F3F0AE93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154-32D8-4AA7-ABB6-7A8B510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057-7DDF-41CD-831A-FC4E4C0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345-A6D0-439E-9F98-6D7CD07D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0B8-A572-4823-B95E-BC15769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59F-A0D2-4F2E-B22F-D2B782B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025-F092-4D42-B913-4A784EBF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C23-31F9-437F-B2B7-E4C6967F3C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12B6-E38D-41F4-B372-271A68F0F79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МБОУ СОШ №2 им В.В.Дагаева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г.о.Лосино-Петровского Московской област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Правописание безударных гласных и парных согласных в корне слова» (повторение в конце год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49568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Урок составила учитель начальных классов МБОУ СОШ №2 им. В.В.Дагае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долинская Ольга Никола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457200"/>
            <a:ext cx="662940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.  Собиратель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280" y="1523880"/>
            <a:ext cx="7315200" cy="4648320"/>
            <a:chOff x="152280" y="1523880"/>
            <a:chExt cx="7315200" cy="4648320"/>
          </a:xfrm>
        </p:grpSpPr>
        <p:sp>
          <p:nvSpPr>
            <p:cNvPr id="291" name=""/>
            <p:cNvSpPr/>
            <p:nvPr/>
          </p:nvSpPr>
          <p:spPr>
            <a:xfrm>
              <a:off x="6095880" y="17524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пож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80" y="17524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2320" y="175248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ха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1600" y="26668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ку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15238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са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280" y="35812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ту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76520" y="411480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48120" y="342900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ки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297180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се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91120" y="274320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ри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388620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цы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480" y="51814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пе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0400" y="495288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1320" y="5257800"/>
              <a:ext cx="990360" cy="914400"/>
            </a:xfrm>
            <a:custGeom>
              <a:avLst/>
              <a:gdLst>
                <a:gd name="textAreaLeft" fmla="*/ 226080 w 990360"/>
                <a:gd name="textAreaRight" fmla="*/ 764280 w 99036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рёж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000" y="4191120"/>
              <a:ext cx="990720" cy="914400"/>
            </a:xfrm>
            <a:custGeom>
              <a:avLst/>
              <a:gdLst>
                <a:gd name="textAreaLeft" fmla="*/ 226080 w 990720"/>
                <a:gd name="textAreaRight" fmla="*/ 764640 w 99072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Arial"/>
                </a:rPr>
                <a:t>ки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160200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яжка и крушка спорят друк с                 друшко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то из них вдоме нужней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ошка и блютце звонко смиютс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утишают друзей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К чяшечьке – блюдечько. В кружечку – ложечьк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ждый по-своему нужен немножечьк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380880"/>
            <a:ext cx="6781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.  Вниматель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752480" y="1309680"/>
            <a:ext cx="609624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2f1311"/>
                </a:solidFill>
                <a:latin typeface="Arial"/>
              </a:rPr>
              <a:t>Вышла Алёну…ка (на)опу..ку леса. (На)брала к…рзину яго… . (На)опу..ке цв..тут белые рома..ки. Рядом б..ж..т  ре..ка. (У)ре..ки растёт камы.. . Квакают л..гу..ки. (На)дер..ве кукует куку..ка. Села Алёну..ка (на)тра..ку отдохнуть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22860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.  Самостоятель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1712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3352680" cy="2819520"/>
          </a:xfrm>
          <a:prstGeom prst="wedgeEllipseCallout">
            <a:avLst>
              <a:gd name="adj1" fmla="val 92851"/>
              <a:gd name="adj2" fmla="val 106194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Спасибо всем за урок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228600"/>
            <a:ext cx="822960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од Повто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2800440"/>
            <a:ext cx="3352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3049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В..сна (у)красила м..л..дые б..рё..ки душ..стыми л..сточ..кам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. Парносоглас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78487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52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оевые действия с целью получения   сведений о  противнике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89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гла с головкой на одном конце, служащая для  прикалы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18277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ебольшое судно для плавания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800" y="23612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школьная оценка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0" y="28180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зкая полоска вскопанной земл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 огороде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6880" y="5638680"/>
            <a:ext cx="350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физические упражнени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выполняемые по утрам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0" y="4493880"/>
            <a:ext cx="45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холодное кушанье из кваса с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зеленью и мелко нарезанны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ясом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1440" y="365616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женская кофточка из лёгк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атерии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228600"/>
            <a:ext cx="2514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ло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1143000"/>
            <a:ext cx="2514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кро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1981080"/>
            <a:ext cx="25146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аря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743200"/>
            <a:ext cx="2514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в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5257800"/>
            <a:ext cx="2514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тме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4419720"/>
            <a:ext cx="2514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ула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6095880"/>
            <a:ext cx="25146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ря…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553080" y="3581280"/>
            <a:ext cx="2590920" cy="609840"/>
            <a:chOff x="6553080" y="3581280"/>
            <a:chExt cx="2590920" cy="609840"/>
          </a:xfrm>
        </p:grpSpPr>
        <p:sp>
          <p:nvSpPr>
            <p:cNvPr id="217" name=""/>
            <p:cNvSpPr/>
            <p:nvPr/>
          </p:nvSpPr>
          <p:spPr>
            <a:xfrm>
              <a:off x="6629400" y="3581280"/>
              <a:ext cx="251460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0" y="3657600"/>
              <a:ext cx="1479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0280" y="3657600"/>
              <a:ext cx="1752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5812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f1311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2f1311"/>
                  </a:solidFill>
                  <a:latin typeface="Arial"/>
                </a:rPr>
                <a:t>блу…ка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09480" y="380880"/>
            <a:ext cx="6477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. Безудар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305160" cy="380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-3240" y="1827720"/>
            <a:ext cx="5121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Формой он похож на мяч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ыл когда-то он горяч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прыгнул со стола на пол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от бабушки ушел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 него румяный б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же эт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7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3160" y="799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2000" y="223884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280" y="30675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389628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920" y="472500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3160" y="5622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8600" y="2209680"/>
            <a:ext cx="1028880" cy="1371600"/>
            <a:chOff x="228600" y="2209680"/>
            <a:chExt cx="1028880" cy="1371600"/>
          </a:xfrm>
        </p:grpSpPr>
        <p:grpSp>
          <p:nvGrpSpPr>
            <p:cNvPr id="232" name=""/>
            <p:cNvGrpSpPr/>
            <p:nvPr/>
          </p:nvGrpSpPr>
          <p:grpSpPr>
            <a:xfrm>
              <a:off x="228600" y="2209680"/>
              <a:ext cx="1028880" cy="1371600"/>
              <a:chOff x="228600" y="2209680"/>
              <a:chExt cx="1028880" cy="1371600"/>
            </a:xfrm>
          </p:grpSpPr>
          <p:sp>
            <p:nvSpPr>
              <p:cNvPr id="233" name=""/>
              <p:cNvSpPr/>
              <p:nvPr/>
            </p:nvSpPr>
            <p:spPr>
              <a:xfrm>
                <a:off x="343080" y="2666880"/>
                <a:ext cx="7999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0800000">
                <a:off x="228600" y="2209680"/>
                <a:ext cx="1028880" cy="457200"/>
              </a:xfrm>
              <a:custGeom>
                <a:avLst/>
                <a:gdLst>
                  <a:gd name="textAreaLeft" fmla="*/ 226080 w 1028880"/>
                  <a:gd name="textAreaRight" fmla="*/ 802800 w 10288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28600" y="2209680"/>
              <a:ext cx="1028880" cy="1371600"/>
              <a:chOff x="228600" y="2209680"/>
              <a:chExt cx="1028880" cy="1371600"/>
            </a:xfrm>
          </p:grpSpPr>
          <p:sp>
            <p:nvSpPr>
              <p:cNvPr id="236" name=""/>
              <p:cNvSpPr/>
              <p:nvPr/>
            </p:nvSpPr>
            <p:spPr>
              <a:xfrm>
                <a:off x="343080" y="2666880"/>
                <a:ext cx="7999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0800000">
                <a:off x="228600" y="2209680"/>
                <a:ext cx="1028880" cy="457200"/>
              </a:xfrm>
              <a:custGeom>
                <a:avLst/>
                <a:gdLst>
                  <a:gd name="textAreaLeft" fmla="*/ 226080 w 1028880"/>
                  <a:gd name="textAreaRight" fmla="*/ 802800 w 10288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 txBox="1"/>
            <p:nvPr/>
          </p:nvSpPr>
          <p:spPr>
            <a:xfrm>
              <a:off x="533520" y="2819520"/>
              <a:ext cx="457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057400" y="228600"/>
            <a:ext cx="1028880" cy="1371600"/>
            <a:chOff x="2057400" y="228600"/>
            <a:chExt cx="1028880" cy="1371600"/>
          </a:xfrm>
        </p:grpSpPr>
        <p:grpSp>
          <p:nvGrpSpPr>
            <p:cNvPr id="240" name=""/>
            <p:cNvGrpSpPr/>
            <p:nvPr/>
          </p:nvGrpSpPr>
          <p:grpSpPr>
            <a:xfrm>
              <a:off x="2057400" y="228600"/>
              <a:ext cx="1028880" cy="1371600"/>
              <a:chOff x="2057400" y="228600"/>
              <a:chExt cx="1028880" cy="1371600"/>
            </a:xfrm>
          </p:grpSpPr>
          <p:sp>
            <p:nvSpPr>
              <p:cNvPr id="241" name=""/>
              <p:cNvSpPr/>
              <p:nvPr/>
            </p:nvSpPr>
            <p:spPr>
              <a:xfrm>
                <a:off x="2171880" y="685800"/>
                <a:ext cx="7999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2057400" y="228240"/>
                <a:ext cx="1028880" cy="457200"/>
              </a:xfrm>
              <a:custGeom>
                <a:avLst/>
                <a:gdLst>
                  <a:gd name="textAreaLeft" fmla="*/ 226080 w 1028880"/>
                  <a:gd name="textAreaRight" fmla="*/ 802800 w 10288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71880" y="685800"/>
                <a:ext cx="7999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0800000">
                <a:off x="2057400" y="228240"/>
                <a:ext cx="1028880" cy="457200"/>
              </a:xfrm>
              <a:custGeom>
                <a:avLst/>
                <a:gdLst>
                  <a:gd name="textAreaLeft" fmla="*/ 226080 w 1028880"/>
                  <a:gd name="textAreaRight" fmla="*/ 802800 w 10288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2438280" y="83808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е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95320" y="304920"/>
            <a:ext cx="1028520" cy="1371600"/>
            <a:chOff x="4495320" y="304920"/>
            <a:chExt cx="1028520" cy="1371600"/>
          </a:xfrm>
        </p:grpSpPr>
        <p:grpSp>
          <p:nvGrpSpPr>
            <p:cNvPr id="247" name=""/>
            <p:cNvGrpSpPr/>
            <p:nvPr/>
          </p:nvGrpSpPr>
          <p:grpSpPr>
            <a:xfrm>
              <a:off x="4495320" y="304920"/>
              <a:ext cx="1028520" cy="1371600"/>
              <a:chOff x="4495320" y="304920"/>
              <a:chExt cx="1028520" cy="1371600"/>
            </a:xfrm>
          </p:grpSpPr>
          <p:sp>
            <p:nvSpPr>
              <p:cNvPr id="248" name=""/>
              <p:cNvSpPr/>
              <p:nvPr/>
            </p:nvSpPr>
            <p:spPr>
              <a:xfrm>
                <a:off x="4609800" y="7621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0800000">
                <a:off x="4495320" y="30456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09800" y="7621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4495320" y="30456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495320" y="304920"/>
              <a:ext cx="1028520" cy="1371600"/>
              <a:chOff x="4495320" y="304920"/>
              <a:chExt cx="1028520" cy="1371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09800" y="7621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0800000">
                <a:off x="4495320" y="30456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09800" y="7621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0800000">
                <a:off x="4495320" y="30456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 txBox="1"/>
            <p:nvPr/>
          </p:nvSpPr>
          <p:spPr>
            <a:xfrm>
              <a:off x="4876920" y="91440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о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4760" y="5105520"/>
            <a:ext cx="1028520" cy="1371600"/>
            <a:chOff x="1904760" y="5105520"/>
            <a:chExt cx="1028520" cy="1371600"/>
          </a:xfrm>
        </p:grpSpPr>
        <p:grpSp>
          <p:nvGrpSpPr>
            <p:cNvPr id="259" name=""/>
            <p:cNvGrpSpPr/>
            <p:nvPr/>
          </p:nvGrpSpPr>
          <p:grpSpPr>
            <a:xfrm>
              <a:off x="1904760" y="5105520"/>
              <a:ext cx="1028520" cy="1371600"/>
              <a:chOff x="1904760" y="5105520"/>
              <a:chExt cx="1028520" cy="1371600"/>
            </a:xfrm>
          </p:grpSpPr>
          <p:sp>
            <p:nvSpPr>
              <p:cNvPr id="260" name=""/>
              <p:cNvSpPr/>
              <p:nvPr/>
            </p:nvSpPr>
            <p:spPr>
              <a:xfrm>
                <a:off x="2019240" y="55627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0800000">
                <a:off x="1904760" y="510552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19240" y="556272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1904760" y="510552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 txBox="1"/>
            <p:nvPr/>
          </p:nvSpPr>
          <p:spPr>
            <a:xfrm>
              <a:off x="2286000" y="571500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и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29040" y="1981080"/>
            <a:ext cx="1028520" cy="1371600"/>
            <a:chOff x="6629040" y="1981080"/>
            <a:chExt cx="1028520" cy="1371600"/>
          </a:xfrm>
        </p:grpSpPr>
        <p:grpSp>
          <p:nvGrpSpPr>
            <p:cNvPr id="266" name=""/>
            <p:cNvGrpSpPr/>
            <p:nvPr/>
          </p:nvGrpSpPr>
          <p:grpSpPr>
            <a:xfrm>
              <a:off x="6629040" y="1981080"/>
              <a:ext cx="1028520" cy="1371600"/>
              <a:chOff x="6629040" y="1981080"/>
              <a:chExt cx="1028520" cy="1371600"/>
            </a:xfrm>
          </p:grpSpPr>
          <p:sp>
            <p:nvSpPr>
              <p:cNvPr id="267" name=""/>
              <p:cNvSpPr/>
              <p:nvPr/>
            </p:nvSpPr>
            <p:spPr>
              <a:xfrm>
                <a:off x="6743520" y="243828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6629040" y="198108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43520" y="2438280"/>
                <a:ext cx="800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6629040" y="1981080"/>
                <a:ext cx="1028520" cy="457200"/>
              </a:xfrm>
              <a:custGeom>
                <a:avLst/>
                <a:gdLst>
                  <a:gd name="textAreaLeft" fmla="*/ 226080 w 1028520"/>
                  <a:gd name="textAreaRight" fmla="*/ 802440 w 1028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 txBox="1"/>
            <p:nvPr/>
          </p:nvSpPr>
          <p:spPr>
            <a:xfrm>
              <a:off x="7010280" y="2590920"/>
              <a:ext cx="247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я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28840" y="5029200"/>
            <a:ext cx="1028520" cy="1371600"/>
            <a:chOff x="5028840" y="5029200"/>
            <a:chExt cx="1028520" cy="1371600"/>
          </a:xfrm>
        </p:grpSpPr>
        <p:sp>
          <p:nvSpPr>
            <p:cNvPr id="273" name=""/>
            <p:cNvSpPr/>
            <p:nvPr/>
          </p:nvSpPr>
          <p:spPr>
            <a:xfrm>
              <a:off x="5143320" y="5486400"/>
              <a:ext cx="800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5028840" y="5029200"/>
              <a:ext cx="1028520" cy="457200"/>
            </a:xfrm>
            <a:custGeom>
              <a:avLst/>
              <a:gdLst>
                <a:gd name="textAreaLeft" fmla="*/ 226080 w 1028520"/>
                <a:gd name="textAreaRight" fmla="*/ 802440 w 1028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43320" y="5486400"/>
              <a:ext cx="800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5028840" y="5029200"/>
              <a:ext cx="1028520" cy="457200"/>
            </a:xfrm>
            <a:custGeom>
              <a:avLst/>
              <a:gdLst>
                <a:gd name="textAreaLeft" fmla="*/ 226080 w 1028520"/>
                <a:gd name="textAreaRight" fmla="*/ 802440 w 1028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23880" y="2140200"/>
            <a:ext cx="491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С…рока, гн..здо, за..ц, б..рёза, л..нейка, к..чели, з..мл..ника, с..ница, н..чевать, с..дит, д..вно, гл..дит, зв..рёк, зв..нок, уд..вл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533520"/>
            <a:ext cx="19810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3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п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2280" y="1523880"/>
            <a:ext cx="2105280" cy="5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язны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6200" y="457200"/>
            <a:ext cx="175248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ик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43200" y="1219320"/>
            <a:ext cx="125748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в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343400" y="1295280"/>
            <a:ext cx="2228760" cy="5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яжёлы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2895480"/>
            <a:ext cx="2143080" cy="5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вь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14600" y="2057400"/>
            <a:ext cx="216216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ова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47920" y="3733920"/>
            <a:ext cx="1876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ждик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5257800"/>
            <a:ext cx="214308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вь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74000" y="2286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имнастика для гла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7:58:37Z</dcterms:created>
  <dc:creator>Подолинская О.Н.</dc:creator>
  <dc:description/>
  <dc:language>en-US</dc:language>
  <cp:lastModifiedBy>1</cp:lastModifiedBy>
  <dcterms:modified xsi:type="dcterms:W3CDTF">2012-03-09T19:14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