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11.jpeg" ContentType="image/jpeg"/>
  <Override PartName="/ppt/media/image6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21.gif" ContentType="image/gi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0.gif" ContentType="image/gi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A517-00BB-4F4D-B66F-70895E21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3CB-4671-49BD-884F-60FD2B09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CA1D0-057D-4A6A-BFA1-D2883A8C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55D2C-5A2B-4E19-B903-16A098F6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18339-B9F3-4CE3-9EB3-9309E3B5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9B0FD-E24E-4837-93D8-DB2D0E71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2F61C-029A-4CC2-A9F3-812B610E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7E583-38E6-4ABF-8799-9E0F702F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B470E-8186-46B6-8667-40669B1C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DE900-FFBC-4FBE-A3A4-178AC07F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D7D52-77A2-40F1-9915-7A1FDC59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CE3F5-D8FC-4E60-8C55-C3B4DA4C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0D6-3E35-451A-A56C-07A5CB53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98CCD-7958-4A14-ABC2-731D097E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C64FC-2AF7-4F45-B5BC-EFA37B1B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30D31-1750-4B6F-BD79-450257EB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0C52E-F6EA-4A4F-A2FE-2000A158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046BE-EF12-48DD-8257-E184E756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02646-D19B-4CFE-83D4-8D4077E5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50314-42D0-4A09-AD6A-94E5BCEA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8CD78-F53A-43E9-9F1E-F9BB5F0D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C8E64-3835-4C75-823E-6E43DEFA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D74F4-6C06-4490-AFC1-57A0F838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F28-8A1D-466B-8060-0EE3911D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ED6A5-94E7-4646-9008-64D500E0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DFCA2-08CC-4481-B1CB-AF7FD86B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B718C-8B1E-4E69-8E1A-B645F089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E37B9-7E96-4FD1-AA5B-AB41B564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1C653-8039-4016-A6F8-C4DB8D2E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B8F56-A39D-432A-B593-9BCDE61C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576F2-95A2-4CB2-9F19-CEF37389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09999-4D31-47CC-BDC8-E7F10D74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5D722-CAD6-48D7-B320-AABE4A98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539B4-17A8-4314-8B3B-8BD763F6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52730-DAF7-46A3-8DD5-C50BAFAF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E6E20-8224-4439-B5D8-D00447A7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8528C-3767-42A1-B6B9-1688B9BC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A1FAC-DDDE-4E1B-BC09-393BCF5A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77255-7A29-4E23-91E3-773DA503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799AE-E5F1-40A9-B034-6E186A9E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EA6E9-5FBD-4A7D-89FD-AD3F4069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2D8F8-91D5-4511-8DD8-3CA17A95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47EBB-FD36-4953-B185-F6B8C7B1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62F3C-6FD1-4F75-9880-4B7D91F2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9A220-032D-42D1-9E39-CF226381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80E74-0F3B-45D9-A450-D32DFB52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44795-F602-43DC-8840-26758523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CAAB2-B526-4088-B604-AAD3FD2E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0D74D-4523-4DA2-9CC4-E90B7D7E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33BFA-5368-4334-B2A8-8C6D13F6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6A861-5BCC-4E0F-8375-1BB236F5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7E114-CF2B-4860-B871-D4564536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2E56D-391C-4112-A789-4ED978D2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4431E-0CFF-4B87-8E8A-4B391FE1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6C543-9EAC-4A28-AA7C-2D9AC1D4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9C910-9B1F-48AD-95E2-CD3FB70D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E2E-7821-4F46-9D04-60AE2E26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79097-AAD8-4212-A841-346DAA8E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70302-1EFC-4714-8D6B-B5C6A9F2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04E49-A41D-4537-B6D8-ADD3D7CF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F029E-B308-42E5-B3C9-FBD4C310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E4F8B-D688-438E-ABEE-15C14A0F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24A2D4-F01D-4BAB-B001-CA6B34A7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17A2DD-1C3C-4E7D-BD7F-1BB880AA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EECAD1-FBBE-42B2-8471-41F23E66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3CADEF-7F37-40B7-8612-017A51B2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B8F344-3076-48FA-B816-B0EE13A3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3D4-DA49-4685-A47A-69D0DFD7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61B5FB-FE3F-47CF-A644-A87183D1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46399C-C5E8-48B5-BBA2-0A9AE265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0F427B-B300-4C00-A404-18BF151A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A067E2-10AF-4B93-B69B-995F89DF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6ADB7B-90D2-44A5-8D58-DD48ECBD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800FA4-E17F-4D7F-B21F-E5A94E6A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16B968-7AD3-490E-B405-85803C2F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BBED9-9F23-4B61-807D-C1E819E5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7CFDA-5883-40F6-BF40-3A60235A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D8050-9750-48D7-B4A9-0321BAC8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851F-14A0-4828-903F-8744AF7C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03A4F-FC2B-4836-A1B8-F88DEA22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44D56-6C8A-4C28-8348-449DFC29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ED9D3-E73C-4643-B494-89767497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6F1EB-3C52-45E9-9C15-6D861B15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D5D23-85D5-40F9-95C4-D7C1F922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AEA91-4FF6-45E2-BEAE-D29B7866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09A3B-4144-4ADE-B140-4ACD8F66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A19A1-DA43-4F90-99EB-E900D631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19F28-8EDD-45FC-95F3-A7D1D28B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77AC7-7BE9-46AA-BFB3-5B69EA76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697-35B6-4005-8CF5-9B62A3C7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C8353-E54D-46B8-BEBD-9EB11850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0B3BA-6FAB-4FB3-85A6-725B3F25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29365-2562-4884-9CEE-759B6251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53E69-9E3F-4041-A64E-068A4C73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39DFD-A996-4B02-881A-273AD926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91757-B43F-432F-B484-5F34F45E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5512F-822E-45D4-80BD-6339FFB7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19699-E443-4876-B142-0AB7D4F0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6F1D5-62C0-480B-BD4E-84DD7212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9104B-0048-4161-B8BD-0C48F910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C70-8C5B-41AE-8851-5657BAFC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E162C-3F1F-4D69-8D2F-827546D0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AC4F0-3A45-48B5-82B0-1289A8E3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77D72-0ADB-472E-9E84-59FA8990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70302-12FE-4C25-A119-017A3C53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A9446-B22E-4708-AA4B-3D08102A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C11B2-678F-43E0-8633-21D0571A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D754A-AE6F-4A04-9112-2AFF5FC1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59797-8567-49EE-BEDC-6EE70792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7A7A7-5AD0-468F-AEDE-593D6029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7EEA2-7ABA-40F4-8C9E-5D2520B8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88F-69D6-4B6B-B93B-4D94BA87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B3FB7-B1FA-49E4-8D20-BAEF440A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8AB3A-66B0-4FFB-A14B-F1076B0D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EDA54-1766-4938-97B4-7560826F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3651D-76A6-42E4-AB4B-288F542A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FE8F6-F155-49E5-93B2-6D3ED40F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D5B2C-5401-4183-9627-9F08A757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EA814-C178-496B-9190-43E0C06D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39580-C3CF-4A4B-BAEB-5BDCA38F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F8629-28A1-4D2A-AC2D-7B7371C2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9537C-81AD-4A68-B618-25A92CF1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D5DA-872E-4B77-B2EF-1134F684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945D9-35F1-434E-8DD5-9FDA5078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8A85A-B17D-41F6-A38C-49E52B31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C3A10-C677-4924-B64F-944B48CC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07F37-77C6-4999-9096-5CD432C6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36792-2C05-4C72-A51E-A0EFC207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C484C-B2E0-4573-A5DC-91CEFD8B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37D18-CBB9-4306-A622-87845320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65601-9D68-4CF2-B525-94350005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7BD8D-043B-4E66-BF28-BDD51652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68BF6-122F-4553-B0D1-D93A325C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7B5-75B5-4759-A48C-486FE69B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560D5-0871-4516-95BA-E990EC04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8E49F-00CA-4368-ADBD-16347DDB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4ED2F-2E5A-4ACC-872B-FEB64680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648D3-1049-4AF1-9BBE-D98F8300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A0003-0FC7-4AC4-835C-004CB23D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A553D-DFC7-4E6E-8FDA-B6CE1E85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DB30B-D77F-4980-A4A5-4D4F3D77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A81FB-F3D6-4CC9-9EFE-0ABB6CC6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5C2F7-DB40-41EA-AB8A-73BD9E02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1F0EB-36F2-4D91-8009-44DF19BB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0DA0-42EF-48A7-A3B9-5D775CB0B6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9051-55A0-4879-B7DB-CA1DF584DD5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2AE4-D95F-4B11-92A9-C265B6ED642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988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02BA-31EF-40C7-9317-5FC22C2061E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4542-7D9B-4B05-B1FD-3E76B220DB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39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5434-F16D-4F75-AA2B-92BCC05E56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8DDA-2ADA-4E6A-9730-0E1C43AB4CE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06E6-7D69-4D53-AB98-C5A635AD4E7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8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2ABF-106D-4766-A835-28D56137BC3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28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3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3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3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38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4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47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B5C7-22CB-4832-BD30-7E4C3E8141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9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CA14-7002-48D6-8E79-B83D4B9897F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646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4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5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9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0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9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0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1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2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3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4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5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9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0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C6B1-9F03-49D7-8441-FD8034F132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WordArt 5"/>
          <p:cNvSpPr txBox="1"/>
          <p:nvPr/>
        </p:nvSpPr>
        <p:spPr>
          <a:xfrm>
            <a:off x="2556000" y="2276640"/>
            <a:ext cx="4465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адач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 пять методов е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еш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33" name="Rectangle 8"/>
          <p:cNvSpPr/>
          <p:nvPr/>
        </p:nvSpPr>
        <p:spPr>
          <a:xfrm>
            <a:off x="3924360" y="297720"/>
            <a:ext cx="45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АОУ ДПО СарИПКиПР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ІІІ региональный конкурс творческих работ по математик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Математика в моей  жизни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оминация «Бенефис одной задачи»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Rectangle 9"/>
          <p:cNvSpPr/>
          <p:nvPr/>
        </p:nvSpPr>
        <p:spPr>
          <a:xfrm>
            <a:off x="250920" y="4724280"/>
            <a:ext cx="6048360" cy="18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e0074"/>
                </a:solidFill>
                <a:latin typeface="Comic Sans MS"/>
              </a:rPr>
              <a:t>Выполнила: Шатилова Виктор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e0074"/>
                </a:solidFill>
                <a:latin typeface="Comic Sans MS"/>
              </a:rPr>
              <a:t>Ученица 11 класс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e0074"/>
                </a:solidFill>
                <a:latin typeface="Comic Sans MS"/>
              </a:rPr>
              <a:t>МОУ «СОШ р.п. Красный Текстильщик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e0074"/>
                </a:solidFill>
                <a:latin typeface="Comic Sans MS"/>
              </a:rPr>
              <a:t>Саратовского района Саратовской области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e0074"/>
                </a:solidFill>
                <a:latin typeface="Comic Sans MS"/>
              </a:rPr>
              <a:t>Научный руководитель: Свириденко О.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Text Box 10"/>
          <p:cNvSpPr/>
          <p:nvPr/>
        </p:nvSpPr>
        <p:spPr>
          <a:xfrm>
            <a:off x="4427640" y="62866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011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WordArt 15"/>
          <p:cNvSpPr txBox="1"/>
          <p:nvPr/>
        </p:nvSpPr>
        <p:spPr>
          <a:xfrm>
            <a:off x="1692360" y="836640"/>
            <a:ext cx="59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еометрический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соб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8" name="Text Box 16"/>
          <p:cNvSpPr/>
          <p:nvPr/>
        </p:nvSpPr>
        <p:spPr>
          <a:xfrm>
            <a:off x="2627280" y="2565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1.С помощью площад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Text Box 17"/>
          <p:cNvSpPr/>
          <p:nvPr/>
        </p:nvSpPr>
        <p:spPr>
          <a:xfrm>
            <a:off x="1835280" y="33577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2. С помощью осевой симметри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Text Box 21"/>
          <p:cNvSpPr/>
          <p:nvPr/>
        </p:nvSpPr>
        <p:spPr>
          <a:xfrm>
            <a:off x="111600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3. По теореме о средней линии треугольн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Text Box 23"/>
          <p:cNvSpPr/>
          <p:nvPr/>
        </p:nvSpPr>
        <p:spPr>
          <a:xfrm>
            <a:off x="2556000" y="465300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4. По теореме Менел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76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80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28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3419280" y="1557360"/>
            <a:ext cx="511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АО=О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=2, ВЕ=4 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ерпендикулярна ВЕ, то площадь каждого из треугольников ВАЕ и В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 равна 4. Площадь треугольника С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 так же равна 4, так как медиана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делит треугольник ВСЕ на два равновеликих треугольник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Значит, площадь треугольника АВС равна 12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 скольку 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медиана треугольника АВС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о площадь треугольника АВ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равна 6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тается применить формулу площади треугольника. Получим: АО*ВО=6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о АО=2, значит, ВО=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тороны треугольника АВС найдем по теореме Пифагор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WordArt 6"/>
          <p:cNvSpPr txBox="1"/>
          <p:nvPr/>
        </p:nvSpPr>
        <p:spPr>
          <a:xfrm>
            <a:off x="324000" y="333360"/>
            <a:ext cx="33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 пятый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4" name="WordArt 7"/>
          <p:cNvSpPr txBox="1"/>
          <p:nvPr/>
        </p:nvSpPr>
        <p:spPr>
          <a:xfrm>
            <a:off x="3851280" y="907920"/>
            <a:ext cx="3816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 помощью площад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Object 8"/>
              <p:cNvSpPr txBox="1"/>
              <p:nvPr/>
            </p:nvSpPr>
            <p:spPr>
              <a:xfrm>
                <a:off x="4572000" y="5516640"/>
                <a:ext cx="3311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16" name="Picture 11" descr="ва"/>
          <p:cNvPicPr/>
          <p:nvPr/>
        </p:nvPicPr>
        <p:blipFill>
          <a:blip r:embed="rId1"/>
          <a:stretch/>
        </p:blipFill>
        <p:spPr>
          <a:xfrm>
            <a:off x="324000" y="1916280"/>
            <a:ext cx="3311280" cy="3166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WordArt 4"/>
          <p:cNvSpPr txBox="1"/>
          <p:nvPr/>
        </p:nvSpPr>
        <p:spPr>
          <a:xfrm>
            <a:off x="250920" y="260280"/>
            <a:ext cx="38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 шестой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8" name="WordArt 5"/>
          <p:cNvSpPr txBox="1"/>
          <p:nvPr/>
        </p:nvSpPr>
        <p:spPr>
          <a:xfrm>
            <a:off x="3132000" y="981000"/>
            <a:ext cx="4675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 помощью осевой симмет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428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очки А и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имметричны относительно биссектрисы ВЕ. Построим  еще точку, симметричную точке С относительно прямой ВЕ. Для этого продолжим отрезок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Е до пересечения с прямой АВ и обозначим через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очку пересечения прямых АВ и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Е. Получим равнобедренный треугольник ВС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, из равенства треугольника ВЕ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и ВЕС следует, что В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=ВС. Продолжим еще биссектрису ВЕ до пересечения с С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в точке Н. Тогда ВН - биссектриса треугольника ВС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, а следовательно, и его медиана. Таким образом, Е – точка пересечения медиан треугольника ВС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 поэтому ЕН=0,5ВЕ=2, а ВН=6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редняя линия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треугольника ВС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елит медиану ВН пополам, поэтому ВО=3. Далее поступаем так же, как при решении задачи другими способами и получаем тот же отве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Object 7"/>
              <p:cNvSpPr txBox="1"/>
              <p:nvPr/>
            </p:nvSpPr>
            <p:spPr>
              <a:xfrm>
                <a:off x="3059280" y="5950080"/>
                <a:ext cx="44640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21" name="Picture 10" descr="ва"/>
          <p:cNvPicPr/>
          <p:nvPr/>
        </p:nvPicPr>
        <p:blipFill>
          <a:blip r:embed="rId1"/>
          <a:stretch/>
        </p:blipFill>
        <p:spPr>
          <a:xfrm>
            <a:off x="4643280" y="1700280"/>
            <a:ext cx="3456000" cy="3305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/>
          </p:nvPr>
        </p:nvSpPr>
        <p:spPr>
          <a:xfrm>
            <a:off x="4211640" y="1483920"/>
            <a:ext cx="43178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дем среднюю линию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 треугольника ВСЕ. Так как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 параллельна ВЕ и АО=О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то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Е – средняя лин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реугольника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K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ледовательно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ВЕ=4, то ОЕ=1 и ВО=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з приведенного решения видно, что отношение ВО/ОЕ не зависит от отрезков ВЕ 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 Найти это отношение можно также, используя лишь тот факт, что 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медиана треугольника АВС и АО=ОВ, причем без всяких вспомогательных построени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WordArt 4"/>
          <p:cNvSpPr txBox="1"/>
          <p:nvPr/>
        </p:nvSpPr>
        <p:spPr>
          <a:xfrm>
            <a:off x="468360" y="260280"/>
            <a:ext cx="395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 седьмой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4" name="WordArt 5"/>
          <p:cNvSpPr txBox="1"/>
          <p:nvPr/>
        </p:nvSpPr>
        <p:spPr>
          <a:xfrm>
            <a:off x="1763640" y="981000"/>
            <a:ext cx="592452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 теореме о средней линии треуголь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2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7"/>
              <p:cNvSpPr txBox="1"/>
              <p:nvPr/>
            </p:nvSpPr>
            <p:spPr>
              <a:xfrm>
                <a:off x="6156360" y="2781360"/>
                <a:ext cx="2514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ВЕ</m:t>
                    </m:r>
                    <m:r>
                      <m:t xml:space="preserve">,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О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В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11"/>
              <p:cNvSpPr txBox="1"/>
              <p:nvPr/>
            </p:nvSpPr>
            <p:spPr>
              <a:xfrm>
                <a:off x="3780000" y="5950080"/>
                <a:ext cx="273672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28" name="Picture 14" descr="сканирование0001"/>
          <p:cNvPicPr/>
          <p:nvPr/>
        </p:nvPicPr>
        <p:blipFill>
          <a:blip r:embed="rId1"/>
          <a:stretch/>
        </p:blipFill>
        <p:spPr>
          <a:xfrm>
            <a:off x="324000" y="2349360"/>
            <a:ext cx="4103640" cy="2845080"/>
          </a:xfrm>
          <a:prstGeom prst="rect">
            <a:avLst/>
          </a:prstGeom>
          <a:ln w="9360">
            <a:solidFill>
              <a:srgbClr val="ff3399"/>
            </a:solidFill>
            <a:miter/>
          </a:ln>
        </p:spPr>
      </p:pic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екущая ВЕ пересекает стороны треугольника АС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точках Е и О. По теореме Менелая  из треугольника АС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имеем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 так как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менив теперь теорему Менелая к треугольнику ВСЕ и секущей 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получим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о АЕ/АС=1/3 и С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=DB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ледовательно, ВО/ОЕ=3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WordArt 4"/>
          <p:cNvSpPr txBox="1"/>
          <p:nvPr/>
        </p:nvSpPr>
        <p:spPr>
          <a:xfrm>
            <a:off x="395280" y="260280"/>
            <a:ext cx="403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 восьмой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1" name="WordArt 5"/>
          <p:cNvSpPr txBox="1"/>
          <p:nvPr/>
        </p:nvSpPr>
        <p:spPr>
          <a:xfrm>
            <a:off x="3995640" y="836640"/>
            <a:ext cx="367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 теореме Мене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32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3" name="Object 6"/>
              <p:cNvSpPr txBox="1"/>
              <p:nvPr/>
            </p:nvSpPr>
            <p:spPr>
              <a:xfrm>
                <a:off x="5076720" y="2421000"/>
                <a:ext cx="1441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2050920" y="2924280"/>
                <a:ext cx="2286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В</m:t>
                    </m:r>
                    <m:r>
                      <m:rPr>
                        <m:lit/>
                        <m:nor/>
                      </m:rPr>
                      <m:t xml:space="preserve">В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А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Е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6" name="Object 10"/>
              <p:cNvSpPr txBox="1"/>
              <p:nvPr/>
            </p:nvSpPr>
            <p:spPr>
              <a:xfrm>
                <a:off x="2050920" y="3789360"/>
                <a:ext cx="1143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ОЕ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Е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С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37" name="Picture 12" descr="сканирование0001"/>
          <p:cNvPicPr/>
          <p:nvPr/>
        </p:nvPicPr>
        <p:blipFill>
          <a:blip r:embed="rId1"/>
          <a:stretch/>
        </p:blipFill>
        <p:spPr>
          <a:xfrm>
            <a:off x="4427640" y="3933720"/>
            <a:ext cx="3529080" cy="2446560"/>
          </a:xfrm>
          <a:prstGeom prst="rect">
            <a:avLst/>
          </a:prstGeom>
          <a:ln w="9360">
            <a:solidFill>
              <a:srgbClr val="ff3399"/>
            </a:solidFill>
            <a:miter/>
          </a:ln>
        </p:spPr>
      </p:pic>
      <p:sp>
        <p:nvSpPr>
          <p:cNvPr id="1138" name="Rectangle 1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Object 13"/>
              <p:cNvSpPr txBox="1"/>
              <p:nvPr/>
            </p:nvSpPr>
            <p:spPr>
              <a:xfrm>
                <a:off x="1332000" y="6021360"/>
                <a:ext cx="38894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WordArt 6"/>
          <p:cNvSpPr txBox="1"/>
          <p:nvPr/>
        </p:nvSpPr>
        <p:spPr>
          <a:xfrm>
            <a:off x="1116000" y="765000"/>
            <a:ext cx="352908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вод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1" name="Text Box 8"/>
          <p:cNvSpPr/>
          <p:nvPr/>
        </p:nvSpPr>
        <p:spPr>
          <a:xfrm>
            <a:off x="611280" y="1844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ходе работы мы рассмотрели пять методов решения конкретной задач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Rectangle 9"/>
          <p:cNvSpPr/>
          <p:nvPr/>
        </p:nvSpPr>
        <p:spPr>
          <a:xfrm>
            <a:off x="2916360" y="2205000"/>
            <a:ext cx="2808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ординатны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екторный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ригонометрически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еометрически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Text Box 10"/>
          <p:cNvSpPr/>
          <p:nvPr/>
        </p:nvSpPr>
        <p:spPr>
          <a:xfrm>
            <a:off x="539640" y="3500280"/>
            <a:ext cx="777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 правило, основными методами решения планиметрических задач на вычисления являются алгебраические и тригонометрические методы. Но как видно из работы, геометрические методы оказались проще и изящнее, хотя к ним можно прийти только догадавшись провести некоторые вспомогательные линии. Таким образом, важно владеть геометрическими приемами, которые позволяют найти наиболее простое и красивое решение с помощью дополнительных построений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4" name="Picture 6" descr="цветы"/>
          <p:cNvPicPr/>
          <p:nvPr/>
        </p:nvPicPr>
        <p:blipFill>
          <a:blip r:embed="rId2"/>
          <a:stretch/>
        </p:blipFill>
        <p:spPr>
          <a:xfrm rot="10800000">
            <a:off x="324000" y="0"/>
            <a:ext cx="8496000" cy="79200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6" descr="цветы"/>
          <p:cNvPicPr/>
          <p:nvPr/>
        </p:nvPicPr>
        <p:blipFill>
          <a:blip r:embed="rId3"/>
          <a:stretch/>
        </p:blipFill>
        <p:spPr>
          <a:xfrm>
            <a:off x="324000" y="6237360"/>
            <a:ext cx="8496000" cy="6206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Picture 10" descr="11knop"/>
          <p:cNvPicPr/>
          <p:nvPr/>
        </p:nvPicPr>
        <p:blipFill>
          <a:blip r:embed="rId1"/>
          <a:stretch/>
        </p:blipFill>
        <p:spPr>
          <a:xfrm rot="21109800">
            <a:off x="6587640" y="0"/>
            <a:ext cx="2232000" cy="1724040"/>
          </a:xfrm>
          <a:prstGeom prst="rect">
            <a:avLst/>
          </a:prstGeom>
          <a:ln w="0">
            <a:noFill/>
          </a:ln>
        </p:spPr>
      </p:pic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Литератур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учно-теоретический и методический журнал МО РФ «Математика в школе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№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1994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666699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WordArt 4"/>
          <p:cNvSpPr txBox="1"/>
          <p:nvPr/>
        </p:nvSpPr>
        <p:spPr>
          <a:xfrm rot="21312000">
            <a:off x="395280" y="260280"/>
            <a:ext cx="367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ведение</a:t>
            </a:r>
            <a:endParaRPr b="1" i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7" name="Rectangle 5"/>
          <p:cNvSpPr/>
          <p:nvPr/>
        </p:nvSpPr>
        <p:spPr>
          <a:xfrm>
            <a:off x="3995640" y="1197000"/>
            <a:ext cx="4464000" cy="2016000"/>
          </a:xfrm>
          <a:prstGeom prst="rect">
            <a:avLst/>
          </a:prstGeom>
          <a:solidFill>
            <a:srgbClr val="ff9900">
              <a:alpha val="8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074"/>
                </a:solidFill>
                <a:latin typeface="Comic Sans MS"/>
              </a:rPr>
              <a:t>Для успешного изучения геометр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074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1e0074"/>
                </a:solidFill>
                <a:latin typeface="Comic Sans MS"/>
              </a:rPr>
              <a:t>необходимо зна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074"/>
                </a:solidFill>
                <a:latin typeface="Comic Sans MS"/>
              </a:rPr>
              <a:t>не только основные формулы 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074"/>
                </a:solidFill>
                <a:latin typeface="Comic Sans MS"/>
              </a:rPr>
              <a:t>теоремы, но и владеть различным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0074"/>
                </a:solidFill>
                <a:latin typeface="Comic Sans MS"/>
              </a:rPr>
              <a:t>методами решения задач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/>
          </p:nvPr>
        </p:nvSpPr>
        <p:spPr>
          <a:xfrm>
            <a:off x="468360" y="342864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ять основных методов, применяемых в решении задач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9"/>
          <p:cNvSpPr/>
          <p:nvPr/>
        </p:nvSpPr>
        <p:spPr>
          <a:xfrm>
            <a:off x="4356000" y="4005360"/>
            <a:ext cx="43927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ординат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кторны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алитическ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игонометрическ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еометрическ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AutoShape 23"/>
          <p:cNvSpPr/>
          <p:nvPr/>
        </p:nvSpPr>
        <p:spPr>
          <a:xfrm rot="20675400">
            <a:off x="1042920" y="4076640"/>
            <a:ext cx="2592360" cy="2087640"/>
          </a:xfrm>
          <a:custGeom>
            <a:avLst/>
            <a:gdLst>
              <a:gd name="textAreaLeft" fmla="*/ 591840 w 2592360"/>
              <a:gd name="textAreaRight" fmla="*/ 2000520 w 2592360"/>
              <a:gd name="textAreaTop" fmla="*/ 476640 h 2087640"/>
              <a:gd name="textAreaBottom" fmla="*/ 1611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WordArt 4"/>
          <p:cNvSpPr txBox="1"/>
          <p:nvPr/>
        </p:nvSpPr>
        <p:spPr>
          <a:xfrm>
            <a:off x="2484360" y="404640"/>
            <a:ext cx="4175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Гипотез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1042" name="WordArt 5"/>
          <p:cNvSpPr txBox="1"/>
          <p:nvPr/>
        </p:nvSpPr>
        <p:spPr>
          <a:xfrm>
            <a:off x="1979640" y="2276640"/>
            <a:ext cx="532908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озможно ли решить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нкретную задачу всеми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казанными методами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43" name="Picture 6" descr="baby18"/>
          <p:cNvPicPr/>
          <p:nvPr/>
        </p:nvPicPr>
        <p:blipFill>
          <a:blip r:embed="rId7"/>
          <a:stretch/>
        </p:blipFill>
        <p:spPr>
          <a:xfrm>
            <a:off x="324000" y="4221000"/>
            <a:ext cx="1535040" cy="2232360"/>
          </a:xfrm>
          <a:prstGeom prst="rect">
            <a:avLst/>
          </a:prstGeom>
          <a:ln w="0">
            <a:noFill/>
          </a:ln>
        </p:spPr>
      </p:pic>
      <p:sp>
        <p:nvSpPr>
          <p:cNvPr id="1044" name="WordArt 10"/>
          <p:cNvSpPr txBox="1"/>
          <p:nvPr/>
        </p:nvSpPr>
        <p:spPr>
          <a:xfrm>
            <a:off x="8172360" y="3357720"/>
            <a:ext cx="57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5" name="WordArt 11"/>
          <p:cNvSpPr txBox="1"/>
          <p:nvPr/>
        </p:nvSpPr>
        <p:spPr>
          <a:xfrm>
            <a:off x="7740720" y="414972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6" name="WordArt 12"/>
          <p:cNvSpPr txBox="1"/>
          <p:nvPr/>
        </p:nvSpPr>
        <p:spPr>
          <a:xfrm>
            <a:off x="7164360" y="4724280"/>
            <a:ext cx="358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l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10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0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10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WordArt 4"/>
          <p:cNvSpPr txBox="1"/>
          <p:nvPr/>
        </p:nvSpPr>
        <p:spPr>
          <a:xfrm>
            <a:off x="900000" y="40464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Цель работы: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/>
          </p:nvPr>
        </p:nvSpPr>
        <p:spPr>
          <a:xfrm>
            <a:off x="826560" y="3857760"/>
            <a:ext cx="769644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дачи работ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робовать разные методы на одной задаче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явить  отличительные черты, сильные и слабые стороны разных метод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9" name="Picture 10" descr="Рисунок92"/>
          <p:cNvPicPr/>
          <p:nvPr/>
        </p:nvPicPr>
        <p:blipFill>
          <a:blip r:embed="rId1"/>
          <a:stretch/>
        </p:blipFill>
        <p:spPr>
          <a:xfrm>
            <a:off x="1332000" y="1628640"/>
            <a:ext cx="1498680" cy="1656000"/>
          </a:xfrm>
          <a:prstGeom prst="rect">
            <a:avLst/>
          </a:prstGeom>
          <a:ln w="0">
            <a:noFill/>
          </a:ln>
        </p:spPr>
      </p:pic>
      <p:sp>
        <p:nvSpPr>
          <p:cNvPr id="1050" name="WordArt 9"/>
          <p:cNvSpPr txBox="1"/>
          <p:nvPr/>
        </p:nvSpPr>
        <p:spPr>
          <a:xfrm>
            <a:off x="2714760" y="1143000"/>
            <a:ext cx="550044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   </a:t>
            </a: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учиться  распознаванию и использованию 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ематических методов  при 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смотрении   различных решени  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     </a:t>
            </a: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ной и той же   задачи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7483320" cy="19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треугольнике АВС биссектриса ВЕ и медиан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пендикулярны  и имеют одинаковую длину, равную 4. Найти стороны треугольника АВ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6"/>
          <p:cNvSpPr/>
          <p:nvPr/>
        </p:nvSpPr>
        <p:spPr>
          <a:xfrm>
            <a:off x="4284720" y="3141720"/>
            <a:ext cx="4060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тупая к решению задачи, сразу замечаем, что если О – точка пересечения биссектрисы ВЕ и медиа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прямоугольные треугольни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равны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ому АО=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и АВ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ак что ВС=2А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3" name="Picture 8" descr="с"/>
          <p:cNvPicPr/>
          <p:nvPr/>
        </p:nvPicPr>
        <p:blipFill>
          <a:blip r:embed="rId2"/>
          <a:stretch/>
        </p:blipFill>
        <p:spPr>
          <a:xfrm>
            <a:off x="395280" y="3213000"/>
            <a:ext cx="3960720" cy="2884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cover dir="l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2700000" y="1988640"/>
            <a:ext cx="582300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мем точку О за начало прямоугольной системы координат, оси Ох придадим направление вектора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D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 будем считать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диницей масштаб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данной системе точк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, D, B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меют координаты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 (-2;0)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(2;0) и В (0;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WordArt 5"/>
          <p:cNvSpPr txBox="1"/>
          <p:nvPr/>
        </p:nvSpPr>
        <p:spPr>
          <a:xfrm>
            <a:off x="324000" y="260280"/>
            <a:ext cx="3456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  первый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6" name="WordArt 6"/>
          <p:cNvSpPr txBox="1"/>
          <p:nvPr/>
        </p:nvSpPr>
        <p:spPr>
          <a:xfrm>
            <a:off x="4140360" y="692280"/>
            <a:ext cx="324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ординат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5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Object 14"/>
              <p:cNvSpPr txBox="1"/>
              <p:nvPr/>
            </p:nvSpPr>
            <p:spPr>
              <a:xfrm>
                <a:off x="5076720" y="2492280"/>
                <a:ext cx="524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e>
                        </m:acc>
                      </m:e>
                    </m:d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1" name="Rectangle 16"/>
          <p:cNvSpPr/>
          <p:nvPr/>
        </p:nvSpPr>
        <p:spPr>
          <a:xfrm>
            <a:off x="755640" y="3284640"/>
            <a:ext cx="769608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того чтобы определить длины сторон треугольника АВС, надо найт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исло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ыразим через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координаты точек С и Е. Так как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–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ередина отрезка ВС, то С (4;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). Для точки Е имеем координаты (0;у). Вторую координату точки Е найдем, пользуясь, тем что точка Е принадлежит прямой АС. Уравнение прямой АС имеет вид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ординаты точки Е (0;у) удовлетворяют этому уравнению. Подставив в него 0 вместо х, получим:           Следовательно,           По условию задачи ВЕ=4, значит,        , ил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=3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так, А (-2;0), В (0;3), С (4;-3). Зная координаты вершин         треугольника АВС, найдем его стороны: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Object 18"/>
              <p:cNvSpPr txBox="1"/>
              <p:nvPr/>
            </p:nvSpPr>
            <p:spPr>
              <a:xfrm>
                <a:off x="7451640" y="4149720"/>
                <a:ext cx="1008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4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Object 20"/>
              <p:cNvSpPr txBox="1"/>
              <p:nvPr/>
            </p:nvSpPr>
            <p:spPr>
              <a:xfrm>
                <a:off x="3780000" y="4797360"/>
                <a:ext cx="581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6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Object 22"/>
              <p:cNvSpPr txBox="1"/>
              <p:nvPr/>
            </p:nvSpPr>
            <p:spPr>
              <a:xfrm>
                <a:off x="6012000" y="4797360"/>
                <a:ext cx="6094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8" name="Rectangle 2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9" name="Object 24"/>
              <p:cNvSpPr txBox="1"/>
              <p:nvPr/>
            </p:nvSpPr>
            <p:spPr>
              <a:xfrm>
                <a:off x="3203640" y="5013360"/>
                <a:ext cx="485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0" name="Rectangle 27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1" name="Object 26"/>
              <p:cNvSpPr txBox="1"/>
              <p:nvPr/>
            </p:nvSpPr>
            <p:spPr>
              <a:xfrm>
                <a:off x="4572000" y="6165720"/>
                <a:ext cx="3166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072" name="Picture 28" descr="с"/>
          <p:cNvPicPr/>
          <p:nvPr/>
        </p:nvPicPr>
        <p:blipFill>
          <a:blip r:embed="rId1"/>
          <a:stretch/>
        </p:blipFill>
        <p:spPr>
          <a:xfrm>
            <a:off x="611280" y="1484280"/>
            <a:ext cx="2305080" cy="1677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/>
          </p:nvPr>
        </p:nvSpPr>
        <p:spPr>
          <a:xfrm>
            <a:off x="684000" y="1844640"/>
            <a:ext cx="7623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екторы ВЕ и АД выразим через а и с.Так как ВС=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то СЕ=2АЕ( по свойству биссектрисы треугольника). Пользуясь формулой деления отрезка в данном отношении, получим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гласно вычитанию векторов, имеем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ины векторов ВЕ и 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звестны. Пуст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ычислив  скалярные квадраты вектором ВЕ и 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учим уравнени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йдем теперь через сторону АС, пользуясь векторной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ормулировкой теоремы косинусов: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дставим найденные выше значения и получим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WordArt 10"/>
          <p:cNvSpPr txBox="1"/>
          <p:nvPr/>
        </p:nvSpPr>
        <p:spPr>
          <a:xfrm>
            <a:off x="395280" y="333360"/>
            <a:ext cx="345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 второй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5" name="WordArt 11"/>
          <p:cNvSpPr txBox="1"/>
          <p:nvPr/>
        </p:nvSpPr>
        <p:spPr>
          <a:xfrm>
            <a:off x="4427640" y="765000"/>
            <a:ext cx="28810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ектор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76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7" name="Object 12"/>
              <p:cNvSpPr txBox="1"/>
              <p:nvPr/>
            </p:nvSpPr>
            <p:spPr>
              <a:xfrm>
                <a:off x="1476360" y="1341360"/>
                <a:ext cx="15843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  <m:r>
                          <m:t xml:space="preserve">,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78" name="Rectangle 1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Object 14"/>
              <p:cNvSpPr txBox="1"/>
              <p:nvPr/>
            </p:nvSpPr>
            <p:spPr>
              <a:xfrm>
                <a:off x="5076720" y="2276640"/>
                <a:ext cx="10796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Е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0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1" name="Object 16"/>
              <p:cNvSpPr txBox="1"/>
              <p:nvPr/>
            </p:nvSpPr>
            <p:spPr>
              <a:xfrm>
                <a:off x="5003640" y="2637000"/>
                <a:ext cx="11527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D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2" name="Rectangle 1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3" name="Object 18"/>
              <p:cNvSpPr txBox="1"/>
              <p:nvPr/>
            </p:nvSpPr>
            <p:spPr>
              <a:xfrm>
                <a:off x="5364000" y="3213000"/>
                <a:ext cx="15130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гда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4" name="Rectangle 21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5" name="Object 20"/>
              <p:cNvSpPr txBox="1"/>
              <p:nvPr/>
            </p:nvSpPr>
            <p:spPr>
              <a:xfrm>
                <a:off x="4859280" y="3860640"/>
                <a:ext cx="13669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6" name="Rectangle 25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7" name="Object 24"/>
              <p:cNvSpPr txBox="1"/>
              <p:nvPr/>
            </p:nvSpPr>
            <p:spPr>
              <a:xfrm>
                <a:off x="4716360" y="4581360"/>
                <a:ext cx="27370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чит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,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8" name="Rectangle 2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9" name="Object 26"/>
              <p:cNvSpPr txBox="1"/>
              <p:nvPr/>
            </p:nvSpPr>
            <p:spPr>
              <a:xfrm>
                <a:off x="5867280" y="5589720"/>
                <a:ext cx="1209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90" name="Rectangle 2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1" name="Object 28"/>
              <p:cNvSpPr txBox="1"/>
              <p:nvPr/>
            </p:nvSpPr>
            <p:spPr>
              <a:xfrm>
                <a:off x="6659640" y="5877000"/>
                <a:ext cx="685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092" name="Picture 30" descr="Копия с"/>
          <p:cNvPicPr/>
          <p:nvPr/>
        </p:nvPicPr>
        <p:blipFill>
          <a:blip r:embed="rId1"/>
          <a:stretch/>
        </p:blipFill>
        <p:spPr>
          <a:xfrm>
            <a:off x="468360" y="3860640"/>
            <a:ext cx="1944720" cy="141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диану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 биссектрису  ВЕ треугольника АВС выразим через длины 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с сторон треугольника по формулам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усть АВ=х, АЕ=у, тогда ВС=2х и СЕ=2у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учим систему уравнений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WordArt 4"/>
          <p:cNvSpPr txBox="1"/>
          <p:nvPr/>
        </p:nvSpPr>
        <p:spPr>
          <a:xfrm>
            <a:off x="395280" y="33336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 третий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5" name="WordArt 5"/>
          <p:cNvSpPr txBox="1"/>
          <p:nvPr/>
        </p:nvSpPr>
        <p:spPr>
          <a:xfrm>
            <a:off x="4284720" y="620640"/>
            <a:ext cx="3038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налитиче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96" name="Rectangle 7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7" name="Object 6"/>
              <p:cNvSpPr txBox="1"/>
              <p:nvPr/>
            </p:nvSpPr>
            <p:spPr>
              <a:xfrm>
                <a:off x="5219640" y="2060640"/>
                <a:ext cx="187164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</m:e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С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А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8" name="Rectangle 9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9" name="Object 8"/>
              <p:cNvSpPr txBox="1"/>
              <p:nvPr/>
            </p:nvSpPr>
            <p:spPr>
              <a:xfrm>
                <a:off x="1908000" y="4797360"/>
                <a:ext cx="540072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сюда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Значит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0" name="Picture 10" descr="сканирование0001"/>
          <p:cNvPicPr/>
          <p:nvPr/>
        </p:nvPicPr>
        <p:blipFill>
          <a:blip r:embed="rId1"/>
          <a:stretch/>
        </p:blipFill>
        <p:spPr>
          <a:xfrm>
            <a:off x="5292720" y="3429000"/>
            <a:ext cx="3240000" cy="22464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WordArt 4"/>
          <p:cNvSpPr txBox="1"/>
          <p:nvPr/>
        </p:nvSpPr>
        <p:spPr>
          <a:xfrm>
            <a:off x="395280" y="333360"/>
            <a:ext cx="3960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 четвертый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2" name="WordArt 5"/>
          <p:cNvSpPr txBox="1"/>
          <p:nvPr/>
        </p:nvSpPr>
        <p:spPr>
          <a:xfrm>
            <a:off x="3780000" y="981000"/>
            <a:ext cx="381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Тригонометриче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6910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означим АВ=х, угол АВС=2α. По теореме косинусов из треугольников АВЕ и ВСЕ находим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ывая, что СЕ=2АЕ или СЕ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=4АЕ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лучаем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 cos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3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 cos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α=ВО, значит, ВО=3 и ОЕ=1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тается, пользуясь теоремой Пифагора, вычислить стороны треугольника АВС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Object 9"/>
              <p:cNvSpPr txBox="1"/>
              <p:nvPr/>
            </p:nvSpPr>
            <p:spPr>
              <a:xfrm>
                <a:off x="5435640" y="2205000"/>
                <a:ext cx="1873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Object 14"/>
              <p:cNvSpPr txBox="1"/>
              <p:nvPr/>
            </p:nvSpPr>
            <p:spPr>
              <a:xfrm>
                <a:off x="826920" y="4653000"/>
                <a:ext cx="3889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06" name="Picture 17" descr="сканирование0001"/>
          <p:cNvPicPr/>
          <p:nvPr/>
        </p:nvPicPr>
        <p:blipFill>
          <a:blip r:embed="rId1"/>
          <a:stretch/>
        </p:blipFill>
        <p:spPr>
          <a:xfrm>
            <a:off x="5148360" y="4292640"/>
            <a:ext cx="3097080" cy="21463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2:22:38Z</dcterms:created>
  <dc:creator>андр</dc:creator>
  <dc:description/>
  <dc:language>en-US</dc:language>
  <cp:lastModifiedBy>Admin</cp:lastModifiedBy>
  <dcterms:modified xsi:type="dcterms:W3CDTF">2011-09-28T17:23:34Z</dcterms:modified>
  <cp:revision>40</cp:revision>
  <dc:subject/>
  <dc:title>Слайд 1</dc:title>
</cp:coreProperties>
</file>