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5C6-866B-471F-9EAA-411E850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8E2-7904-487B-9F4B-33E27DC0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4E9-6368-443E-AA32-45530E2B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890-9939-4D7B-A7EC-1AD026D8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5C2D-0D94-4A47-9E0D-E62BB4C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C66F-B674-4149-9FBE-A591779A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C290-9F4B-4ED9-969B-842F7EA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0B4-ADEB-4FA6-B096-B75F1A8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13FC-D5A8-4DA3-95BE-5FBB282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B49-5C05-4079-9226-CD18F1B3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1AA5-D76C-44AC-A214-0113534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ADA-4496-4703-B412-464AFC6B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8986-5480-4AA7-8943-024ABCB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335F-D8D4-4179-83BB-075A245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1AD7-880B-4EED-A7E2-DBF9D8DB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81D-EBEC-4CFB-8EA4-5EAB4BDC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A07D-8066-4B17-9F28-F9542719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7B14-7A5B-4844-8D04-0DFC1674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AC3F-A706-4648-81E5-B8D933B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6D56-F517-457E-85CA-CE873B3B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256C4-1590-4D4D-AC7E-B024B9C8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4A44-49BA-4F24-BFE0-D9AD372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68D-8D06-4EB8-9EE3-B61C843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745-6253-42F4-A0AD-98736CC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0208-C53F-4651-AACB-4FC19AE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AE37-B22B-41DF-AEDA-0AA37EE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4437-0895-4094-AEC7-9AB7795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B3F3-9AE2-482D-B8F2-F224E70D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C5DC-D4E0-4857-ABFA-F68825F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B64E-8BD4-4D8C-92ED-63B0DC11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72AE-230A-4FF1-B763-6141DE57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D028-DFE8-450B-A454-3C058981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200A-C933-4FB5-8E84-A69DBFA9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620-773E-41B4-930E-E65FAC8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50A1-FCE3-482D-895C-A845A94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F7C6-D9EE-4D3A-BAA6-839EF4D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3751-FCFB-4741-ABCB-6AE8595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D46A-E380-44A6-9F09-B77901D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F895-0FC4-44AA-AC5E-0D44707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CBD0-5459-4E1E-98B0-F5C99A6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6FC1-2A0B-4DF2-B612-86AE6D1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8F04-0EFE-49E1-A334-01F258C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C534-EA25-44B9-9DE0-12521FA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58B9-8111-4E86-8915-1931BB9C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2FB-1852-4B36-9919-7304441C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4E4F-1F4F-4B42-89C9-FF28F5B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66E8-D4AB-4AE2-930C-0F8E573C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ACB2-EB3F-4D66-8BA2-2357A0F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9770-2375-4CA1-A5AC-9F352A1D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7870-4CBD-4461-987F-6C78466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2350-B87E-44E7-956D-FB5E11D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D40A-68C5-428D-828F-4AFFFBA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B4EF-313A-4FFF-A67E-E4FFE776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09F0-300D-480F-9EEF-07FDE7DF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A384-7791-4638-8D90-3D29DA7A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6A0-BB3F-47B7-9A98-4BF9931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66B96-C25A-4333-9EC8-0C2AAFBC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BFA4-3C7C-46CF-AB46-9ACCC407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1DFF-65C2-4D30-BCD6-7E5E2DD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35AD-5035-4DD4-85C0-F1BE36C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8E74-A1A4-477D-AE8A-FC5A2A9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1167-A560-4FCA-8A16-B963A43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2EB7-710C-4068-B5B9-34F7B64F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BB46-F5BF-4FB8-BA02-26B1395B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C84D-A274-444B-BD0B-316B03F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7293-DFEB-4B3F-9D55-6666E9F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BB9-D401-4CB2-BFF6-3C9B9727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01801-3FDD-4DAD-A24B-8619913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D48E-90C4-47BF-A129-035DB213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F74BD-8A46-4DB3-A7BB-BFF3ADFB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F2B2-0449-4C17-852E-A7AFD240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B155-FC6A-43FC-B292-8251884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F5F7-0151-4AD6-AE34-C7C1559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208F-632A-445E-9678-96A1199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DB12E-0C69-40B3-9A5A-09651EE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A2C3-AEAA-4AEB-8374-C5522F48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4917-CA24-4CAA-AA81-00BB90E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DF2-2211-4D6B-A145-EDA742F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DFFA-9681-465D-A724-B693518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A5FE-1221-4BB3-868E-B261F16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7125-2259-455D-87DD-81AE289E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E0BD-28F9-4F87-B7B2-C39A5E02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1BBA-8B50-486E-873B-8E0530CC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B785-C626-42D7-8DA8-C1E27AF2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4A9D-4EA3-4B5A-91CC-A75D1667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9A1E4-F672-421A-9150-C904C618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8C9D-69CB-4141-A9A2-16F9842D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5F68B-0494-4E51-A577-24827C4C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8F9-E9FA-41C9-8745-C3250BFC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EC62-AE35-4AFA-8DEA-470E631E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EBA4-E620-414F-A02A-1B5B1FF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40B11-307A-4E36-97BB-32514D2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598C0-451C-4D22-B1C3-2BD701EB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19A0-7BAA-4620-9D94-F215E5D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1F35-8DC0-4C25-9A55-CDE06DBB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8CF3-70CA-403E-9D92-8937EC9B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3238-1DCC-4180-A9C1-05FF2A82B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7A4-7B5C-4651-A0B2-FBFB3D35FC0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3C60-F4CB-460F-AE3C-B1427B5DB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4C7-1080-4125-9E3E-EC34B640E0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4607-1A08-4AE7-B5E3-805F968AA0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B63D-5B69-4B84-8875-233D3024B0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21C5-23C6-4A85-AEC5-4A5FB95C5D5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5E5D-CCBF-47A2-B45B-5C4E4C75EE2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669960"/>
            <a:ext cx="8589960" cy="16225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840200" y="2541600"/>
            <a:ext cx="39322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412120" cy="157968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2" descr=""/>
          <p:cNvPicPr/>
          <p:nvPr/>
        </p:nvPicPr>
        <p:blipFill>
          <a:blip r:embed="rId2"/>
          <a:stretch/>
        </p:blipFill>
        <p:spPr>
          <a:xfrm>
            <a:off x="365040" y="1670040"/>
            <a:ext cx="8388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55412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2" descr=""/>
          <p:cNvPicPr/>
          <p:nvPr/>
        </p:nvPicPr>
        <p:blipFill>
          <a:blip r:embed="rId2"/>
          <a:stretch/>
        </p:blipFill>
        <p:spPr>
          <a:xfrm>
            <a:off x="450720" y="1712880"/>
            <a:ext cx="82854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65040" y="165240"/>
            <a:ext cx="3127320" cy="1554120"/>
          </a:xfrm>
          <a:prstGeom prst="rect">
            <a:avLst/>
          </a:prstGeom>
          <a:ln w="0">
            <a:noFill/>
          </a:ln>
        </p:spPr>
      </p:pic>
      <p:grpSp>
        <p:nvGrpSpPr>
          <p:cNvPr id="352" name="Содержимое 2"/>
          <p:cNvGrpSpPr/>
          <p:nvPr/>
        </p:nvGrpSpPr>
        <p:grpSpPr>
          <a:xfrm>
            <a:off x="365040" y="1646280"/>
            <a:ext cx="8570880" cy="4863960"/>
            <a:chOff x="365040" y="1646280"/>
            <a:chExt cx="8570880" cy="4863960"/>
          </a:xfrm>
        </p:grpSpPr>
        <p:pic>
          <p:nvPicPr>
            <p:cNvPr id="35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65040" y="1646280"/>
              <a:ext cx="85708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80000"/>
                </a:lnSpc>
                <a:spcBef>
                  <a:spcPts val="700"/>
                </a:spcBef>
                <a:buClr>
                  <a:srgbClr val="3891a7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Цена спроса – та максимальная цена, по которой покупатель согласен купить товар.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  <a:p>
              <a:pPr marL="447840" indent="-382680">
                <a:lnSpc>
                  <a:spcPct val="80000"/>
                </a:lnSpc>
                <a:spcBef>
                  <a:spcPts val="700"/>
                </a:spcBef>
                <a:buClr>
                  <a:srgbClr val="3891a7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Цена предложения – это минимальная цена, по которой продавец согласен продать товар.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  <a:p>
              <a:pPr marL="447840" indent="-382680">
                <a:lnSpc>
                  <a:spcPct val="80000"/>
                </a:lnSpc>
                <a:spcBef>
                  <a:spcPts val="700"/>
                </a:spcBef>
                <a:buClr>
                  <a:srgbClr val="3891a7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Рыночная цена- цена, при которой объем спроса равен объему предложения, не может опускаться ниже цены предложения(тогда продавец разорится) и подниматься выше цены спроса (тогда покупатель не сможет купить товар).</a:t>
              </a:r>
              <a:endParaRPr b="0" lang="en-US" sz="2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388360" cy="168912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2" descr=""/>
          <p:cNvPicPr/>
          <p:nvPr/>
        </p:nvPicPr>
        <p:blipFill>
          <a:blip r:embed="rId2"/>
          <a:stretch/>
        </p:blipFill>
        <p:spPr>
          <a:xfrm>
            <a:off x="365040" y="1712880"/>
            <a:ext cx="8467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40:27Z</dcterms:created>
  <dc:creator>Asus</dc:creator>
  <dc:description/>
  <dc:language>en-US</dc:language>
  <cp:lastModifiedBy>Asus</cp:lastModifiedBy>
  <dcterms:modified xsi:type="dcterms:W3CDTF">2011-08-01T10:18:33Z</dcterms:modified>
  <cp:revision>4</cp:revision>
  <dc:subject/>
  <dc:title>Спрос и предложение.</dc:title>
</cp:coreProperties>
</file>