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D6E-239C-4F0D-A40B-8D2EADAA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866-524F-43BB-A136-E0FA72A8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84F2-9027-4E3C-8851-8253A74E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E2C-83D3-42B8-B26A-F7BEFA9F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B3D7-35A1-4A69-BB9D-44FC59D0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D553-07AA-471E-92CB-51AA78DC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5DE3-5CD0-4138-B6E6-7C76E6FA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2D75-D3E7-4C31-8AB7-6E8D87AF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CA13-D539-4336-A6C0-794DEE9F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9EC5-DB05-4C20-AA75-1C52BC97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A734-6B57-44C4-8E80-57E68C5F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A201-B037-4CD3-87E4-9B460FD1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6787-34D3-47FD-811B-55344A17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C91C-85B8-40FD-ADA0-865EBD6B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45E3-5FF7-4790-BC78-976A58F1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2109-18EE-4894-9132-B35C3833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F075-DAD4-430D-9683-7DF5CEE9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4FC-8C39-4436-9441-591CBC4C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02F-C05A-4131-AEF5-35F0F292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C54C-6D8A-44EC-AFAB-06DF9278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F48-5D31-4D9E-98F5-97B5D416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8B2-7106-464F-A3B0-439FAA03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B20-66CA-4C72-9BDD-598FB01F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371-C2F5-44AF-8105-757940F8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687F-74B7-460B-8AAE-4BC90503309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131C-0A8C-4781-AE0B-C9E0FDFA69C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Трудности в общении с ребенком и пути их устранения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8а желает всем учителям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всего наилучшего, дает только положительные отзывы  (Прокопович В.Г – супер)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297180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лный объем выполнения Д/З в  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и без уважит. 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 веду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чителя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нглийский язык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мецкий язык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ранцузский язык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9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Анкета по прилежанию 11а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В классе 15, писало 13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1 ученик 7.6%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" y="1600200"/>
          <a:ext cx="8686800" cy="4835520"/>
        </p:xfrm>
        <a:graphic>
          <a:graphicData uri="http://schemas.openxmlformats.org/drawingml/2006/table">
            <a:tbl>
              <a:tblPr/>
              <a:tblGrid>
                <a:gridCol w="1076400"/>
                <a:gridCol w="853920"/>
                <a:gridCol w="965160"/>
                <a:gridCol w="1067040"/>
                <a:gridCol w="863640"/>
                <a:gridCol w="1188720"/>
                <a:gridCol w="741600"/>
                <a:gridCol w="965160"/>
                <a:gridCol w="96516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полняют д/з в полном объем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т Д/З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выполн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и без уважит.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гулов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 ведут себя</a:t>
                      </a:r>
                      <a:endParaRPr b="0" lang="en-US" sz="9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а уроке</a:t>
                      </a:r>
                      <a:endParaRPr b="0" lang="en-US" sz="9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го повед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е учител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усский язык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.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успеваю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сыпани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емейны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бстоятельств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тсутстви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Чувств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тветственност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ерп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меньше сердитьс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итератур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.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успеваю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лгебра 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успеваю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еометрия 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1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успеваю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ю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стория 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успеваю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задаю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ень, все запоминаю на урок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дачи. Успехов, больше экспресси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11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1600200"/>
          <a:ext cx="8229600" cy="53182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полняют в полном объеме Д/З в 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т Д/З в 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 невыполн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 уроков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ез уважит причины в 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 прогулов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 ведут на урок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го повед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я учител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бществознани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8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апоминаем на урок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 ответственност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ольше экспресс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8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изик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ем задач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емейные обстоятельств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спал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 ответственност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доровь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5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хим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1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ем задач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емейные обстоятельств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спал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 ответственност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больше терп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нформатик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задаю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успевае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.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емейные обстоятельств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спал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11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3745080"/>
        </p:xfrm>
        <a:graphic>
          <a:graphicData uri="http://schemas.openxmlformats.org/drawingml/2006/table">
            <a:tbl>
              <a:tblPr/>
              <a:tblGrid>
                <a:gridCol w="914400"/>
                <a:gridCol w="1039680"/>
                <a:gridCol w="789120"/>
                <a:gridCol w="914400"/>
                <a:gridCol w="1033560"/>
                <a:gridCol w="795240"/>
                <a:gridCol w="914400"/>
                <a:gridCol w="914400"/>
                <a:gridCol w="91440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полняют Д/З в полном объеме в 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т Д/З</a:t>
                      </a:r>
                      <a:endParaRPr b="0" lang="en-US" sz="9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и без уважит.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 пропусков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 себя веду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 плохого повед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я учителя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нглийский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8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ного задаю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емейные обстоятельств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спал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мецкий язык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2.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ЕН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2.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емейные обстоятельств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спал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ранцузский язык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7.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ЕН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2.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емейные обстоятельств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спал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ыть добрее и внимательне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11б писало 13 из 15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1 ученик – 7.6%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600200"/>
          <a:ext cx="8229600" cy="50338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полняют Д/З в полном объеме в 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т Д/З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 невыполнен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 уроков без уважит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ропусков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 веду себя на уроках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лохого поведен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я учител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успевае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спал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емейные обстоятельств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ерп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меньше сердитьс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итератур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успевае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лгебр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успевае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еометр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1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успевае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е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ень, не задаю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апоминаю на урок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 чувства ответственност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дачи успехов больше экспересс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11б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600200"/>
          <a:ext cx="8229600" cy="46846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полняют Д/З в полном объеме в 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т Д/З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 невыполнен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 уроков без уважит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ропусков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 веду себя на уроках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лохого поведен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я учител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бщество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изик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ного задач не понимае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доровья. терп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9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хим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ного задач не понимае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нформатик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сегда есть задание, не успевае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нглийский язык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ного заданий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10б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1 ученик – 7.1%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В классе – 21, писало - 20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600200"/>
          <a:ext cx="8229600" cy="575640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полняют Д/З в полном объем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   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т Д/З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выполн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и уроков без уважи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ропусков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е поведени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лохого повед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я учителя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усский язык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5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ЕН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хвата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ЕН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хвата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сех учителей поздравляют с празднико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итератур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4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лгебр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ЕН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хвата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ЕН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хвата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тноситься к ученикам непредвзято</a:t>
                      </a:r>
                      <a:endParaRPr b="0" lang="en-US" sz="9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дольше разбирать на уроке новую тему</a:t>
                      </a:r>
                      <a:endParaRPr b="0" lang="en-US" sz="9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еометр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ЕН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хвата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стор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ЕН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хвата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ставаться такой ж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10б – все учителя очень хорош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600200"/>
          <a:ext cx="8229600" cy="58737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полняют Д/З в полном объеме 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т Д/З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выполн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и уроков без уважи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ропусков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е поведени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лохого повед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я учителя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бщество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0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ЕН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хвата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сех учителей поздравляют с празднико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еограф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ЕН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хвата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изик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ЕН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хвата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чень хороший учител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хим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ЕН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хвата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иолог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ЕН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хвата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10б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По физической культуре – хотят больше футбол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57200" y="1600200"/>
          <a:ext cx="8229600" cy="5167440"/>
        </p:xfrm>
        <a:graphic>
          <a:graphicData uri="http://schemas.openxmlformats.org/drawingml/2006/table">
            <a:tbl>
              <a:tblPr/>
              <a:tblGrid>
                <a:gridCol w="914400"/>
                <a:gridCol w="1112760"/>
                <a:gridCol w="71604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полняют Д/З в полном объеме 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т Д/З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выполн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и уроков без уважи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ропусков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е поведени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лохого повед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я учителя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эколог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0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ЕН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хвата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ЕН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хвата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сех учителей поздравляют с празднико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БЖ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нформатик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нглийский язык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мецкий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Язык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ранцузский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0/4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/1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ЕН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хвата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10а тестировалось 14 уч-ся 1 ученик – 7.1%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600200"/>
          <a:ext cx="8229600" cy="5170320"/>
        </p:xfrm>
        <a:graphic>
          <a:graphicData uri="http://schemas.openxmlformats.org/drawingml/2006/table">
            <a:tbl>
              <a:tblPr/>
              <a:tblGrid>
                <a:gridCol w="914400"/>
                <a:gridCol w="1112760"/>
                <a:gridCol w="71604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полняют Д/З в полном объеме 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т Д/З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выполн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и уроков без уважи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ропусков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е поведени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лохого повед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я учителя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1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усский язык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доровья счастья оставаться доброй и отзывчивой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итератур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 времени читат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дачи благополуч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лгебр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ного задаю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дачи благополуч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меньшить объем Д/З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5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еометр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ного задаю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дачи благополуч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меньшить объем Д/З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5а тестировалось 22 уч.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1 ученик – 4.5%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600200"/>
          <a:ext cx="8229600" cy="3726000"/>
        </p:xfrm>
        <a:graphic>
          <a:graphicData uri="http://schemas.openxmlformats.org/drawingml/2006/table">
            <a:tbl>
              <a:tblPr/>
              <a:tblGrid>
                <a:gridCol w="1190520"/>
                <a:gridCol w="863640"/>
                <a:gridCol w="1220760"/>
                <a:gridCol w="1198800"/>
                <a:gridCol w="877680"/>
                <a:gridCol w="895320"/>
                <a:gridCol w="932040"/>
                <a:gridCol w="105084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усски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язык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чаще вызывать к доск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итератур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66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меньше задавать</a:t>
                      </a:r>
                      <a:endParaRPr b="0" lang="en-US" sz="9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10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914400"/>
                <a:gridCol w="1112760"/>
                <a:gridCol w="71604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8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полняют Д/З в полном объеме 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т Д/З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выполн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и уроков без уважи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ропусков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е поведени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лохого повед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я учителя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1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эколог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Есть пропуск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ополнительные занят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доровья радост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изическая культур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илы здоровья благополучия. Убрать 3-1 урок, быть добре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нформатик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ополнительные занят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ставаться такой же милой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3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нглийский язык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9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еньше докладов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ольше разговорного язык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10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628640"/>
          <a:ext cx="8229600" cy="4851360"/>
        </p:xfrm>
        <a:graphic>
          <a:graphicData uri="http://schemas.openxmlformats.org/drawingml/2006/table">
            <a:tbl>
              <a:tblPr/>
              <a:tblGrid>
                <a:gridCol w="914400"/>
                <a:gridCol w="1112760"/>
                <a:gridCol w="71604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полняют Д/З в полном объеме 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т Д/З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выполн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и уроков без уважи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ропусков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е поведени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лохого повед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я учителя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стор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ольшой объем заданий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частья здоровья меньше задават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бщество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Есть пропуск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еограф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 интерес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частья здоровья. Быть мягч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изик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е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частья здоровь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ыть тактичне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хим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9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5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е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10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57200" y="1600200"/>
          <a:ext cx="8229600" cy="14842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полняют Д/З в полном объем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т д/з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и без уважит 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ропусков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 ведут себ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го повед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я учител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иолог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адости здоровь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9а  1 ученик – 4 %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600200"/>
          <a:ext cx="8229600" cy="5907240"/>
        </p:xfrm>
        <a:graphic>
          <a:graphicData uri="http://schemas.openxmlformats.org/drawingml/2006/table">
            <a:tbl>
              <a:tblPr/>
              <a:tblGrid>
                <a:gridCol w="914400"/>
                <a:gridCol w="1112760"/>
                <a:gridCol w="71604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полняют Д/З в полном объеме 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т Д/З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выполн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и уроков без уважи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ропусков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е поведени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лохого повед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я учителя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6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усский язык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ень, нет времени, не понимаю, если болел, то не могу узнать задани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азговор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итератур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ен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хватка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успевают к сроку прочитат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записываю Д/З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анятия посторонними вещам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ставить в программу зарубежную литературу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еньше конспектов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лгебра.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еометр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ольше использовать доску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стор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хвата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Чаще смотреть презента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9а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Причины невыполнения Д/З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Лень, нехватка времени, не записывают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1600200"/>
          <a:ext cx="8229600" cy="54370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полняют Д/З в полном объем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т Д/З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 уроков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е поведени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я учителя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бщество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равится обсуждат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абыв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Хорошо объясняют на урок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Четко формулировать вопрос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7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изик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абыв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записываю Д/З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сып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кучно, неинтересно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нятнее объяснят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67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хим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интересно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давать много К/Р на одном урок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ольше опытов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учше объяснят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9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1600200"/>
          <a:ext cx="8229600" cy="47102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полняю Д/З в полном объем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 Д/З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е поведени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е учителя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3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нформатик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сып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кучно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чить на урок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ержать дисциплину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спользовать компьютор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водить проверочные работ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иолог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ен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нглийский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сып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азногласия с учителе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9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57200" y="1484280"/>
          <a:ext cx="8229600" cy="586440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полняю Д/З в полном объем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 Д/З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е поведени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е учителя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7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изическая культур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абываю форму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оскорблят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ыть терпимым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больше игровых уроков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мецкий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1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 поним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ранцузский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85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ХК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 тем рабо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ен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кучно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ледить за дисциплиной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водить интересные урок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9б  Писало 17 из 20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1 ученик – 6 %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полняют д/З в полном объем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т д/з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ают уроки без уважит причин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ропусков</a:t>
                      </a:r>
                      <a:endParaRPr b="0" lang="en-US" sz="9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 ведут себ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лохого повед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я учителя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итератур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 времен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лгебр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ольшой объе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ыть помягч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еометр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9б  Всем учителям здоровья, счастья, терпени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1600200"/>
          <a:ext cx="8229600" cy="447660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ыполняют д/З в полном объем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т д/з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ают уроки без уважит причин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ропусков</a:t>
                      </a:r>
                      <a:endParaRPr b="0" lang="en-US" sz="9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 ведут себ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 плохого повед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я учителя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рудно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 времени нет 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ыть помягч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изик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хим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иолог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нглийский язык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Результаты анкетирования учителей (сдали 6)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57200" y="1600200"/>
          <a:ext cx="8229600" cy="5264280"/>
        </p:xfrm>
        <a:graphic>
          <a:graphicData uri="http://schemas.openxmlformats.org/drawingml/2006/table">
            <a:tbl>
              <a:tblPr/>
              <a:tblGrid>
                <a:gridCol w="585720"/>
                <a:gridCol w="3529080"/>
                <a:gridCol w="2057400"/>
                <a:gridCol w="2057400"/>
              </a:tblGrid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ид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выполняемой</a:t>
                      </a: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деятельности учителя/ классного руководител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оличество не выполняющих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%</a:t>
                      </a: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щих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стоянная связь с тренерами спортивных секций, руководителями кружков вне школы, контроль П-й половины дн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аслушивание трудновоспитуемых в конце каждого триместра на собрании класс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8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влечение родительской общественност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вязь с детской комнатой милици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ачинаю беседу с дружеского тон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ачинаю беседу с дружеского тон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бучаю методам самовоспитан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6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ачинаю диалог с тех вопросов, мнения по которым совпадают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4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5а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музыка, ИЗО – не кричать на уроках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600200"/>
          <a:ext cx="8229600" cy="4457880"/>
        </p:xfrm>
        <a:graphic>
          <a:graphicData uri="http://schemas.openxmlformats.org/drawingml/2006/table">
            <a:tbl>
              <a:tblPr/>
              <a:tblGrid>
                <a:gridCol w="1190520"/>
                <a:gridCol w="863640"/>
                <a:gridCol w="1220760"/>
                <a:gridCol w="1198800"/>
                <a:gridCol w="877680"/>
                <a:gridCol w="895320"/>
                <a:gridCol w="932040"/>
                <a:gridCol w="105084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ехнолог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91440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нглийский язык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мецкий язык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9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ранцузский язык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В анкете 21 вопрос, все остальные виды деятельности выполняются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68360" y="1397160"/>
          <a:ext cx="7991280" cy="3889080"/>
        </p:xfrm>
        <a:graphic>
          <a:graphicData uri="http://schemas.openxmlformats.org/drawingml/2006/table">
            <a:tbl>
              <a:tblPr/>
              <a:tblGrid>
                <a:gridCol w="574560"/>
                <a:gridCol w="3421080"/>
                <a:gridCol w="1998720"/>
                <a:gridCol w="1996920"/>
              </a:tblGrid>
              <a:tr h="11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ид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выполняемой</a:t>
                      </a: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деятельности учителя/ классного руководител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оличество не выполняющих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%</a:t>
                      </a: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щих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йтрализую отрицательное влияние родителе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читаю нравоучений, воспитываю на положительных примерах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ействую тактическим маневром и никогда прямой атако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тавлю в известность родителей о пропусках занятий в тот же день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6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Ситуации, снижающие работоспособность ученик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Длительная напряженная работа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Слабый быстро устает, теряет работоспособность, начинает допускать ошибки, медленнее усваивает материал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Ответственная, требующая эмоционального, нервно-психического напряжения самостоятельная, контрольная работ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Ситуация, когда учитель в высоком темпе задает вопросы и требует на них не медленного ответ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Работа после неудачного ответа, оцененного отрицательно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Работа в шумной или эмоционально некомфортной обстановке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Работа после резкого замечания, сделанного учителем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Работа под руководством вспыльчивого и несдержанного педагог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Быстрое переключение внимания с одного вида работы на другой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Выполнение заданий на сообразительность при высоком темпе работы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Советы учителям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(Психологические аспекты)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Не используйте нравоуч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Не подчеркивайте проступ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Воспитывайте на положительных примера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В конфликтных ситуациях не старайтесь одержать победу любой ценой, иногда можно и уступит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Действуйте только тактическим маневром и никогда – прямой атако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Выслушайте все, не реагируя сейчас, выслушав, спокойно, без раздражения выскажите свое мнение, вносящее поправки в сказанное ученико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Психологические аспекты работы с детьм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7. Старайтесь настолько укрепить к себе доверие учеников, чтобы они делились с вами своими неприятностям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8. Никогда не ставьте на ребенке крест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9. Не загоняйте ребенка в угол, поставив в затруднительное положени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10. Беседу всегда начинайте с дружеского тон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11. Диалог с трудновоспитуемым ребенком всегда начинайте с тех вопросов, мнение по которым у вас с ним совпадает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12. В общении инициативу держите в своих руках,   ведите диалог на равных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13. Умейте смотреть на вещи глазами ребенк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Факторы, способствующие формированию «трудного» ребенка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Неблагополучная семья ( не «занимаются» ребенком, показывают пример асоциального поведения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Ошибки, допускаемые педагогами, приводят к нарушению психики ребенка – дидактогени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Нельзя говорить «Трудный» ребенок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равильно - Ребенок с девиантным поведение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4</a:t>
            </a: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 причины нарушения поведения дете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Ребенок не получает нужного количества внимания, способ его получить – 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непослушание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. Пусть замечания и не очень приятно получать, но на ребенка обращают внимание. Учитель оставляет свои дела, называет его фамилию, заговаривает с ни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2.  Но после долгого количества времени, находясь под негативным вниманием учителя (постоянные замечания), возникает упрямство, желание проявить свою личнос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ученик начинает «восставать» - «я хороший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Смысл  плохого поведения: «Вы сделали мне плохо – пусть вам тоже будет плохо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3. Руководство обидой, несправедливостью. Внутри – переживание, в поведении – протест, непослушание, плохая успеваемост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4.Если учитель не меняет тактику поведения, у ребенка наступает  депрессия. Ребенок теряет веру в себя, у него складывается низкая самооценка. Он делает вывод: «Зачем стараться, если все равно ничего не получится. Пусть я буду плохим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Практическая рабо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Ситуация № 1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Ребенок шумит, перебивает разговор взрослых, не слушаетс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Взрослые раздражаются, делают ребенку замеча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Какую цель преследует ребенок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Каковы действия взрослых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Ответ № 1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Игнорироват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Обращать внимание только когда ребенок ведет себя хорош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Задать вопрос: «Может быть, ты хочешь, чтобы я обратила на тебя внимание?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Оказать этому ребенку положительное внимание и совместные занят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Ситуация № 2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Ребенок отказывается делать то, что от него хотят. Взрослые пытаются использовать свою власть, чтобы его заставить, начинают сердиться и ругатьс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Какую цель преследует ребенок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Как взрослым себя вести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Анкета по прилежанию 6б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1 ученик – 4%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95280" y="1557360"/>
          <a:ext cx="8542440" cy="5313240"/>
        </p:xfrm>
        <a:graphic>
          <a:graphicData uri="http://schemas.openxmlformats.org/drawingml/2006/table">
            <a:tbl>
              <a:tblPr/>
              <a:tblGrid>
                <a:gridCol w="1235160"/>
                <a:gridCol w="896760"/>
                <a:gridCol w="1266840"/>
                <a:gridCol w="1244520"/>
                <a:gridCol w="911520"/>
                <a:gridCol w="930240"/>
                <a:gridCol w="966600"/>
                <a:gridCol w="109080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лный объем выполнения Д/З в  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и без уважит. 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 веду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чителя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усски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язык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еньше д/з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еньше ругат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итератур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9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3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66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успеваю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66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справляютс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66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абываю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еньше задават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4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%-</a:t>
                      </a: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азговор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понятное объяснени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ольшой объем Д/З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3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ручус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кричать</a:t>
                      </a:r>
                      <a:endParaRPr b="0" lang="en-US" sz="9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бить указкой</a:t>
                      </a:r>
                      <a:endParaRPr b="0" lang="en-US" sz="9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ольше спрашивать</a:t>
                      </a:r>
                      <a:endParaRPr b="0" lang="en-US" sz="9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адавать интересные задания</a:t>
                      </a:r>
                      <a:endParaRPr b="0" lang="en-US" sz="9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бщество-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нани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9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абыв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записыв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о же +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нтереснее рассказыват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Ответ № 2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Цель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ребенка – показать свою власть над други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Рекомендации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учителям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Избегать борьбы за вла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Избавить ребенка от лишнего диктата и давл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Дать возможность накапливать опыт собственных решений и неудач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Ситуация № 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Ребенок вредит другим, портит вещи, может оскорбить. Взрослые раздражаются, считают его хулиганом. Постоянно ругаю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Какова цель ребенка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Как нужно поступить учителю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Ответ № 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Цель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стремится отомстить за то, что чувствует себя оскорбленным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Рекомендации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Не раздражатьс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Не руга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Выявить причину мести ребен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Наладить с ребенком доверительные отнош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Ситуация № 4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Ребенок не способен научиться самостоятельным навыкам. Постоянно требует помощ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Взрослые считают, что он ничего не знает и не умеет, что он ничего не може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Какова цель ребенк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Что делать взрослым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Ответ № 4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  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Цель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ребенка – продемонстрировать свою беспомощность, неспособность и неадекватност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Рекомендации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Показать ребенку, что вы верите в его возможности и способности, дать ему понять, что в него веря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Давать доступный уровень задан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Организовать совместную деятельнос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Не критиковать, найти любой повод для похвалы, отмечать самый малый успех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Подстраховывать ребенка от крупных провал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Выводы – руководство к действию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Переключить свои отрицательные эмоции (гнев, обиду, отчаяние) на конструктивные действ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Изменить собственное отношение к ситуации, изменить позицию давления на позицию помощ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При первых попытках улучшить взаимоотношения ребенок может ухудшить свое поведение, так как не сразу поверит в искренность ваших намерений и будет их проверя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Помните: дети учатся жизни у взрослых!!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10 заповедей  успешного воспит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Если ребенка постоянно критикуют, он учится </a:t>
            </a:r>
            <a:r>
              <a:rPr b="1" i="1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НЕНАВИДЕ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Если ребенок живет во вражде, он учится быть </a:t>
            </a:r>
            <a:r>
              <a:rPr b="1" i="1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АГРЕССИВНЫ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Если ребенка высмеивают, он становится </a:t>
            </a:r>
            <a:r>
              <a:rPr b="1" i="1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ЗАМКНУТЫ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Если ребенка постоянно упрекают, он начинает испытывать </a:t>
            </a:r>
            <a:r>
              <a:rPr b="1" i="1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ЧУВСТВО ВИН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Если ребенок растет в ситуации терпимости к нему, он учится </a:t>
            </a:r>
            <a:r>
              <a:rPr b="1" i="1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ПОНИМАТЬ ДРУГИХ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Если ребенок растет в честности, он учится </a:t>
            </a:r>
            <a:r>
              <a:rPr b="1" i="1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БЫТЬ СПРАВЕДЛИВЫ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Если ребенок растет в безопасности, он учится </a:t>
            </a:r>
            <a:r>
              <a:rPr b="1" i="1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ВЕРИТЬ В ЛЮДЕ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Если ребенка поддерживают, он учится </a:t>
            </a:r>
            <a:r>
              <a:rPr b="1" i="1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ЦЕНИТЬ СЕБ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Если ребенок растет в любви и дружбе, он учится </a:t>
            </a:r>
            <a:r>
              <a:rPr b="1" i="1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ЛЮБИТЬ И ДРУЖИ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Если ребенка хвалят, он учится  </a:t>
            </a:r>
            <a:r>
              <a:rPr b="1" i="1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БЫТЬ БЛАГОРОДНЫ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Всего в классе – 25,</a:t>
            </a: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писало 23  (6 б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8229600" cy="5318280"/>
        </p:xfrm>
        <a:graphic>
          <a:graphicData uri="http://schemas.openxmlformats.org/drawingml/2006/table">
            <a:tbl>
              <a:tblPr/>
              <a:tblGrid>
                <a:gridCol w="1190520"/>
                <a:gridCol w="863640"/>
                <a:gridCol w="1220760"/>
                <a:gridCol w="1198800"/>
                <a:gridCol w="865080"/>
                <a:gridCol w="907920"/>
                <a:gridCol w="932040"/>
                <a:gridCol w="105084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лный объем выполнения Д/З в  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и без уважит. 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 веду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чителя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2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ыть добре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еньше ругать. Кричат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ыть спокойне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66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успеваю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66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понимаю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еньше задават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3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ехнолог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ртемов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ез 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елать своими руками что-то.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аниматься чем-то интересны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9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нглийский язык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азговор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ильно ругает</a:t>
                      </a:r>
                      <a:endParaRPr b="0" lang="en-US" sz="9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6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лный объем выполнения Д/З в  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и без уважит. 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 веду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чителя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11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мецкий язык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се понимаю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ранцузский язык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ольше хвалит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1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ЗО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ез 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Шум и гам на уроке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рать.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орать.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ольше рисовать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7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е задавать мног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е ставить «2» за поведение в журна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енавиж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кучно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лохое качество обуч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рать пример с других шко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менять профессию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е задавать много домашнего зада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спытываю негати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Терпения, мы хорошие, только по-своем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аучиться грамотно пис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ольше интеративных заняти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Хотим знать больше новог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еньше кричать, терпения, перестать ставить отметки за ничт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Анкета по прилежанию 8а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1 ученик – 4%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557360"/>
          <a:ext cx="8229600" cy="534204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лный объем выполнения Д/З в  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и без уважит. 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 веду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чителя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сем учителям – слова благодарности и восхище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итератур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лгебр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еометр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8а по списку 28, писало 26   1 ученик – 4%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600200"/>
          <a:ext cx="8229600" cy="51991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мет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лный объем выполнения Д/З в  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 выполняю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пуски без уважит. 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чин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хо ведут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жела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чителям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бществознани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8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изик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хим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нформатик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8:55:46Z</dcterms:created>
  <dc:creator>User</dc:creator>
  <dc:description/>
  <dc:language>en-US</dc:language>
  <cp:lastModifiedBy>User</cp:lastModifiedBy>
  <dcterms:modified xsi:type="dcterms:W3CDTF">2012-02-20T11:31:17Z</dcterms:modified>
  <cp:revision>37</cp:revision>
  <dc:subject/>
  <dc:title>Трудности</dc:title>
</cp:coreProperties>
</file>