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0D45-03E6-4666-85F2-9CD75112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F2C2-1E50-471C-B1D9-586E042C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155A-4C6C-416B-9E5F-252E32DF2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505A-E44D-4A79-A8FD-EBBFEC3AB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2037-812F-4EC5-9574-3BD57A0A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982F-F8F4-415D-A0F0-2988F000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3AFE-9BDD-4A30-9EA2-59A83F08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6EA1-5679-4EA6-BC85-1C20CFBA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BEF9-B2E3-4279-8E35-20DA4FA6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8403-E015-4D62-AF4A-090E1263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9BD7-F80F-470E-A398-87C325FF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616D-B38C-4033-8113-D65B9C9E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FB49-220C-4FAA-834D-0AB9D59051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babyeda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хема 4" descr=""/>
          <p:cNvPicPr/>
          <p:nvPr/>
        </p:nvPicPr>
        <p:blipFill>
          <a:blip r:embed="rId1"/>
          <a:stretch/>
        </p:blipFill>
        <p:spPr>
          <a:xfrm>
            <a:off x="438120" y="262080"/>
            <a:ext cx="8267760" cy="2414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190760" y="3048120"/>
            <a:ext cx="4800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щиес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Б»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йкова Софь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нолихова Дарь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ниди Але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удолеева Екатер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 и руководитель: учитель физики МОУ «СОШ № 2 » Пастарнакова Ю.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C:\Documents and Settings\Admin\Рабочий стол\фотоэксперимент\DSC00351.JPG"/>
          <p:cNvPicPr/>
          <p:nvPr/>
        </p:nvPicPr>
        <p:blipFill>
          <a:blip r:embed="rId2"/>
          <a:stretch/>
        </p:blipFill>
        <p:spPr>
          <a:xfrm>
            <a:off x="152280" y="3011400"/>
            <a:ext cx="421488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I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373356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Вычисление диаметра голов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D=L / </a:t>
            </a:r>
            <a:r>
              <a:rPr b="0" lang="el-GR" sz="4000" spc="-1" strike="noStrike">
                <a:solidFill>
                  <a:srgbClr val="cc3300"/>
                </a:solidFill>
                <a:latin typeface="Arial"/>
                <a:ea typeface="Arial"/>
              </a:rPr>
              <a:t>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ARROW"/>
          <p:cNvPicPr/>
          <p:nvPr/>
        </p:nvPicPr>
        <p:blipFill>
          <a:blip r:embed="rId1"/>
          <a:stretch/>
        </p:blipFill>
        <p:spPr>
          <a:xfrm>
            <a:off x="533520" y="3505320"/>
            <a:ext cx="1143000" cy="88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4495680" y="1676520"/>
          <a:ext cx="4038840" cy="2523960"/>
        </p:xfrm>
        <a:graphic>
          <a:graphicData uri="http://schemas.openxmlformats.org/drawingml/2006/table">
            <a:tbl>
              <a:tblPr/>
              <a:tblGrid>
                <a:gridCol w="2819520"/>
                <a:gridCol w="1219320"/>
              </a:tblGrid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нолихова Даш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ниди Ал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удолеева Кат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йкова Со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II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14240" y="1142640"/>
            <a:ext cx="6172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Вычисление объема головы (будем считать, что голова имеет форму шара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V</a:t>
            </a:r>
            <a:r>
              <a:rPr b="1" lang="ru-RU" sz="36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= (</a:t>
            </a:r>
            <a:r>
              <a:rPr b="0" lang="el-GR" sz="3600" spc="-1" strike="noStrike">
                <a:solidFill>
                  <a:srgbClr val="cc3300"/>
                </a:solidFill>
                <a:latin typeface="Arial"/>
                <a:ea typeface="Arial"/>
              </a:rPr>
              <a:t>π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  <a:ea typeface="Arial"/>
              </a:rPr>
              <a:t>*D</a:t>
            </a:r>
            <a:r>
              <a:rPr b="1" lang="en-US" sz="3600" spc="-1" strike="noStrike" baseline="30000">
                <a:solidFill>
                  <a:srgbClr val="cc3300"/>
                </a:solidFill>
                <a:latin typeface="Arial"/>
                <a:ea typeface="Arial"/>
              </a:rPr>
              <a:t>3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  <a:ea typeface="Arial"/>
              </a:rPr>
              <a:t>)/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24m5"/>
          <p:cNvPicPr/>
          <p:nvPr/>
        </p:nvPicPr>
        <p:blipFill>
          <a:blip r:embed="rId1"/>
          <a:stretch/>
        </p:blipFill>
        <p:spPr>
          <a:xfrm>
            <a:off x="380880" y="1219320"/>
            <a:ext cx="2438640" cy="190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" name=""/>
          <p:cNvGraphicFramePr/>
          <p:nvPr/>
        </p:nvGraphicFramePr>
        <p:xfrm>
          <a:off x="304920" y="3962520"/>
          <a:ext cx="3886200" cy="2284200"/>
        </p:xfrm>
        <a:graphic>
          <a:graphicData uri="http://schemas.openxmlformats.org/drawingml/2006/table">
            <a:tbl>
              <a:tblPr/>
              <a:tblGrid>
                <a:gridCol w="2712960"/>
                <a:gridCol w="117324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2f2f98"/>
                      </a:solidFill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м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нолихова Даш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2f2f98"/>
                      </a:solidFill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3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ниди Ал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2f2f98"/>
                      </a:solidFill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удолеева Кат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2f2f98"/>
                      </a:solidFill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2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йкова Со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2f2f98"/>
                      </a:solidFill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2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X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57200" y="2057400"/>
          <a:ext cx="4038480" cy="2514600"/>
        </p:xfrm>
        <a:graphic>
          <a:graphicData uri="http://schemas.openxmlformats.org/drawingml/2006/table">
            <a:tbl>
              <a:tblPr/>
              <a:tblGrid>
                <a:gridCol w="2895480"/>
                <a:gridCol w="114300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м</a:t>
                      </a:r>
                      <a:r>
                        <a:rPr b="1" lang="ru-RU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рнолихова Даш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2727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34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272779"/>
                    </a:solidFill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огиниди Ал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34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удолеева Кат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727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3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72779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ийкова Со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3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</a:tbl>
          </a:graphicData>
        </a:graphic>
      </p:graphicFrame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Нахождение полного объема своего тел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              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V=V</a:t>
            </a:r>
            <a:r>
              <a:rPr b="1" lang="en-US" sz="36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+ V</a:t>
            </a:r>
            <a:r>
              <a:rPr b="1" lang="en-US" sz="36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ARROW"/>
          <p:cNvPicPr/>
          <p:nvPr/>
        </p:nvPicPr>
        <p:blipFill>
          <a:blip r:embed="rId1"/>
          <a:stretch/>
        </p:blipFill>
        <p:spPr>
          <a:xfrm>
            <a:off x="4952880" y="3886200"/>
            <a:ext cx="1143000" cy="9907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ап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0663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Измерение массы тела с помощью напольных вес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28600" y="2209680"/>
          <a:ext cx="4191120" cy="1828800"/>
        </p:xfrm>
        <a:graphic>
          <a:graphicData uri="http://schemas.openxmlformats.org/drawingml/2006/table">
            <a:tbl>
              <a:tblPr/>
              <a:tblGrid>
                <a:gridCol w="2743200"/>
                <a:gridCol w="1447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нолихова    Да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ниди Ал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удолеева Кат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йкова Со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  <p:pic>
        <p:nvPicPr>
          <p:cNvPr id="84" name="Picture 25" descr="C:\Documents and Settings\Admin\Рабочий стол\фотоэксперимент\DSC00344.JPG"/>
          <p:cNvPicPr/>
          <p:nvPr/>
        </p:nvPicPr>
        <p:blipFill>
          <a:blip r:embed="rId1"/>
          <a:stretch/>
        </p:blipFill>
        <p:spPr>
          <a:xfrm>
            <a:off x="6705720" y="1600200"/>
            <a:ext cx="1981080" cy="2987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6" descr="C:\Documents and Settings\Admin\Рабочий стол\фотоэксперимент\DSC00347.JPG"/>
          <p:cNvPicPr/>
          <p:nvPr/>
        </p:nvPicPr>
        <p:blipFill>
          <a:blip r:embed="rId2"/>
          <a:stretch/>
        </p:blipFill>
        <p:spPr>
          <a:xfrm>
            <a:off x="4495680" y="3733920"/>
            <a:ext cx="215424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I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Находим  плотность своего тела по формул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                 </a:t>
            </a:r>
            <a:r>
              <a:rPr b="0" lang="el-GR" sz="3200" spc="-1" strike="noStrike">
                <a:solidFill>
                  <a:srgbClr val="cc3300"/>
                </a:solidFill>
                <a:latin typeface="Arial Unicode MS"/>
                <a:ea typeface="Arial Unicode MS"/>
              </a:rPr>
              <a:t>ρ</a:t>
            </a:r>
            <a:r>
              <a:rPr b="0" lang="ru-RU" sz="3200" spc="-1" strike="noStrike">
                <a:solidFill>
                  <a:srgbClr val="cc3300"/>
                </a:solidFill>
                <a:latin typeface="Arial Unicode MS"/>
                <a:ea typeface="Arial Unicode MS"/>
              </a:rPr>
              <a:t>=</a:t>
            </a:r>
            <a:r>
              <a:rPr b="0" lang="en-US" sz="3200" spc="-1" strike="noStrike">
                <a:solidFill>
                  <a:srgbClr val="cc3300"/>
                </a:solidFill>
                <a:latin typeface="Arial Unicode MS"/>
                <a:ea typeface="Arial Unicode MS"/>
              </a:rPr>
              <a:t>m / V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ARROW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8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4572000" y="2514600"/>
          <a:ext cx="3962520" cy="1981080"/>
        </p:xfrm>
        <a:graphic>
          <a:graphicData uri="http://schemas.openxmlformats.org/drawingml/2006/table">
            <a:tbl>
              <a:tblPr/>
              <a:tblGrid>
                <a:gridCol w="2666880"/>
                <a:gridCol w="1295640"/>
              </a:tblGrid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кг/м</a:t>
                      </a:r>
                      <a:r>
                        <a:rPr b="1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нолихова Да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ниди Ал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удолеева Кат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7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йкова Со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534520" cy="533376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анном эксперименте принимала участие группа из четырех человек. Плотность человеческого тела определили как среднее арифметическое плотностей тел всех участников группы. Получили значение, равное 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4.7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г/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тность воды равна 1000 кг/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тность морской воды равна 1030 кг/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тность человеческого тела немного  больше плотности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стинная плот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тношение массы к объему в абсолютно плотном состоянии (без пор и пусто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редняя плот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физическая величина, определяемая отношением массы материала ко всему занимаемому им объему, включая поры и пуст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яя плотность не является величиной постоянной и изменяется в зависимости от пористости материала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Безымянный"/>
          <p:cNvPicPr/>
          <p:nvPr/>
        </p:nvPicPr>
        <p:blipFill>
          <a:blip r:embed="rId1"/>
          <a:stretch/>
        </p:blipFill>
        <p:spPr>
          <a:xfrm>
            <a:off x="762120" y="762120"/>
            <a:ext cx="7848360" cy="5032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ресный фа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яя плотность играет очень важное значение для человека. Его плавучесть зависит от средней плотности тканей его тела, плотности воды, вдоха и выдоха. Чем меньше средняя плотность тканей тела, тем лучше его плавучесть. При глубоком вдохе пловец, как правило, обладает положительной плавучестью, при полном выдохе – отрицательной, он тонет. Человек способен изменять свою среднюю плотность, регулируя количество воздуха в легких! При полном вдохе средняя плотность человеческого тела становится меньше плотности воды. При выдохе, когда тело теряет плавучесть, человеку приходится создавать подъемную силу движением рук. Получается, что умение плавать – это умение правильно дыш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98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Использованные материал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babyeda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йндешптейн Л.Э., Кирик Л.А., Гельфгат И.М. “Решение ключевых задач по физике для основной школы. 7-9 классы. – М.: Илекса, 2006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ская энциклопедия, том 3 , издательство “Просвещение”, 196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ся определять плотность человеческого те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Схема 4" descr=""/>
          <p:cNvPicPr/>
          <p:nvPr/>
        </p:nvPicPr>
        <p:blipFill>
          <a:blip r:embed="rId1"/>
          <a:stretch/>
        </p:blipFill>
        <p:spPr>
          <a:xfrm>
            <a:off x="103320" y="1584360"/>
            <a:ext cx="8937360" cy="2701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2"/>
          <p:cNvPicPr/>
          <p:nvPr/>
        </p:nvPicPr>
        <p:blipFill>
          <a:blip r:embed="rId1"/>
          <a:stretch/>
        </p:blipFill>
        <p:spPr>
          <a:xfrm>
            <a:off x="1066680" y="665280"/>
            <a:ext cx="1905120" cy="2612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152280" y="4343400"/>
          <a:ext cx="4876920" cy="1828800"/>
        </p:xfrm>
        <a:graphic>
          <a:graphicData uri="http://schemas.openxmlformats.org/drawingml/2006/table">
            <a:tbl>
              <a:tblPr/>
              <a:tblGrid>
                <a:gridCol w="2675160"/>
                <a:gridCol w="1179360"/>
                <a:gridCol w="1022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нолихова  Да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ниди Ал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удолеева Кат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йкова Со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7692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Измерение длины и ширины ванны у себя дома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 (a,</a:t>
            </a: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b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Прямоугольник 5" descr=""/>
          <p:cNvPicPr/>
          <p:nvPr/>
        </p:nvPicPr>
        <p:blipFill>
          <a:blip r:embed="rId2"/>
          <a:stretch/>
        </p:blipFill>
        <p:spPr>
          <a:xfrm>
            <a:off x="3176640" y="353880"/>
            <a:ext cx="2760480" cy="11098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Налить в ванну  теплой воды и отметить карандашом ее уровень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9" descr="ванна с водой"/>
          <p:cNvPicPr/>
          <p:nvPr/>
        </p:nvPicPr>
        <p:blipFill>
          <a:blip r:embed="rId1"/>
          <a:srcRect l="2069" t="2654" r="8322" b="7917"/>
          <a:stretch/>
        </p:blipFill>
        <p:spPr>
          <a:xfrm>
            <a:off x="685800" y="2971800"/>
            <a:ext cx="365760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Лечь в ванну с водой и отметить ее новый уровень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20071023-fe6b352341df4599ca02b811e31c188a_pre"/>
          <p:cNvPicPr/>
          <p:nvPr/>
        </p:nvPicPr>
        <p:blipFill>
          <a:blip r:embed="rId1"/>
          <a:stretch/>
        </p:blipFill>
        <p:spPr>
          <a:xfrm>
            <a:off x="4800600" y="2514600"/>
            <a:ext cx="3124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Измерить высоту подъема воды   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143000" y="3200400"/>
          <a:ext cx="5178600" cy="2666880"/>
        </p:xfrm>
        <a:graphic>
          <a:graphicData uri="http://schemas.openxmlformats.org/drawingml/2006/table">
            <a:tbl>
              <a:tblPr/>
              <a:tblGrid>
                <a:gridCol w="3594240"/>
                <a:gridCol w="15843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,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нолихова  Да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ниди Ал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удолеева Кат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йкова Со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ап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хождение объема  вытесненной воды, а следовательно, и объема своего тел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з учета голов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по формул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a*b*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меча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Форма ванны может заметно отличаться от параллелепипеда, поэтому объем вытесненной воды можно узнать, доливая воду в ванну до верхней отметки с помощью ведра. Получится точне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724280" y="2050920"/>
          <a:ext cx="3657600" cy="2019600"/>
        </p:xfrm>
        <a:graphic>
          <a:graphicData uri="http://schemas.openxmlformats.org/drawingml/2006/table">
            <a:tbl>
              <a:tblPr/>
              <a:tblGrid>
                <a:gridCol w="2552760"/>
                <a:gridCol w="110484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м</a:t>
                      </a:r>
                      <a:r>
                        <a:rPr b="1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нолихова Даш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ниди Ал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удолеева Кат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  <a:tr h="50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йкова Со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Измерение длины окружности головы 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с помощью сантиметровой ленты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04920" y="2819520"/>
          <a:ext cx="2971800" cy="2247840"/>
        </p:xfrm>
        <a:graphic>
          <a:graphicData uri="http://schemas.openxmlformats.org/drawingml/2006/table">
            <a:tbl>
              <a:tblPr/>
              <a:tblGrid>
                <a:gridCol w="2074680"/>
                <a:gridCol w="897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нолихова Даш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ниди Ал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удолеева Кат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йкова Со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pic>
        <p:nvPicPr>
          <p:cNvPr id="67" name="Picture 24" descr="C:\Documents and Settings\Admin\Рабочий стол\фотоэксперимент\DSC00353.JPG"/>
          <p:cNvPicPr/>
          <p:nvPr/>
        </p:nvPicPr>
        <p:blipFill>
          <a:blip r:embed="rId1"/>
          <a:stretch/>
        </p:blipFill>
        <p:spPr>
          <a:xfrm>
            <a:off x="4038480" y="2895480"/>
            <a:ext cx="44197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11T15:14:01Z</dcterms:modified>
  <cp:revision>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