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7CC-906E-4D55-A829-962F3229C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4874-A7B9-4846-970F-671F05461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2E7-0AE3-4FB3-9F33-9145F3E6F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8F8-36C1-4984-914B-91AD4DA4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C15-2401-4495-81BB-B68E018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47C-661C-427F-95DF-9A2E8F70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1BB-B09B-43A9-A4AA-4AAAD1B1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F78-55E5-4197-82AD-6BBCB0F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D4A-5C53-4C6B-BD99-6E7336C3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BE4-243A-4686-BD04-F538EBC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478-EB8E-4AAD-B11B-3069D12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DC4-D59D-4150-92E8-4AD1A36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BCC-27D4-4B06-8EC3-1992238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332-86AD-46E3-87E9-CCD58CC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063-DE7F-4C84-93DD-2EA2033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90B-8823-4DE7-AAD5-DB8525DFD1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 И К Т О Р И Н А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 Р И Р О Д А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 А 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 О 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 О Д Н О 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184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igeo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ОЛУБ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diapo_pigeons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   называют  птиц  которые  улетают  на  юг 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00" y="-13752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a19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931"/>
          <p:cNvPicPr/>
          <p:nvPr/>
        </p:nvPicPr>
        <p:blipFill>
          <a:blip r:embed="rId1"/>
          <a:stretch/>
        </p:blipFill>
        <p:spPr>
          <a:xfrm>
            <a:off x="0" y="0"/>
            <a:ext cx="10918800" cy="84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РЕЛЁТНЫЕ ПТИЦ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1268821679_004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АЯ    САМАЯ    МАЛЕНЬКАЯ ПТИЦ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б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ОЛИБ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xlnzqyci0hb1ap3o"/>
          <p:cNvPicPr/>
          <p:nvPr/>
        </p:nvPicPr>
        <p:blipFill>
          <a:blip r:embed="rId1"/>
          <a:stretch/>
        </p:blipFill>
        <p:spPr>
          <a:xfrm>
            <a:off x="179280" y="1479600"/>
            <a:ext cx="8713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АЯ    САМАЯ    БОЛЬШАЯ ПТИЦ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Ё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04820877"/>
          <p:cNvPicPr/>
          <p:nvPr/>
        </p:nvPicPr>
        <p:blipFill>
          <a:blip r:embed="rId1"/>
          <a:stretch/>
        </p:blipFill>
        <p:spPr>
          <a:xfrm>
            <a:off x="0" y="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тенцы какой птицы не знают своей матери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УБ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О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АЯ   ПТИЦА   ВЫВОДИТ ПТЕНЦОВ    ЗИМОЙ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Я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 Л Е С Т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rossbill4"/>
          <p:cNvPicPr/>
          <p:nvPr/>
        </p:nvPicPr>
        <p:blipFill>
          <a:blip r:embed="rId1"/>
          <a:stretch/>
        </p:blipFill>
        <p:spPr>
          <a:xfrm>
            <a:off x="395280" y="1197000"/>
            <a:ext cx="5445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то слышит ногами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р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р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6a00d83474891153ef00e554e113148833-8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ля чего вокруг городов необходимо большое количество лесов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крас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очищения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 заготовки д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ы жили птицы и 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800px-Smog_in_Moscow_in_September_2002"/>
          <p:cNvPicPr/>
          <p:nvPr/>
        </p:nvPicPr>
        <p:blipFill>
          <a:blip r:embed="rId1"/>
          <a:stretch/>
        </p:blipFill>
        <p:spPr>
          <a:xfrm>
            <a:off x="0" y="-603360"/>
            <a:ext cx="5580000" cy="381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3635280" y="2708280"/>
            <a:ext cx="7726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0cd9135895bb3e9c_0"/>
          <p:cNvPicPr/>
          <p:nvPr/>
        </p:nvPicPr>
        <p:blipFill>
          <a:blip r:embed="rId1"/>
          <a:stretch/>
        </p:blipFill>
        <p:spPr>
          <a:xfrm>
            <a:off x="0" y="0"/>
            <a:ext cx="914400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11_matushka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кое дерево дольше живёт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у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 У Б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0_a838_887934cf_XL"/>
          <p:cNvPicPr/>
          <p:nvPr/>
        </p:nvPicPr>
        <p:blipFill>
          <a:blip r:embed="rId1"/>
          <a:stretch/>
        </p:blipFill>
        <p:spPr>
          <a:xfrm>
            <a:off x="0" y="1484280"/>
            <a:ext cx="9325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УКУШ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KUK01"/>
          <p:cNvPicPr/>
          <p:nvPr/>
        </p:nvPicPr>
        <p:blipFill>
          <a:blip r:embed="rId1"/>
          <a:stretch/>
        </p:blipFill>
        <p:spPr>
          <a:xfrm>
            <a:off x="324000" y="1628640"/>
            <a:ext cx="82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кой снег быстрее тает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яз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Что ест зимой жаба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1214375029_0_666b_a708b6e5_xl1"/>
          <p:cNvPicPr/>
          <p:nvPr/>
        </p:nvPicPr>
        <p:blipFill>
          <a:blip r:embed="rId1"/>
          <a:stretch/>
        </p:blipFill>
        <p:spPr>
          <a:xfrm>
            <a:off x="179280" y="1197000"/>
            <a:ext cx="8748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имой жаба спи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4363"/>
          <p:cNvPicPr/>
          <p:nvPr/>
        </p:nvPicPr>
        <p:blipFill>
          <a:blip r:embed="rId1"/>
          <a:stretch/>
        </p:blipFill>
        <p:spPr>
          <a:xfrm>
            <a:off x="395280" y="1138320"/>
            <a:ext cx="835344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тичий домик это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1366863"/>
          <p:cNvPicPr/>
          <p:nvPr/>
        </p:nvPicPr>
        <p:blipFill>
          <a:blip r:embed="rId1"/>
          <a:stretch/>
        </p:blipFill>
        <p:spPr>
          <a:xfrm>
            <a:off x="179280" y="1077840"/>
            <a:ext cx="89647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Berlin_Fennsee_Vogelhaus"/>
          <p:cNvPicPr/>
          <p:nvPr/>
        </p:nvPicPr>
        <p:blipFill>
          <a:blip r:embed="rId1"/>
          <a:stretch/>
        </p:blipFill>
        <p:spPr>
          <a:xfrm>
            <a:off x="-1657440" y="0"/>
            <a:ext cx="108014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квореч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1237226116_9"/>
          <p:cNvPicPr/>
          <p:nvPr/>
        </p:nvPicPr>
        <p:blipFill>
          <a:blip r:embed="rId1"/>
          <a:stretch/>
        </p:blipFill>
        <p:spPr>
          <a:xfrm>
            <a:off x="324000" y="1314360"/>
            <a:ext cx="8208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О СВИДА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ИМ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О Н Е Ц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ая     птица    «приносит »  на своем   хвосте   новости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Я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к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 Р И Р О Д 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 А Ш         Д О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 О Д Н О 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319"/>
          <p:cNvPicPr/>
          <p:nvPr/>
        </p:nvPicPr>
        <p:blipFill>
          <a:blip r:embed="rId1"/>
          <a:stretch/>
        </p:blipFill>
        <p:spPr>
          <a:xfrm>
            <a:off x="611280" y="476280"/>
            <a:ext cx="728496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КУЮ ПТИЦУ НАЗЫВАЮТ ЛЕСНЫМ ДОКТОРОМ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ТУХ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УБЬ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ОКА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Я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redbel2s"/>
          <p:cNvPicPr/>
          <p:nvPr/>
        </p:nvPicPr>
        <p:blipFill>
          <a:blip r:embed="rId1"/>
          <a:stretch/>
        </p:blipFill>
        <p:spPr>
          <a:xfrm>
            <a:off x="755640" y="1484280"/>
            <a:ext cx="7800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КАЯ ПТИЦА - СИМВОЛ ЧИСТОТЫ  И   МИРА?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Я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31:24Z</dcterms:created>
  <dc:creator>Мама</dc:creator>
  <dc:description/>
  <dc:language>en-US</dc:language>
  <cp:lastModifiedBy>Баранова</cp:lastModifiedBy>
  <dcterms:modified xsi:type="dcterms:W3CDTF">2012-03-11T12:41:37Z</dcterms:modified>
  <cp:revision>10</cp:revision>
  <dc:subject/>
  <dc:title>В И К Т О Р И Н А </dc:title>
</cp:coreProperties>
</file>