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gif" ContentType="image/gif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4.gif" ContentType="image/gif"/>
  <Override PartName="/ppt/media/image4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8.gif" ContentType="image/gif"/>
  <Override PartName="/ppt/media/image33.gif" ContentType="image/gif"/>
  <Override PartName="/ppt/media/image44.jpeg" ContentType="image/jpeg"/>
  <Override PartName="/ppt/media/image49.png" ContentType="image/png"/>
  <Override PartName="/ppt/media/image51.png" ContentType="image/png"/>
  <Override PartName="/ppt/media/image50.gif" ContentType="image/gif"/>
  <Override PartName="/ppt/media/image36.gif" ContentType="image/gif"/>
  <Override PartName="/ppt/media/image30.gif" ContentType="image/gif"/>
  <Override PartName="/ppt/media/image12.gif" ContentType="image/gif"/>
  <Override PartName="/ppt/media/image3.jpeg" ContentType="image/jpeg"/>
  <Override PartName="/ppt/media/image24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37.gif" ContentType="image/gif"/>
  <Override PartName="/ppt/media/image31.gif" ContentType="image/gif"/>
  <Override PartName="/ppt/media/image11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BB3-0698-4734-AB47-F9553106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ECB-B4BC-4728-9F41-50CF4F52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0CE-3AD3-4B0E-8D24-8D3B3F61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FFE-7A12-4412-8865-671BD67C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88A-AA96-4C02-8FD0-9A54B390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B9A-D551-4274-BBFA-DA06832E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DBE-55E7-47FC-9E22-696DD6C4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138-FB82-4308-A2FA-79B5B89D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BF4-500D-4C08-A460-4CCD33E7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03E-799D-4C55-A953-49FF3CB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B36-F569-4A60-BC18-7B35490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0D9-3F95-45EE-A88B-193DFE54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452E-4861-46C3-8E58-6F23780D3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12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image" Target="../media/image35.gif"/><Relationship Id="rId9" Type="http://schemas.openxmlformats.org/officeDocument/2006/relationships/image" Target="../media/image36.gif"/><Relationship Id="rId10" Type="http://schemas.openxmlformats.org/officeDocument/2006/relationships/image" Target="../media/image37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052360" y="3326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89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Формирование ценностного отношения к здоровью и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1290600" cy="1290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3"/>
          <a:stretch/>
        </p:blipFill>
        <p:spPr>
          <a:xfrm>
            <a:off x="155520" y="3390840"/>
            <a:ext cx="4340160" cy="325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227640" y="5013360"/>
            <a:ext cx="1656000" cy="1263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724280" y="12193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52000" y="332640"/>
            <a:ext cx="3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900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Воспитание ценностного отношения к природе, окружающей среде. (экологическое воспит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62520" y="1905120"/>
            <a:ext cx="4952880" cy="329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33520" y="415296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360" y="3326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6028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Воспитание ценностного отношения к прекрасному, формирование представлений об эстетических идеалах и ценностях (эстетическое воспит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05480" y="3813120"/>
            <a:ext cx="4462200" cy="2975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6320" y="2421000"/>
            <a:ext cx="44654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1195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124000" y="1052640"/>
            <a:ext cx="4876920" cy="4647600"/>
            <a:chOff x="2124000" y="1052640"/>
            <a:chExt cx="4876920" cy="4647600"/>
          </a:xfrm>
        </p:grpSpPr>
        <p:sp>
          <p:nvSpPr>
            <p:cNvPr id="134" name=""/>
            <p:cNvSpPr/>
            <p:nvPr/>
          </p:nvSpPr>
          <p:spPr>
            <a:xfrm>
              <a:off x="4105080" y="105264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86520" y="288108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05080" y="478620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24000" y="295740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33480" y="158580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76680" y="158580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53000" y="417636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57520" y="425268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0520" y="2576160"/>
              <a:ext cx="1485720" cy="1485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62280" y="1966680"/>
              <a:ext cx="0" cy="685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38400" y="3338280"/>
              <a:ext cx="800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43320" y="3718800"/>
              <a:ext cx="64764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62280" y="4024080"/>
              <a:ext cx="0" cy="799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3338280"/>
              <a:ext cx="838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095800" y="2271600"/>
              <a:ext cx="533520" cy="532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5095800" y="3871440"/>
              <a:ext cx="571680" cy="45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95600" y="2347560"/>
              <a:ext cx="571680" cy="45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95600" y="4938480"/>
              <a:ext cx="60948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3480" y="3871800"/>
              <a:ext cx="228600" cy="45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733120" y="2423880"/>
              <a:ext cx="22860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571920" y="1509480"/>
              <a:ext cx="533160" cy="228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19480" y="1509480"/>
              <a:ext cx="53352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38800" y="2423880"/>
              <a:ext cx="228600" cy="45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238440" y="3795480"/>
              <a:ext cx="228600" cy="45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19120" y="4938480"/>
              <a:ext cx="68580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410080" y="38088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067280" y="981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508720" y="162864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556000" y="4292640"/>
            <a:ext cx="9745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962520" y="2590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6084720" y="2852640"/>
            <a:ext cx="1143000" cy="939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580000" y="4149720"/>
            <a:ext cx="87336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3995640" y="4581360"/>
            <a:ext cx="1274760" cy="1295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2843280" y="1052640"/>
            <a:ext cx="901800" cy="1371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68360" y="476280"/>
            <a:ext cx="7991280" cy="28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45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приоритетные</a:t>
            </a:r>
            <a:endParaRPr b="0" lang="en-US" sz="1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32000" y="5229360"/>
            <a:ext cx="32004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направления</a:t>
            </a:r>
            <a:endParaRPr b="0" lang="en-US" sz="9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504800" cy="885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187920"/>
            <a:ext cx="85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Учебная и внеучебная воспит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деятельность в классных коллекти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" descr="P1030491.JPG"/>
          <p:cNvPicPr/>
          <p:nvPr/>
        </p:nvPicPr>
        <p:blipFill>
          <a:blip r:embed="rId3"/>
          <a:stretch/>
        </p:blipFill>
        <p:spPr>
          <a:xfrm>
            <a:off x="441972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IMG_3502"/>
          <p:cNvPicPr/>
          <p:nvPr/>
        </p:nvPicPr>
        <p:blipFill>
          <a:blip r:embed="rId4"/>
          <a:stretch/>
        </p:blipFill>
        <p:spPr>
          <a:xfrm>
            <a:off x="838080" y="3984480"/>
            <a:ext cx="3733920" cy="279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P1020106"/>
          <p:cNvPicPr/>
          <p:nvPr/>
        </p:nvPicPr>
        <p:blipFill>
          <a:blip r:embed="rId5"/>
          <a:stretch/>
        </p:blipFill>
        <p:spPr>
          <a:xfrm>
            <a:off x="45720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P1020027"/>
          <p:cNvPicPr/>
          <p:nvPr/>
        </p:nvPicPr>
        <p:blipFill>
          <a:blip r:embed="rId6"/>
          <a:stretch/>
        </p:blipFill>
        <p:spPr>
          <a:xfrm>
            <a:off x="5029200" y="3962520"/>
            <a:ext cx="37339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школа 058"/>
          <p:cNvPicPr/>
          <p:nvPr/>
        </p:nvPicPr>
        <p:blipFill>
          <a:blip r:embed="rId2"/>
          <a:stretch/>
        </p:blipFill>
        <p:spPr>
          <a:xfrm>
            <a:off x="1908000" y="1916280"/>
            <a:ext cx="4681800" cy="33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00000" y="1125360"/>
            <a:ext cx="6912000" cy="468000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981000"/>
            <a:ext cx="2951280" cy="1224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981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Учит быть требовательными, объективными, самостояте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2781360"/>
            <a:ext cx="2951280" cy="1224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8720" y="278136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Способствует воспитанию чувства ответственности и колле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4869000"/>
            <a:ext cx="2950920" cy="1224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5013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Вырабатывает правильное отношение к кри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437000"/>
            <a:ext cx="2951280" cy="1224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4437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Создает условия для проявления и развития способностей каждого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1413000"/>
            <a:ext cx="3095640" cy="1295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15573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Учит ребят умению руководить и подчин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6028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САМОУ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560" y="105480"/>
            <a:ext cx="86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Традиционные общешкольные меро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50840" y="4176720"/>
            <a:ext cx="2765520" cy="2077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971640" y="645336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8 МАРТА</a:t>
            </a:r>
            <a:endParaRPr b="0" lang="en-US" sz="9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93" name="Picture 3" descr="E:\классный\грамоты\фото\SAM_2478.JPG"/>
          <p:cNvPicPr/>
          <p:nvPr/>
        </p:nvPicPr>
        <p:blipFill>
          <a:blip r:embed="rId3"/>
          <a:stretch/>
        </p:blipFill>
        <p:spPr>
          <a:xfrm>
            <a:off x="6300720" y="4149720"/>
            <a:ext cx="2772000" cy="2079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7236000" y="638172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ЫПУСКНОЙ</a:t>
            </a:r>
            <a:endParaRPr b="0" lang="en-US" sz="9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3048120" y="892080"/>
            <a:ext cx="3089160" cy="2105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284720" y="320040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ОВЫЙ ГОД</a:t>
            </a:r>
            <a:endParaRPr b="0" lang="en-US" sz="9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97" name="Picture 2" descr="E:\классный\грамоты\фото\к.jpg"/>
          <p:cNvPicPr/>
          <p:nvPr/>
        </p:nvPicPr>
        <p:blipFill>
          <a:blip r:embed="rId5"/>
          <a:stretch/>
        </p:blipFill>
        <p:spPr>
          <a:xfrm>
            <a:off x="3205080" y="4221000"/>
            <a:ext cx="2879640" cy="2041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211640" y="645336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ЕНЬ ПОБЕДЫ</a:t>
            </a:r>
            <a:endParaRPr b="0" lang="en-US" sz="9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99" name="Picture 5" descr="E:\классный\грамоты\фото\491.JPG"/>
          <p:cNvPicPr/>
          <p:nvPr/>
        </p:nvPicPr>
        <p:blipFill>
          <a:blip r:embed="rId6"/>
          <a:stretch/>
        </p:blipFill>
        <p:spPr>
          <a:xfrm>
            <a:off x="144360" y="863640"/>
            <a:ext cx="2843280" cy="2133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971640" y="321300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ЕНЬ ЗНАНИЙ</a:t>
            </a:r>
            <a:endParaRPr b="0" lang="en-US" sz="9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6248520" y="9144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6934320" y="320040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АСЛЕННИЦА</a:t>
            </a:r>
            <a:endParaRPr b="0" lang="en-US" sz="9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10800" y="29160"/>
            <a:ext cx="75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Система дополнительно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3880"/>
            <a:ext cx="2590560" cy="106704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581280"/>
            <a:ext cx="2819520" cy="990720"/>
          </a:xfrm>
          <a:prstGeom prst="rect">
            <a:avLst/>
          </a:prstGeom>
          <a:solidFill>
            <a:srgbClr val="a0c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6002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Экологическое объединение «РОДНИ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685800"/>
            <a:ext cx="2590560" cy="1066680"/>
          </a:xfrm>
          <a:prstGeom prst="rect">
            <a:avLst/>
          </a:prstGeom>
          <a:solidFill>
            <a:srgbClr val="a0cbf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1523880"/>
            <a:ext cx="2590920" cy="1067040"/>
          </a:xfrm>
          <a:prstGeom prst="rect">
            <a:avLst/>
          </a:prstGeom>
          <a:solidFill>
            <a:srgbClr val="a0cbf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838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Школьный музей «ОТЗОВИСЬ, ПАМЯТЬ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159876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Спортивный          клуб       «ПРОМЕТ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657600"/>
            <a:ext cx="2438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Круж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«Безопасное колес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3581280"/>
            <a:ext cx="2819520" cy="990720"/>
          </a:xfrm>
          <a:prstGeom prst="rect">
            <a:avLst/>
          </a:prstGeom>
          <a:solidFill>
            <a:srgbClr val="a0c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3657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Туристический кружок  «Комп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648320"/>
            <a:ext cx="2819520" cy="990360"/>
          </a:xfrm>
          <a:prstGeom prst="rect">
            <a:avLst/>
          </a:prstGeom>
          <a:solidFill>
            <a:srgbClr val="a0c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4648320"/>
            <a:ext cx="2819520" cy="990360"/>
          </a:xfrm>
          <a:prstGeom prst="rect">
            <a:avLst/>
          </a:prstGeom>
          <a:solidFill>
            <a:srgbClr val="a0c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5715000"/>
            <a:ext cx="2819160" cy="990720"/>
          </a:xfrm>
          <a:prstGeom prst="rect">
            <a:avLst/>
          </a:prstGeom>
          <a:solidFill>
            <a:srgbClr val="a0c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Компьютерный кружок  «Смайл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38680" y="4800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Технический кружок  «Умелые ру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58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Школьная газета «Школьная стр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2666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10280" y="2971800"/>
            <a:ext cx="0" cy="6094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2971800"/>
            <a:ext cx="0" cy="6094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133720" y="1752480"/>
            <a:ext cx="4876560" cy="3962520"/>
            <a:chOff x="2133720" y="1752480"/>
            <a:chExt cx="4876560" cy="3962520"/>
          </a:xfrm>
        </p:grpSpPr>
        <p:sp>
          <p:nvSpPr>
            <p:cNvPr id="224" name=""/>
            <p:cNvSpPr/>
            <p:nvPr/>
          </p:nvSpPr>
          <p:spPr>
            <a:xfrm>
              <a:off x="3276720" y="2743200"/>
              <a:ext cx="2590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67280" y="2971800"/>
              <a:ext cx="1143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33720" y="2971800"/>
              <a:ext cx="1143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57800" y="3352680"/>
              <a:ext cx="457200" cy="1295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352320" y="3352680"/>
              <a:ext cx="381240" cy="1295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5680" y="335268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495680" y="1752480"/>
              <a:ext cx="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410080" y="2209680"/>
              <a:ext cx="914400" cy="5335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2895480" y="2209680"/>
              <a:ext cx="990720" cy="5335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581280" y="2743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79280" y="260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Путь социализации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5921280"/>
            <a:ext cx="2089440" cy="936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8000" y="3645000"/>
            <a:ext cx="2484360" cy="720720"/>
            <a:chOff x="108000" y="3645000"/>
            <a:chExt cx="2484360" cy="720720"/>
          </a:xfrm>
        </p:grpSpPr>
        <p:sp>
          <p:nvSpPr>
            <p:cNvPr id="237" name=""/>
            <p:cNvSpPr/>
            <p:nvPr/>
          </p:nvSpPr>
          <p:spPr>
            <a:xfrm>
              <a:off x="108000" y="3645000"/>
              <a:ext cx="2484360" cy="720720"/>
            </a:xfrm>
            <a:prstGeom prst="ellipse">
              <a:avLst/>
            </a:prstGeom>
            <a:solidFill>
              <a:srgbClr val="9966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1440" y="371808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гума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58920" y="2492280"/>
            <a:ext cx="2484360" cy="647640"/>
            <a:chOff x="1258920" y="2492280"/>
            <a:chExt cx="2484360" cy="647640"/>
          </a:xfrm>
        </p:grpSpPr>
        <p:sp>
          <p:nvSpPr>
            <p:cNvPr id="240" name=""/>
            <p:cNvSpPr/>
            <p:nvPr/>
          </p:nvSpPr>
          <p:spPr>
            <a:xfrm>
              <a:off x="1258920" y="2492280"/>
              <a:ext cx="2484360" cy="647640"/>
            </a:xfrm>
            <a:prstGeom prst="ellipse">
              <a:avLst/>
            </a:prstGeom>
            <a:solidFill>
              <a:srgbClr val="00ffcc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9280" y="263664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духо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9640" y="1125360"/>
            <a:ext cx="2665080" cy="647640"/>
            <a:chOff x="539640" y="1125360"/>
            <a:chExt cx="2665080" cy="647640"/>
          </a:xfrm>
        </p:grpSpPr>
        <p:sp>
          <p:nvSpPr>
            <p:cNvPr id="243" name=""/>
            <p:cNvSpPr/>
            <p:nvPr/>
          </p:nvSpPr>
          <p:spPr>
            <a:xfrm>
              <a:off x="539640" y="1125360"/>
              <a:ext cx="2626560" cy="647640"/>
            </a:xfrm>
            <a:prstGeom prst="ellipse">
              <a:avLst/>
            </a:prstGeom>
            <a:solidFill>
              <a:srgbClr val="ff6600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880" y="126972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индивиду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059280" y="4437000"/>
            <a:ext cx="2484360" cy="647640"/>
            <a:chOff x="3059280" y="4437000"/>
            <a:chExt cx="2484360" cy="647640"/>
          </a:xfrm>
        </p:grpSpPr>
        <p:sp>
          <p:nvSpPr>
            <p:cNvPr id="246" name=""/>
            <p:cNvSpPr/>
            <p:nvPr/>
          </p:nvSpPr>
          <p:spPr>
            <a:xfrm>
              <a:off x="3059280" y="4437000"/>
              <a:ext cx="2484360" cy="647640"/>
            </a:xfrm>
            <a:prstGeom prst="ellipse">
              <a:avLst/>
            </a:prstGeom>
            <a:solidFill>
              <a:srgbClr val="ffff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0920" y="4581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атриот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940360" y="5157720"/>
            <a:ext cx="2449440" cy="576360"/>
            <a:chOff x="5940360" y="5157720"/>
            <a:chExt cx="2449440" cy="576360"/>
          </a:xfrm>
        </p:grpSpPr>
        <p:sp>
          <p:nvSpPr>
            <p:cNvPr id="249" name=""/>
            <p:cNvSpPr/>
            <p:nvPr/>
          </p:nvSpPr>
          <p:spPr>
            <a:xfrm>
              <a:off x="5940360" y="5157720"/>
              <a:ext cx="2449440" cy="576360"/>
            </a:xfrm>
            <a:prstGeom prst="ellipse">
              <a:avLst/>
            </a:prstGeom>
            <a:solidFill>
              <a:srgbClr val="ff000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9440" y="523080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толерант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2484360" y="5733720"/>
            <a:ext cx="4680000" cy="863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4941720"/>
            <a:ext cx="3179880" cy="287640"/>
          </a:xfrm>
          <a:custGeom>
            <a:avLst/>
            <a:gdLst/>
            <a:ahLst/>
            <a:rect l="l" t="t" r="r" b="b"/>
            <a:pathLst>
              <a:path w="2003" h="408">
                <a:moveTo>
                  <a:pt x="1678" y="408"/>
                </a:moveTo>
                <a:cubicBezTo>
                  <a:pt x="1840" y="328"/>
                  <a:pt x="2003" y="249"/>
                  <a:pt x="1723" y="181"/>
                </a:cubicBezTo>
                <a:cubicBezTo>
                  <a:pt x="1443" y="113"/>
                  <a:pt x="287" y="30"/>
                  <a:pt x="0" y="0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4365720"/>
            <a:ext cx="1439640" cy="287280"/>
          </a:xfrm>
          <a:custGeom>
            <a:avLst/>
            <a:gdLst/>
            <a:ahLst/>
            <a:rect l="l" t="t" r="r" b="b"/>
            <a:pathLst>
              <a:path w="953" h="272">
                <a:moveTo>
                  <a:pt x="953" y="272"/>
                </a:moveTo>
                <a:cubicBezTo>
                  <a:pt x="647" y="249"/>
                  <a:pt x="341" y="226"/>
                  <a:pt x="182" y="181"/>
                </a:cubicBezTo>
                <a:cubicBezTo>
                  <a:pt x="23" y="136"/>
                  <a:pt x="30" y="30"/>
                  <a:pt x="0" y="0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3141720"/>
            <a:ext cx="2471760" cy="588960"/>
          </a:xfrm>
          <a:custGeom>
            <a:avLst/>
            <a:gdLst/>
            <a:ahLst/>
            <a:rect l="l" t="t" r="r" b="b"/>
            <a:pathLst>
              <a:path w="1557" h="371">
                <a:moveTo>
                  <a:pt x="0" y="318"/>
                </a:moveTo>
                <a:cubicBezTo>
                  <a:pt x="627" y="344"/>
                  <a:pt x="1255" y="371"/>
                  <a:pt x="1406" y="318"/>
                </a:cubicBezTo>
                <a:cubicBezTo>
                  <a:pt x="1557" y="265"/>
                  <a:pt x="990" y="53"/>
                  <a:pt x="907" y="0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43280" y="-316080"/>
            <a:ext cx="4697640" cy="5112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90440" y="1639800"/>
            <a:ext cx="1212840" cy="1068480"/>
          </a:xfrm>
          <a:custGeom>
            <a:avLst/>
            <a:gdLst/>
            <a:ahLst/>
            <a:rect l="l" t="t" r="r" b="b"/>
            <a:pathLst>
              <a:path w="719" h="628">
                <a:moveTo>
                  <a:pt x="719" y="628"/>
                </a:moveTo>
                <a:cubicBezTo>
                  <a:pt x="397" y="495"/>
                  <a:pt x="76" y="363"/>
                  <a:pt x="38" y="265"/>
                </a:cubicBezTo>
                <a:cubicBezTo>
                  <a:pt x="0" y="167"/>
                  <a:pt x="409" y="76"/>
                  <a:pt x="492" y="38"/>
                </a:cubicBezTo>
                <a:cubicBezTo>
                  <a:pt x="575" y="0"/>
                  <a:pt x="556" y="19"/>
                  <a:pt x="537" y="38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132000" y="1341000"/>
            <a:ext cx="2087640" cy="1429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1476360" y="55897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300720" y="549360"/>
            <a:ext cx="230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РЕЗУЛЬТАТ 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развитие нравстве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личности ученика чере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различные асп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воспита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и приближение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к идеальной мод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выпуск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11280" y="530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156360" y="46080"/>
            <a:ext cx="2914560" cy="3887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124080" y="4038480"/>
            <a:ext cx="63374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Способен, как сказал поэт, во всем дойти до самой су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0" i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выбор сделает он сам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Уж, взрослые, не обессудь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Он может что-то создавать, не только потреблять бездум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Реализовывать себя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он станет в обществе разум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Он в жизни место отыскать</a:t>
            </a:r>
            <a:r>
              <a:rPr b="0" i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стремиться будет —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добьётся,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Готовый к измененьям сам, изменит жизнь</a:t>
            </a:r>
            <a:r>
              <a:rPr b="0" i="1" lang="en-US" sz="1600" spc="-1" strike="noStrike">
                <a:solidFill>
                  <a:srgbClr val="000099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когда придё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09440" y="2852640"/>
            <a:ext cx="2949840" cy="3934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24000" y="17640"/>
            <a:ext cx="50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МОДЕЛЬ ВЫПУСК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50800"/>
            <a:ext cx="73087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Вот перед нами выпускник, пусть идеальный он в мо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Но, эту очертив модель, к ней приближаемся на де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Культурный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уровень высок, равно как и</a:t>
            </a:r>
            <a:r>
              <a:rPr b="0" i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интеллектуальный,</a:t>
            </a:r>
            <a:r>
              <a:rPr b="0" i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Разносторонний интеллект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не будет качеством форма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Понятья —</a:t>
            </a:r>
            <a:r>
              <a:rPr b="0" i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нравственность и честь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— здесь тоже не пустые зв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Признанье ценностей людских не даст ему завянуть в ску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Он может всё. Он</a:t>
            </a:r>
            <a:r>
              <a:rPr b="0" i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мыслит сам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Способен</a:t>
            </a:r>
            <a:r>
              <a:rPr b="0" i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разрешить пробле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Из ситуации простой не сделав сложную дилем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Изображение 031"/>
          <p:cNvPicPr/>
          <p:nvPr/>
        </p:nvPicPr>
        <p:blipFill>
          <a:blip r:embed="rId2"/>
          <a:stretch/>
        </p:blipFill>
        <p:spPr>
          <a:xfrm>
            <a:off x="3124080" y="12952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1020027"/>
          <p:cNvPicPr/>
          <p:nvPr/>
        </p:nvPicPr>
        <p:blipFill>
          <a:blip r:embed="rId3"/>
          <a:stretch/>
        </p:blipFill>
        <p:spPr>
          <a:xfrm>
            <a:off x="152280" y="129528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Изображение 020"/>
          <p:cNvPicPr/>
          <p:nvPr/>
        </p:nvPicPr>
        <p:blipFill>
          <a:blip r:embed="rId4"/>
          <a:stretch/>
        </p:blipFill>
        <p:spPr>
          <a:xfrm>
            <a:off x="6095880" y="1295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Изображение 019"/>
          <p:cNvPicPr/>
          <p:nvPr/>
        </p:nvPicPr>
        <p:blipFill>
          <a:blip r:embed="rId5"/>
          <a:stretch/>
        </p:blipFill>
        <p:spPr>
          <a:xfrm>
            <a:off x="392040" y="441972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Рисунок1"/>
          <p:cNvPicPr/>
          <p:nvPr/>
        </p:nvPicPr>
        <p:blipFill>
          <a:blip r:embed="rId6"/>
          <a:stretch/>
        </p:blipFill>
        <p:spPr>
          <a:xfrm>
            <a:off x="3581280" y="4343400"/>
            <a:ext cx="1984320" cy="21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Фото-0009"/>
          <p:cNvPicPr/>
          <p:nvPr/>
        </p:nvPicPr>
        <p:blipFill>
          <a:blip r:embed="rId7"/>
          <a:stretch/>
        </p:blipFill>
        <p:spPr>
          <a:xfrm>
            <a:off x="5943600" y="4343400"/>
            <a:ext cx="2878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764280"/>
            <a:ext cx="69134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ВОСПИТАТЕЛЬ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557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«СОЦИАЛИЗАЦИЯ СОВРЕМЕННОГО ВЫПУСК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0000" y="2637000"/>
            <a:ext cx="3959280" cy="395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4920" y="115920"/>
            <a:ext cx="85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БОУ «Верхнезаимская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редняя общеобразовательная школ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2560" y="181800"/>
            <a:ext cx="60314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578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Цели воспитательной 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29276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Развитие нравственной личности ученика через различные а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воспитательной деятельност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риближение его к идеальной модели выпуск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781680" y="609480"/>
            <a:ext cx="2114640" cy="281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1371600" y="3068280"/>
            <a:ext cx="5432400" cy="3103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3352680"/>
            <a:ext cx="3581280" cy="38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тремлюсь к идеалу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52280" y="5105520"/>
            <a:ext cx="22100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6280" y="105480"/>
            <a:ext cx="636372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578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Задачи воспитательной 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9280" y="3573360"/>
          <a:ext cx="5184720" cy="1079640"/>
        </p:xfrm>
        <a:graphic>
          <a:graphicData uri="http://schemas.openxmlformats.org/drawingml/2006/table">
            <a:tbl>
              <a:tblPr/>
              <a:tblGrid>
                <a:gridCol w="518472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Times New Roman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06520" y="5288760"/>
            <a:ext cx="2203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578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578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197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834840"/>
            <a:ext cx="842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Оказание помощи в выработке у ученика умения практической деятельности на основе полученных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Ориентация личности на гуманистические установки в новых социально- политических и экономических условиях общества, определение своего места и целей жизнедеятельности, формирование самосознания и гуманистически направленных высших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Формирование национального самосознания, гражданственности, патриотизма, уважения к законности и правопорядку, внутренней свободы и чувства собственного достои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Воспитание потребности к труду, целеустремлённости и предприимчивости, конкурентоспособности во всех сферах жизне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Воспитание потребности в занятиях физической культурой и здоровом образе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-1195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50920" y="1052640"/>
            <a:ext cx="4876920" cy="4647600"/>
            <a:chOff x="2050920" y="1052640"/>
            <a:chExt cx="4876920" cy="4647600"/>
          </a:xfrm>
        </p:grpSpPr>
        <p:sp>
          <p:nvSpPr>
            <p:cNvPr id="65" name=""/>
            <p:cNvSpPr/>
            <p:nvPr/>
          </p:nvSpPr>
          <p:spPr>
            <a:xfrm>
              <a:off x="4032000" y="105264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3440" y="288108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2000" y="478620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0920" y="295740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60400" y="158580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03600" y="158580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79920" y="417636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84440" y="4252680"/>
              <a:ext cx="914400" cy="914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27440" y="2576160"/>
              <a:ext cx="1485720" cy="1485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89200" y="1966680"/>
              <a:ext cx="0" cy="685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65320" y="3338280"/>
              <a:ext cx="800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270240" y="3718800"/>
              <a:ext cx="64764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489200" y="4024080"/>
              <a:ext cx="0" cy="799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75000" y="3338280"/>
              <a:ext cx="838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022720" y="2271600"/>
              <a:ext cx="533520" cy="532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5022720" y="3871440"/>
              <a:ext cx="571680" cy="45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22520" y="2347560"/>
              <a:ext cx="571680" cy="45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3862080" y="2990520"/>
              <a:ext cx="12574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Arial"/>
                </a:rPr>
                <a:t>Воспитание 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Arial"/>
                </a:rPr>
                <a:t>личности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4184640" y="1204560"/>
              <a:ext cx="6858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Земля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6165720" y="3109680"/>
              <a:ext cx="6858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Семья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5632200" y="4404960"/>
              <a:ext cx="6858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Труд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203200" y="3109680"/>
              <a:ext cx="6858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Мир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813040" y="1738080"/>
              <a:ext cx="6858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Чело-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век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2736720" y="4404960"/>
              <a:ext cx="6858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Куль-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тура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5556240" y="1738080"/>
              <a:ext cx="6858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Оте-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чест-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во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4108320" y="5014800"/>
              <a:ext cx="6858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339966"/>
                  </a:solidFill>
                  <a:latin typeface="Times New Roman"/>
                </a:rPr>
                <a:t>Знания</a:t>
              </a:r>
              <a:endPara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99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2520" y="4938480"/>
              <a:ext cx="60948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0400" y="3871800"/>
              <a:ext cx="228600" cy="45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660040" y="2423880"/>
              <a:ext cx="22860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498840" y="1509480"/>
              <a:ext cx="533160" cy="228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46400" y="1509480"/>
              <a:ext cx="53352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65720" y="2423880"/>
              <a:ext cx="228600" cy="45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165360" y="3795480"/>
              <a:ext cx="228600" cy="45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946040" y="4938480"/>
              <a:ext cx="68580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 txBox="1"/>
          <p:nvPr/>
        </p:nvSpPr>
        <p:spPr>
          <a:xfrm>
            <a:off x="684360" y="476280"/>
            <a:ext cx="7991280" cy="28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45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приоритетные</a:t>
            </a:r>
            <a:endParaRPr b="0" lang="en-US" sz="1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87640" y="5157720"/>
            <a:ext cx="32004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направления</a:t>
            </a:r>
            <a:endParaRPr b="0" lang="en-US" sz="9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12193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360" y="3326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Воспитание гражданственности, патриотизма, уважение к правам, свободам и обязанностям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4267440" cy="320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школа 058"/>
          <p:cNvPicPr/>
          <p:nvPr/>
        </p:nvPicPr>
        <p:blipFill>
          <a:blip r:embed="rId4"/>
          <a:stretch/>
        </p:blipFill>
        <p:spPr>
          <a:xfrm>
            <a:off x="82440" y="3657600"/>
            <a:ext cx="43372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2000" y="3326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60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Воспитание нравственных  чувств и этического с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3886200" cy="247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Picture 10" descr="G:\DCIM\103_PANA\P1030504.JPG"/>
          <p:cNvPicPr/>
          <p:nvPr/>
        </p:nvPicPr>
        <p:blipFill>
          <a:blip r:embed="rId3"/>
          <a:stretch/>
        </p:blipFill>
        <p:spPr>
          <a:xfrm>
            <a:off x="5257800" y="1371600"/>
            <a:ext cx="37450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52000" y="332640"/>
            <a:ext cx="3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6028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Воспитание трудолюбия, творческое отношение к учению, труду,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1825560" cy="187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280" y="3200400"/>
            <a:ext cx="4724640" cy="35434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P1030499.JPG"/>
          <p:cNvPicPr/>
          <p:nvPr/>
        </p:nvPicPr>
        <p:blipFill>
          <a:blip r:embed="rId4"/>
          <a:stretch/>
        </p:blipFill>
        <p:spPr>
          <a:xfrm>
            <a:off x="5181480" y="15238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P1030488.JPG"/>
          <p:cNvPicPr/>
          <p:nvPr/>
        </p:nvPicPr>
        <p:blipFill>
          <a:blip r:embed="rId5"/>
          <a:stretch/>
        </p:blipFill>
        <p:spPr>
          <a:xfrm>
            <a:off x="5181480" y="41911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7:46:13Z</dcterms:created>
  <dc:creator>user</dc:creator>
  <dc:description/>
  <dc:language>en-US</dc:language>
  <cp:lastModifiedBy>user</cp:lastModifiedBy>
  <dcterms:modified xsi:type="dcterms:W3CDTF">2012-03-10T06:45:52Z</dcterms:modified>
  <cp:revision>102</cp:revision>
  <dc:subject/>
  <dc:title>Слайд 1</dc:title>
</cp:coreProperties>
</file>