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345-CE9E-48F2-B20F-E4B76C11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DF2-7E59-4DA2-BD12-E30009D8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429-2EA2-45BC-8C25-2F69E1C5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F05-A5C7-4330-A868-628EF9A0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3468-A5F4-4CC3-9F86-FEDA5F38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D1C-B0ED-478C-91A6-B62B1A8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3BC-E1F1-43E9-8BC6-CD469FF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E6A9-5035-4939-84C2-257284D0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E81-D9DF-483D-A6A1-A52546F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727C-7CE1-4E90-BC25-EEE63FC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142D-A60F-44EC-8C02-A96C9941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517-4CAC-459A-BE22-284A880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09B-F50B-4797-A5C5-A140129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548-9F13-4C00-B429-20E3B30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B9E-CC81-484A-9EAB-0DEC042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8C1-D186-4757-AAB5-BE3368D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D12-2ABB-4DBC-B5E7-D7C64D56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C50-70C4-4F8F-9E09-78EBF0E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364-7E79-41DE-B228-65EC9EF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7D7-828B-4FA4-8E0C-7479F0C1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809-751E-47F6-BAF8-CBB53E14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232-9D23-4291-8571-3B25272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7DB-D231-4D5A-ADD8-29528E3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AEA-E729-487C-919D-80A837D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DBD0-EB89-4768-AF62-3C9946C21F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CD7-61D0-4B7E-A711-81B1918D18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Зачем нужна экономи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2997000"/>
            <a:ext cx="8207280" cy="338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Вспомнить что такое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что такое 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нять  зачем люди создали эконом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Узнать когда появилась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Только успешная экономическая деятельность может сделать любого человека или государство богатым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АТСТВО – это все то, что способно удовлетворять потребности людей, что им желанно, что они хотят получить в соб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ценнее: золото или ломоть хле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556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м мире  сейчас принято сравнивать богатство стран не по запасам золота, а по общей ценности товаров и услуг, изготовленных жителями каждой страны за год (ВВП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больше произведено, тем лучше организована хоз.деятельность в стране, тем богаче живут граждане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Чтение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отрывок из книги Рони-Старшего «Пещерный лев» и ответьте на вопрос 4 стр.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отрывок из книги Дефо «Приключения Робинзона Крузо»  и сформулируйте понятие «натуральное хозяй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омашнее задание: Глава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46280" cy="1803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1817640" cy="1735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1825560" cy="141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300720" y="393372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5600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2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40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533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Древняя Греция: «экономика» - законы домашнего хозяйства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Экономи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зяйство, совокупность средств, объектов, процессов, используемых людьми для обеспечения жизни, удовлетворения потребностей путем создания необходимых им благ с применением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-100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Экономи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ка о хозяйстве, способах его ведения людьми, отношениях между людьми в процессе производства и обмена товаров, закономерностях протекания хозяйственны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состоит из нужд и потребност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экономической деятельности людей – удовлетворение нужд и потре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на стр. 5 учебника Дайте определение «нужда» и «потребн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98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725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дам Смит «…потребности человека безграничны…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84360" y="4365720"/>
            <a:ext cx="1728720" cy="1361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226224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1841400" cy="959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56000" y="2133720"/>
            <a:ext cx="18288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500720" y="263700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40720" y="256536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284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740720" y="4437000"/>
            <a:ext cx="1073160" cy="13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В результате своей экономической деятельности человек создает БЛАГ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а – предметы и услуги, которые удовлетворяют нужды и потребност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ую деятельность людей можно назвать также «хозяйственной деятельност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Хозяйственная деятельность людей возникла примерно 2,5 млн. лет тому назад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а – начало использования орудий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– способы использования инструментов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Орудия труда совершенствовались также за счет того, что человек научился сотрудничать друг с другом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дите примеры кооперации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считаете, что  важнее в экономике: совершенствование оборудования или совершенствование способов организации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Хозяйственная деятельность – основа цивилизации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ИЛИЗАЦИЯ – уровень развития человеческого общества, который характеризуется высокой упорядоченностью организации его жизни, а также развитием науки, искусства и сопровождается созданием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5:36:52Z</dcterms:created>
  <dc:creator>Intel</dc:creator>
  <dc:description/>
  <dc:language>en-US</dc:language>
  <cp:lastModifiedBy>Intel</cp:lastModifiedBy>
  <dcterms:modified xsi:type="dcterms:W3CDTF">2009-07-09T12:12:34Z</dcterms:modified>
  <cp:revision>3</cp:revision>
  <dc:subject/>
  <dc:title>Тема урока: Зачем нужна экономика?</dc:title>
</cp:coreProperties>
</file>