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C3C-50B6-4687-8096-99D5E4D1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0AE-CB57-436F-81E9-353EEFFF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8DB-B9DF-4E2F-998A-F07E75E7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308-3C33-4310-ABA3-0BAAD8A1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AA73-01A5-4BC8-9085-63575EA5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0C2D-F6C8-4227-BBF4-F67A47D6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4CE1-2761-4FEA-9107-37128024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6574-DD58-4AF9-BA5F-9848C6F0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B686-06DF-4AB0-8CEA-9F461427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4E95-B1F8-4390-8EE4-1383CB8E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2B16-EE5D-4BD7-8747-56342EB1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DB9-1502-4586-A365-7FD05815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1664-626B-470C-B440-C6E70DDC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EBF6-F915-44DB-971C-EF91A45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585D-10C8-44DA-85C1-B0B93DF3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F02B-6873-4C56-9B03-7D71292F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57FC-0E80-4A77-AE66-1664BBAF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9F9-9920-4D72-A295-1249216D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032-62A8-4959-B06C-D43D86ED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4F5-81FE-402F-B751-056F9702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299-B927-45D8-A442-9FC53C6B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787-33FB-4E47-9D2F-417BE86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4F2-73BC-4717-A777-BAA64FCD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8EA-7EEF-4D99-BB5B-A089697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AF5-F5D3-40C8-BAC5-C99CDCC318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41F6-9A2C-4EE3-A202-EAF761A031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Характеристики жидкого состояния вещества.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менение данной темы в медицин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Графический дикта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565360"/>
            <a:ext cx="755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Физические основы клинического метода измерения давления кро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1989000"/>
            <a:ext cx="1943280" cy="16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1052640"/>
            <a:ext cx="2016360" cy="1655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924360" y="4508640"/>
            <a:ext cx="2374920" cy="1368360"/>
            <a:chOff x="3924360" y="4508640"/>
            <a:chExt cx="2374920" cy="1368360"/>
          </a:xfrm>
        </p:grpSpPr>
        <p:sp>
          <p:nvSpPr>
            <p:cNvPr id="128" name=""/>
            <p:cNvSpPr/>
            <p:nvPr/>
          </p:nvSpPr>
          <p:spPr>
            <a:xfrm>
              <a:off x="3924360" y="4508640"/>
              <a:ext cx="1655640" cy="13683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8000" y="4581360"/>
              <a:ext cx="1511280" cy="1114560"/>
            </a:xfrm>
            <a:prstGeom prst="cloudCallout">
              <a:avLst>
                <a:gd name="adj1" fmla="val -74791"/>
                <a:gd name="adj2" fmla="val 14487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2133720"/>
            <a:ext cx="7200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ПАСИБО ЗА РАБОТ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До новых встреч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17640"/>
            <a:ext cx="7164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Тестирование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Как работает сердц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как работает сердце"/>
          <p:cNvPicPr/>
          <p:nvPr/>
        </p:nvPicPr>
        <p:blipFill>
          <a:blip r:embed="rId1"/>
          <a:stretch/>
        </p:blipFill>
        <p:spPr>
          <a:xfrm>
            <a:off x="2268360" y="1484280"/>
            <a:ext cx="4575240" cy="5229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80360" y="4941720"/>
            <a:ext cx="1368360" cy="863640"/>
          </a:xfrm>
          <a:custGeom>
            <a:avLst/>
            <a:gdLst>
              <a:gd name="textAreaLeft" fmla="*/ 55800 w 1368360"/>
              <a:gd name="textAreaRight" fmla="*/ 1312560 w 1368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4218" h="21600">
                <a:moveTo>
                  <a:pt x="0" y="0"/>
                </a:moveTo>
                <a:lnTo>
                  <a:pt x="34218" y="0"/>
                </a:lnTo>
                <a:lnTo>
                  <a:pt x="34218" y="21600"/>
                </a:lnTo>
                <a:lnTo>
                  <a:pt x="0" y="21600"/>
                </a:lnTo>
                <a:close/>
              </a:path>
              <a:path fill="lightenLess" w="34218" h="21600">
                <a:moveTo>
                  <a:pt x="0" y="0"/>
                </a:moveTo>
                <a:lnTo>
                  <a:pt x="34218" y="0"/>
                </a:lnTo>
                <a:lnTo>
                  <a:pt x="32818" y="1400"/>
                </a:lnTo>
                <a:lnTo>
                  <a:pt x="1400" y="1400"/>
                </a:lnTo>
                <a:close/>
              </a:path>
              <a:path fill="darken" w="34218" h="21600">
                <a:moveTo>
                  <a:pt x="34218" y="0"/>
                </a:moveTo>
                <a:lnTo>
                  <a:pt x="34218" y="21600"/>
                </a:lnTo>
                <a:lnTo>
                  <a:pt x="32818" y="20200"/>
                </a:lnTo>
                <a:lnTo>
                  <a:pt x="32818" y="1400"/>
                </a:lnTo>
                <a:close/>
              </a:path>
              <a:path fill="darkenLess" w="34218" h="21600">
                <a:moveTo>
                  <a:pt x="34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18" y="20200"/>
                </a:lnTo>
                <a:close/>
              </a:path>
              <a:path fill="lighten" w="34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18" h="21600">
                <a:moveTo>
                  <a:pt x="10103" y="7301"/>
                </a:moveTo>
                <a:lnTo>
                  <a:pt x="11016" y="7301"/>
                </a:lnTo>
                <a:lnTo>
                  <a:pt x="11399" y="7667"/>
                </a:lnTo>
                <a:lnTo>
                  <a:pt x="20608" y="7667"/>
                </a:lnTo>
                <a:lnTo>
                  <a:pt x="21165" y="8224"/>
                </a:lnTo>
                <a:lnTo>
                  <a:pt x="21165" y="8772"/>
                </a:lnTo>
                <a:lnTo>
                  <a:pt x="23010" y="8772"/>
                </a:lnTo>
                <a:lnTo>
                  <a:pt x="23376" y="8224"/>
                </a:lnTo>
                <a:lnTo>
                  <a:pt x="24115" y="8224"/>
                </a:lnTo>
                <a:lnTo>
                  <a:pt x="24115" y="13376"/>
                </a:lnTo>
                <a:lnTo>
                  <a:pt x="23376" y="13376"/>
                </a:lnTo>
                <a:lnTo>
                  <a:pt x="23010" y="12828"/>
                </a:lnTo>
                <a:lnTo>
                  <a:pt x="21165" y="12828"/>
                </a:lnTo>
                <a:lnTo>
                  <a:pt x="21165" y="14107"/>
                </a:lnTo>
                <a:lnTo>
                  <a:pt x="11582" y="14107"/>
                </a:lnTo>
                <a:lnTo>
                  <a:pt x="11582" y="9877"/>
                </a:lnTo>
                <a:lnTo>
                  <a:pt x="11399" y="9877"/>
                </a:lnTo>
                <a:lnTo>
                  <a:pt x="11016" y="10243"/>
                </a:lnTo>
                <a:lnTo>
                  <a:pt x="10103" y="1024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Приборы для измерения АД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06" name="_s71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7179"/>
            <p:cNvCxnSpPr>
              <a:stCxn id="110" idx="0"/>
              <a:endCxn id="108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7178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7174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приборов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ля измерения АД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7175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cc"/>
                  </a:solidFill>
                  <a:uFillTx/>
                  <a:latin typeface="Arial"/>
                  <a:hlinkClick r:id="rId1" action="ppaction://hlinksldjump"/>
                </a:rPr>
                <a:t>Ручные</a:t>
              </a:r>
              <a:r>
                <a:rPr b="0" lang="en-US" sz="21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7176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Полуавтоматические</a:t>
              </a:r>
              <a:r>
                <a:rPr b="0" lang="en-US" sz="21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7177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cc"/>
                  </a:solidFill>
                  <a:uFillTx/>
                  <a:latin typeface="Arial"/>
                  <a:hlinkClick r:id="rId3" action="ppaction://hlinksldjump"/>
                </a:rPr>
                <a:t>Автоматические</a:t>
              </a:r>
              <a:r>
                <a:rPr b="0" lang="en-US" sz="2100" spc="-1" strike="noStrike" u="sng">
                  <a:solidFill>
                    <a:srgbClr val="ffffcc"/>
                  </a:solidFill>
                  <a:uFillTx/>
                  <a:latin typeface="Arial"/>
                  <a:hlinkClick r:id="rId4" action="ppaction://hlinksldjump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ручной тонометр"/>
          <p:cNvPicPr/>
          <p:nvPr/>
        </p:nvPicPr>
        <p:blipFill>
          <a:blip r:embed="rId1"/>
          <a:stretch/>
        </p:blipFill>
        <p:spPr>
          <a:xfrm>
            <a:off x="0" y="0"/>
            <a:ext cx="6130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5400000">
            <a:off x="4441680" y="2550960"/>
            <a:ext cx="666900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учно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полуавтоматический тонометр"/>
          <p:cNvPicPr/>
          <p:nvPr/>
        </p:nvPicPr>
        <p:blipFill>
          <a:blip r:embed="rId1"/>
          <a:stretch/>
        </p:blipFill>
        <p:spPr>
          <a:xfrm>
            <a:off x="0" y="33480"/>
            <a:ext cx="7596360" cy="686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 rot="5400000">
            <a:off x="4959720" y="2925000"/>
            <a:ext cx="6858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луавтоматически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автоматический тонометр"/>
          <p:cNvPicPr/>
          <p:nvPr/>
        </p:nvPicPr>
        <p:blipFill>
          <a:blip r:embed="rId1"/>
          <a:stretch/>
        </p:blipFill>
        <p:spPr>
          <a:xfrm>
            <a:off x="0" y="33480"/>
            <a:ext cx="65912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 rot="5400000">
            <a:off x="4418280" y="2817000"/>
            <a:ext cx="685800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Автоматически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вила измерение А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5357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427640" y="6021360"/>
            <a:ext cx="1944720" cy="836640"/>
          </a:xfrm>
          <a:custGeom>
            <a:avLst/>
            <a:gdLst>
              <a:gd name="textAreaLeft" fmla="*/ 54000 w 1944720"/>
              <a:gd name="textAreaRight" fmla="*/ 1890720 w 19447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50196" h="21600">
                <a:moveTo>
                  <a:pt x="0" y="0"/>
                </a:moveTo>
                <a:lnTo>
                  <a:pt x="50196" y="0"/>
                </a:lnTo>
                <a:lnTo>
                  <a:pt x="50196" y="21600"/>
                </a:lnTo>
                <a:lnTo>
                  <a:pt x="0" y="21600"/>
                </a:lnTo>
                <a:close/>
              </a:path>
              <a:path fill="lightenLess" w="50196" h="21600">
                <a:moveTo>
                  <a:pt x="0" y="0"/>
                </a:moveTo>
                <a:lnTo>
                  <a:pt x="50196" y="0"/>
                </a:lnTo>
                <a:lnTo>
                  <a:pt x="48796" y="1400"/>
                </a:lnTo>
                <a:lnTo>
                  <a:pt x="1400" y="1400"/>
                </a:lnTo>
                <a:close/>
              </a:path>
              <a:path fill="darken" w="50196" h="21600">
                <a:moveTo>
                  <a:pt x="50196" y="0"/>
                </a:moveTo>
                <a:lnTo>
                  <a:pt x="50196" y="21600"/>
                </a:lnTo>
                <a:lnTo>
                  <a:pt x="48796" y="20200"/>
                </a:lnTo>
                <a:lnTo>
                  <a:pt x="48796" y="1400"/>
                </a:lnTo>
                <a:close/>
              </a:path>
              <a:path fill="darkenLess" w="50196" h="21600">
                <a:moveTo>
                  <a:pt x="5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96" y="20200"/>
                </a:lnTo>
                <a:close/>
              </a:path>
              <a:path fill="lighten" w="5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196" h="21600">
                <a:moveTo>
                  <a:pt x="18091" y="7301"/>
                </a:moveTo>
                <a:lnTo>
                  <a:pt x="19005" y="7301"/>
                </a:lnTo>
                <a:lnTo>
                  <a:pt x="19388" y="7667"/>
                </a:lnTo>
                <a:lnTo>
                  <a:pt x="28597" y="7667"/>
                </a:lnTo>
                <a:lnTo>
                  <a:pt x="29154" y="8224"/>
                </a:lnTo>
                <a:lnTo>
                  <a:pt x="29154" y="8772"/>
                </a:lnTo>
                <a:lnTo>
                  <a:pt x="30999" y="8772"/>
                </a:lnTo>
                <a:lnTo>
                  <a:pt x="31364" y="8224"/>
                </a:lnTo>
                <a:lnTo>
                  <a:pt x="32104" y="8224"/>
                </a:lnTo>
                <a:lnTo>
                  <a:pt x="32104" y="13376"/>
                </a:lnTo>
                <a:lnTo>
                  <a:pt x="31364" y="13376"/>
                </a:lnTo>
                <a:lnTo>
                  <a:pt x="30999" y="12828"/>
                </a:lnTo>
                <a:lnTo>
                  <a:pt x="29154" y="12828"/>
                </a:lnTo>
                <a:lnTo>
                  <a:pt x="29154" y="14107"/>
                </a:lnTo>
                <a:lnTo>
                  <a:pt x="19571" y="14107"/>
                </a:lnTo>
                <a:lnTo>
                  <a:pt x="19571" y="9877"/>
                </a:lnTo>
                <a:lnTo>
                  <a:pt x="19388" y="9877"/>
                </a:lnTo>
                <a:lnTo>
                  <a:pt x="19005" y="10243"/>
                </a:lnTo>
                <a:lnTo>
                  <a:pt x="18091" y="1024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7:39:36Z</dcterms:created>
  <dc:creator>Alexandr</dc:creator>
  <dc:description/>
  <dc:language>en-US</dc:language>
  <cp:lastModifiedBy>Alexandr</cp:lastModifiedBy>
  <dcterms:modified xsi:type="dcterms:W3CDTF">2010-12-07T17:21:45Z</dcterms:modified>
  <cp:revision>5</cp:revision>
  <dc:subject/>
  <dc:title>Слайд 1</dc:title>
</cp:coreProperties>
</file>