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2.gif" ContentType="image/gif"/>
  <Override PartName="/ppt/media/image6.wmf" ContentType="image/x-wmf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14A-15EE-4CD6-8123-001B8CFF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177-2590-4C28-8819-2E9F4A51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59B-BEA8-47D0-9EBE-D949CD1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E48-895A-4D0D-B1F8-2D7F8AB7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CC0D-CEA7-4021-9222-211034BB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B5C-A704-4F8A-904F-5E1BD6C0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8C4-B718-4D8A-91ED-D787DB43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BECB-62F8-4A8D-949D-0FFEFBE5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4AA-9F67-4DF8-A485-ABEB59BA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B64-C1F6-447D-8D6F-A2ADDE2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809-4A7C-4AC8-AADB-62D321A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358-C230-441B-A852-A207A25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978-D682-46DC-BC48-7A5C3B7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937-3FCE-45A6-BB31-8D7F988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EC1-00D5-47FF-82C2-C914485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9F0-63A1-41F9-A2AA-AEB8F8F0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78EE-AD7F-4BA0-9A24-C1B9AD36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863-A9CE-4671-8EDB-3420203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ECB-83E6-4109-983F-3330FEC9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E78-C43C-4845-AAEF-A35BD14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9C3-A391-4F8E-BDEE-9CEF0E29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5A4-4817-4686-B4FD-44D983E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D03-E3B0-475F-943D-B2C1FD9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3A8-9361-4C19-BF10-A181D90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051-1FA9-4668-AA58-B761A52E4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354-B18C-4D26-AA70-686DA25A6BE3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Шестая районная конференция исследовательских работ школьников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«Твои первые открытия»                                                                                                            МОУ «Травниковская средняя общеобразовательная школа</a:t>
            </a: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»</a:t>
            </a:r>
            <a:br>
              <a:rPr sz="2000"/>
            </a:b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cc"/>
                </a:solidFill>
                <a:latin typeface="Times New Roman"/>
              </a:rPr>
              <a:t>Твои права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Times New Roman"/>
              </a:rPr>
              <a:t>Выполнила: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Марасанова Дарья,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10 класс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Times New Roman"/>
              </a:rPr>
              <a:t>Руководитель: 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Якимова О.Н.- учитель истории и обществозн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5" name="Picture 2" descr="488688947"/>
          <p:cNvPicPr/>
          <p:nvPr/>
        </p:nvPicPr>
        <p:blipFill>
          <a:blip r:embed="rId1"/>
          <a:srcRect l="0" t="0" r="0" b="5430"/>
          <a:stretch/>
        </p:blipFill>
        <p:spPr>
          <a:xfrm>
            <a:off x="4952880" y="2057400"/>
            <a:ext cx="3962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правовая грамотность учащихся явно недостаточна, учащиеся затрудняются в формулировании своих прав; некоторая часть учащихся не осознаёт важность прав, или не хочет их осознавать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учащиеся не знают документы, в которых зафиксированы права ребён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радует тот факт, что учащиеся готовы к защите своих прав и знают как и где это можно сделать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анкетирование показало необходимость и важность работы в направлении правового просвещения учащихся и ребята сами отмечают эту свою потребность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Классный час «Твои права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3" name="Picture 2" descr="C:\Documents and Settings\User\Рабочий стол\конф\P1000436.JPG"/>
          <p:cNvPicPr/>
          <p:nvPr/>
        </p:nvPicPr>
        <p:blipFill>
          <a:blip r:embed="rId1">
            <a:lum bright="10000"/>
          </a:blip>
          <a:srcRect l="20928" t="0" r="2330" b="16283"/>
          <a:stretch/>
        </p:blipFill>
        <p:spPr>
          <a:xfrm>
            <a:off x="228600" y="1371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Documents and Settings\User\Рабочий стол\конф\P1000439.JPG"/>
          <p:cNvPicPr/>
          <p:nvPr/>
        </p:nvPicPr>
        <p:blipFill>
          <a:blip r:embed="rId2">
            <a:lum bright="20000"/>
          </a:blip>
          <a:srcRect l="0" t="7021" r="0" b="5320"/>
          <a:stretch/>
        </p:blipFill>
        <p:spPr>
          <a:xfrm>
            <a:off x="2895480" y="1447920"/>
            <a:ext cx="2897280" cy="2057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User\Рабочий стол\конф\P1000443.JPG"/>
          <p:cNvPicPr/>
          <p:nvPr/>
        </p:nvPicPr>
        <p:blipFill>
          <a:blip r:embed="rId3">
            <a:lum bright="20000"/>
          </a:blip>
          <a:srcRect l="5656" t="21162" r="9470" b="6546"/>
          <a:stretch/>
        </p:blipFill>
        <p:spPr>
          <a:xfrm>
            <a:off x="5867280" y="1447920"/>
            <a:ext cx="310068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Documents and Settings\User\Рабочий стол\конф\P1000445.JPG"/>
          <p:cNvPicPr/>
          <p:nvPr/>
        </p:nvPicPr>
        <p:blipFill>
          <a:blip r:embed="rId4">
            <a:lum bright="10000"/>
          </a:blip>
          <a:srcRect l="9434" t="11103" r="5693" b="3397"/>
          <a:stretch/>
        </p:blipFill>
        <p:spPr>
          <a:xfrm>
            <a:off x="3276720" y="4191120"/>
            <a:ext cx="2770200" cy="2092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Documents and Settings\User\Рабочий стол\конф\P1000446.JPG"/>
          <p:cNvPicPr/>
          <p:nvPr/>
        </p:nvPicPr>
        <p:blipFill>
          <a:blip r:embed="rId5">
            <a:lum bright="20000"/>
          </a:blip>
          <a:srcRect l="0" t="11113" r="5657" b="5934"/>
          <a:stretch/>
        </p:blipFill>
        <p:spPr>
          <a:xfrm>
            <a:off x="6172200" y="4191120"/>
            <a:ext cx="281448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Documents and Settings\User\Рабочий стол\конф\P1000444.JPG"/>
          <p:cNvPicPr/>
          <p:nvPr/>
        </p:nvPicPr>
        <p:blipFill>
          <a:blip r:embed="rId6"/>
          <a:stretch/>
        </p:blipFill>
        <p:spPr>
          <a:xfrm>
            <a:off x="152280" y="4114800"/>
            <a:ext cx="29736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28240" y="3808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Цель: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выявить правовую грамотность учащихс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Объект исследования: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знание учащимися своих пра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Предмет исследования: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документы по вопросам прав ребёнка, принятые на международном и государственном уровня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7" name="Picture 2" descr="488688947"/>
          <p:cNvPicPr/>
          <p:nvPr/>
        </p:nvPicPr>
        <p:blipFill>
          <a:blip r:embed="rId1"/>
          <a:srcRect l="0" t="0" r="0" b="5430"/>
          <a:stretch/>
        </p:blipFill>
        <p:spPr>
          <a:xfrm>
            <a:off x="7391520" y="0"/>
            <a:ext cx="17524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Гипотеза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если учащиеся будут знать свои права и обязанности, то смогут с легкостью ими оперировать в любой жизненной ситуаци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Задачи:                                                                   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- изучить правовую базу защиты прав ребенка и литературу по данной теме, и на её основе составить анкеты;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- выявить знание учащимися своих прав;                                                                                   - оформить буклет по правам ребёнка;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cc"/>
                </a:solidFill>
                <a:latin typeface="Times New Roman"/>
              </a:rPr>
              <a:t>Этапы исследования:</a:t>
            </a:r>
            <a:br>
              <a:rPr sz="36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880" y="9144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"/>
              </a:rPr>
              <a:t>Анализ литературы по теме исследова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"/>
              </a:rPr>
              <a:t>Разработка анкет, анкетирование с целью 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ыявления знаний учащимися своих прав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"/>
              </a:rPr>
              <a:t>Анализ, интерпретация и оформление  собранных материал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Подготовка буклета , презентации и классного часа для учащихся 4-6 классов с целью популяризации прав ребёнка и расширения знаний учащихся в области обществозна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Рисунок 1" descr="i?id=136026216-10"/>
          <p:cNvPicPr/>
          <p:nvPr/>
        </p:nvPicPr>
        <p:blipFill>
          <a:blip r:embed="rId8"/>
          <a:stretch/>
        </p:blipFill>
        <p:spPr>
          <a:xfrm>
            <a:off x="7543800" y="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Times New Roman"/>
                <a:ea typeface="Arial"/>
              </a:rPr>
              <a:t>Результаты исследова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1.Считаете ли Вы необходимым знать о своих правах?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2. Назовите известные Вам права детей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3. В каких документах зафиксированы права детей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4. Если нарушены ваши права, куда Вы обратитесь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Object 5"/>
          <p:cNvGraphicFramePr/>
          <p:nvPr/>
        </p:nvGraphicFramePr>
        <p:xfrm>
          <a:off x="378000" y="685800"/>
          <a:ext cx="7851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685800"/>
                    <a:ext cx="7851600" cy="5715000"/>
                  </a:xfrm>
                  <a:prstGeom prst="rect">
                    <a:avLst/>
                  </a:prstGeom>
                  <a:ln w="9360">
                    <a:solidFill>
                      <a:srgbClr val="4a387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TextBox 3"/>
          <p:cNvSpPr/>
          <p:nvPr/>
        </p:nvSpPr>
        <p:spPr>
          <a:xfrm>
            <a:off x="7162920" y="6019920"/>
            <a:ext cx="1523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8305920" y="6095880"/>
            <a:ext cx="609480" cy="3812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9"/>
          <p:cNvGraphicFramePr/>
          <p:nvPr/>
        </p:nvGraphicFramePr>
        <p:xfrm>
          <a:off x="0" y="457200"/>
          <a:ext cx="8839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839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11"/>
          <p:cNvSpPr/>
          <p:nvPr/>
        </p:nvSpPr>
        <p:spPr>
          <a:xfrm>
            <a:off x="1066680" y="5334120"/>
            <a:ext cx="6400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0" y="4648320"/>
            <a:ext cx="86104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1. на образование                                                 4. на воспитание в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семь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2. на отдых и досуг                                               5. на жизнь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3. на свободное выражение мнения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6. на медицинскую помощь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Oval 8"/>
          <p:cNvSpPr/>
          <p:nvPr/>
        </p:nvSpPr>
        <p:spPr>
          <a:xfrm>
            <a:off x="8305920" y="6095880"/>
            <a:ext cx="609480" cy="3812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9"/>
          <p:cNvGraphicFramePr/>
          <p:nvPr/>
        </p:nvGraphicFramePr>
        <p:xfrm>
          <a:off x="762120" y="838080"/>
          <a:ext cx="7238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238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14"/>
          <p:cNvSpPr/>
          <p:nvPr/>
        </p:nvSpPr>
        <p:spPr>
          <a:xfrm>
            <a:off x="3049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 Не ответили    2. Конституция    3. Паспорт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8305920" y="6095880"/>
            <a:ext cx="609480" cy="3812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304920" y="914400"/>
          <a:ext cx="7162560" cy="48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71625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6"/>
          <p:cNvSpPr/>
          <p:nvPr/>
        </p:nvSpPr>
        <p:spPr>
          <a:xfrm>
            <a:off x="6019920" y="3581280"/>
            <a:ext cx="2286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1.Милиция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2.Родител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3.Суд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4.Учителя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5.Телефон доверия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2T08:47:1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