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gif" ContentType="image/gif"/>
  <Override PartName="/ppt/media/image12.gif" ContentType="image/gif"/>
  <Override PartName="/ppt/media/image16.gif" ContentType="image/gif"/>
  <Override PartName="/ppt/media/image14.jpeg" ContentType="image/jpeg"/>
  <Override PartName="/ppt/media/image2.png" ContentType="image/pn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1.jpeg" ContentType="image/jpeg"/>
  <Override PartName="/ppt/media/image13.png" ContentType="image/pn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83C-35A3-44AC-99E0-796C84FF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E39-AD87-4835-9EE6-BE9800D6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3FA6-5CD1-4541-A699-181BC90B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E8E3-AEEB-4152-A6EC-E2525AA9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B459-E3B5-462B-B2ED-BEDD81A4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484-6B25-4AAF-9D95-598D0BF7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086-7953-4887-8A92-95DF90C7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AEB-F22D-4455-BC10-C9149308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5F3-F838-4CF9-A25E-719BBA77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BCE-14A7-4E1B-8E1B-09BF040C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D7FF-E40B-4634-8504-A35A24D5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119-6330-4CB5-A6EE-C7056A4D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6C32-BFE9-4A71-9A4E-A97A5C7700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tatar.ru/images/image134.gif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064720" cy="1440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Государственная символ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084280"/>
            <a:ext cx="720072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3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у выполнила ученица 8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ар- Черкийской средней школы Апастовского муниципальн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байкина Екате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ruger"/>
          <p:cNvPicPr/>
          <p:nvPr/>
        </p:nvPicPr>
        <p:blipFill>
          <a:blip r:embed="rId1"/>
          <a:stretch/>
        </p:blipFill>
        <p:spPr>
          <a:xfrm>
            <a:off x="4788000" y="2708280"/>
            <a:ext cx="1266840" cy="151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rusflag"/>
          <p:cNvPicPr/>
          <p:nvPr/>
        </p:nvPicPr>
        <p:blipFill>
          <a:blip r:embed="rId2"/>
          <a:stretch/>
        </p:blipFill>
        <p:spPr>
          <a:xfrm>
            <a:off x="6443640" y="2708280"/>
            <a:ext cx="208764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611280" y="404640"/>
          <a:ext cx="7921440" cy="1524240"/>
        </p:xfrm>
        <a:graphic>
          <a:graphicData uri="http://schemas.openxmlformats.org/drawingml/2006/table">
            <a:tbl>
              <a:tblPr/>
              <a:tblGrid>
                <a:gridCol w="7921440"/>
              </a:tblGrid>
              <a:tr h="152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</a:t>
                      </a: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   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41" descr="image1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708280"/>
            <a:ext cx="1654200" cy="1530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3" descr="image118"/>
          <p:cNvPicPr/>
          <p:nvPr/>
        </p:nvPicPr>
        <p:blipFill>
          <a:blip r:embed="rId5"/>
          <a:stretch/>
        </p:blipFill>
        <p:spPr>
          <a:xfrm>
            <a:off x="2195640" y="2708280"/>
            <a:ext cx="2305080" cy="129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7"/>
          <p:cNvSpPr/>
          <p:nvPr/>
        </p:nvSpPr>
        <p:spPr>
          <a:xfrm>
            <a:off x="684360" y="1628640"/>
            <a:ext cx="7416720" cy="4235760"/>
          </a:xfrm>
          <a:prstGeom prst="rect">
            <a:avLst/>
          </a:prstGeom>
          <a:solidFill>
            <a:srgbClr val="ffffd9"/>
          </a:solidFill>
          <a:ln w="9360">
            <a:solidFill>
              <a:srgbClr val="ffdf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вои символы имеют и входящ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в  состав    России    республики.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мволика Татарстана утверждена Постановлением Верховного Совета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спублики Татарстан от 29 ноября 1991 года .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лаг с гербом как  отличительный знак государства выполняет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ункцию объединения народа и  является признаком его многовекового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ованного существования на определенной  территории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Флаг и герб выражают международное  признание республи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Российской Федерации, свидетельствуя о величии каждого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входящего в  нее народа и , будучи атрибутом   верховной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власти и суверенитета свободных республик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280" y="274320"/>
            <a:ext cx="5483160" cy="11430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c0000"/>
                </a:solidFill>
                <a:latin typeface="Arial"/>
              </a:rPr>
              <a:t>Символы моей республ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0" descr="reg16map"/>
          <p:cNvPicPr/>
          <p:nvPr/>
        </p:nvPicPr>
        <p:blipFill>
          <a:blip r:embed="rId1"/>
          <a:stretch/>
        </p:blipFill>
        <p:spPr>
          <a:xfrm>
            <a:off x="395280" y="239760"/>
            <a:ext cx="27367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c0000"/>
                </a:solidFill>
                <a:latin typeface="Arial"/>
              </a:rPr>
              <a:t>Флаг Татарста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c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ac0000"/>
                </a:solidFill>
                <a:latin typeface="Arial"/>
              </a:rPr>
              <a:t>Государственный флаг Татарстана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c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ac0000"/>
                </a:solidFill>
                <a:latin typeface="Arial"/>
              </a:rPr>
              <a:t>является символо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c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ac0000"/>
                </a:solidFill>
                <a:latin typeface="Arial"/>
              </a:rPr>
              <a:t>Республики Татарстан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Государственный флаг Республики Татарстан представляет собой прямоугольное полотнище с горизонтальными полосами зеленого, белого и красного цветов. Белая полоса составляет 1/15 ширины флага и расположена между равными по ширине полосами зеленого и красного цветов. Зеленая полоса наверху. Отношение ширины флага к его длине - 1:2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Цвета Государственного флага Республики Татарстан означают: зеленый - зелень весны, возрождение; белый - цвет чистоты; красный - зрелость, энергия, сила, жизнь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10920" y="1557360"/>
            <a:ext cx="38955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3" descr="flag"/>
          <p:cNvPicPr/>
          <p:nvPr/>
        </p:nvPicPr>
        <p:blipFill>
          <a:blip r:embed="rId1"/>
          <a:stretch/>
        </p:blipFill>
        <p:spPr>
          <a:xfrm>
            <a:off x="826920" y="1773360"/>
            <a:ext cx="3527640" cy="1800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4"/>
          <p:cNvSpPr/>
          <p:nvPr/>
        </p:nvSpPr>
        <p:spPr>
          <a:xfrm>
            <a:off x="468360" y="4127760"/>
            <a:ext cx="4032360" cy="161604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Автором Государственного флага Республики Татарстан является народный художник Республики Татарстан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лауреат Государственной премии имени Г. Тукая Тавиль Гиниатович Хазиахметов.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24720" cy="1070280"/>
          </a:xfrm>
          <a:prstGeom prst="rect">
            <a:avLst/>
          </a:prstGeom>
          <a:solidFill>
            <a:srgbClr val="ffffd9"/>
          </a:solidFill>
          <a:ln w="9360">
            <a:solidFill>
              <a:srgbClr val="fffff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c0000"/>
                </a:solidFill>
                <a:latin typeface="Arial"/>
              </a:rPr>
              <a:t>Герб Республики Татарст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516880" cy="5040360"/>
          </a:xfrm>
          <a:prstGeom prst="rect">
            <a:avLst/>
          </a:prstGeom>
          <a:solidFill>
            <a:srgbClr val="ffffd9"/>
          </a:solidFill>
          <a:ln w="9360">
            <a:solidFill>
              <a:srgbClr val="ffffd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4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40000"/>
                </a:solidFill>
                <a:latin typeface="Arial"/>
              </a:rPr>
              <a:t>Государственный герб Республики Татарстан является символом государства, его официальной эмблем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gerb"/>
          <p:cNvPicPr/>
          <p:nvPr/>
        </p:nvPicPr>
        <p:blipFill>
          <a:blip r:embed="rId1"/>
          <a:stretch/>
        </p:blipFill>
        <p:spPr>
          <a:xfrm>
            <a:off x="6156360" y="3357720"/>
            <a:ext cx="2448000" cy="23032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"/>
          <p:cNvSpPr/>
          <p:nvPr/>
        </p:nvSpPr>
        <p:spPr>
          <a:xfrm>
            <a:off x="395280" y="2957040"/>
            <a:ext cx="51134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Государственный герб Республики Татарстан представляет собой изображение крылатого барса с круглым щитом на боку, с приподнятой правой передней лапой на фоне диска солнца, помещенного в обрамление из татарского народного орнамента, в основании которого надпись "Татарстан", крылья состоят из семи перьев, розетка на щите состоит из восьми лепестков.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    Герб Республики Татарстан выполнен в цветах флага Татарстана; имеет круглую форму. 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95280" y="5511960"/>
            <a:ext cx="622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Автором Государственного герба Республики Татарстан является художник-монументалист, член Союза художников Татарста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Риф Загреевич Фахрутдинов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61930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Центральный образ герба - крылатый барс - в древности божество плодородия, покровитель детей. В гербе Республики Татарстан барс - покровитель граждан республики и ее народа.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    Барс изображен на фоне красного диска солнца. Солнце - в древности главное божество многих народов. Красное солнце на гербе Татарстана означает доброе знамение, успех, счастье, жизнь.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    На левом боку барса - круглый щит, означающий правовую, экономическую, силовую защищенность граждан Республики Татарстан.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    В цветном изображении Государственного герба Республики Татарстан солнце - красного, барс, его крылья и розетка на щите - белого, обрамление - зеленого, щит, орнамент на обрамлении и надпись "Татарстан" - золотистого цвета.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    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    Цветок астры с четным количеством лепестков символизирует вечный источник жизни, долголетие, пожелание долголетия.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    Приподнятая правая передняя лапа барса - это традиционный геральдический жест, подчеркивающий величие верховной власти. Это означает также начало движения (дела) "шагом правой ноги", доброе начало движения Татарстана по пути обновления.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    Острые зубы и когти барса означают его способность постоять за себя и за тех, кому он покровительствует, кого защищает.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    Семь перьев крыльев барса символизируют пространство воздействия покровительствующей силы барса - и на земле, и на небесах.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    Положение хвоста барса означает хорошее настроение, дружелюбие.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    Популярный татарский растительный орнамент и цветок тюльпана олицетворяют пробуждение весенней природы и символизируют возрождение Татарстана.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    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    Три золотых круга охватывают герб на трех уровнях. Они выражают идею единства, бесконечности и высшего совершенства.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    Символические значения цветов: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    золотой цвет - изящество, красота, богатство земли Татарстана;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    зеленый цвет - зелень весны, возрождение Татарстана;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    белый цвет - чистота помыслов граждан Татарстана;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    красный цвет - зрелость, энергия, сила, жизнь, жизнеспособность Татарстана;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    Герб Республики Татарстан утверждает такие общечеловеческие, нравственные ценности, как добро, справедливость, благополучие граждан, дружба между народами, мир и прогресс. </a:t>
            </a:r>
            <a:br>
              <a:rPr sz="1400"/>
            </a:b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d9"/>
          </a:solidFill>
          <a:ln w="9360">
            <a:solidFill>
              <a:srgbClr val="ffe2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0000"/>
                </a:solidFill>
                <a:latin typeface="Arial"/>
              </a:rPr>
              <a:t>Гимн Татарст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сударственным гимном Республики Татарстан является музыкальное произведение композитора Рустема Яхина.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musico01"/>
          <p:cNvPicPr/>
          <p:nvPr/>
        </p:nvPicPr>
        <p:blipFill>
          <a:blip r:embed="rId1"/>
          <a:stretch/>
        </p:blipFill>
        <p:spPr>
          <a:xfrm>
            <a:off x="1403280" y="189000"/>
            <a:ext cx="704880" cy="11919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C:\Documents and Settings\Admin\Рабочий стол\Рисунок1.jpg"/>
          <p:cNvPicPr/>
          <p:nvPr/>
        </p:nvPicPr>
        <p:blipFill>
          <a:blip r:embed="rId2"/>
          <a:stretch/>
        </p:blipFill>
        <p:spPr>
          <a:xfrm>
            <a:off x="5000760" y="1714680"/>
            <a:ext cx="329220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00236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1"/>
                </a:solidFill>
                <a:latin typeface="Arial"/>
              </a:rPr>
              <a:t>Как нам следует относиться к государственной символ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353440" cy="4597200"/>
          </a:xfrm>
          <a:prstGeom prst="rect">
            <a:avLst/>
          </a:prstGeom>
          <a:solidFill>
            <a:srgbClr val="ffffd9"/>
          </a:solidFill>
          <a:ln w="9360">
            <a:solidFill>
              <a:srgbClr val="ffffd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b80000"/>
                </a:solidFill>
                <a:latin typeface="Arial"/>
              </a:rPr>
              <a:t>Самым правильным отношением  к  государственным символ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8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b80000"/>
                </a:solidFill>
                <a:latin typeface="Arial"/>
              </a:rPr>
              <a:t>было бы спокойное, но уважитель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без излишнего восхва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, напротив, неумеренной критики и выражения недоверия. В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ки  государства и страны –  всего лишь символы. Но за ними 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шибки  и успехи многих людей, поражения и победы наших отц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  дедов , заблуждения и открытия далеких предков, преда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 героизм людей.  За ними  -  судьбы  миллионов, круговер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рических событий и потрясений. Люди ,не верящи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енные символы, отмахиваются от великого прошлого,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и и пространства, в котором живут. Тем самым они и себ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екают на забвение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ac0000"/>
                </a:solidFill>
                <a:latin typeface="Arial"/>
              </a:rPr>
              <a:t>Государственные символы есть те   самые координаты, с которыми сверяется  величественный  корабль  державы и вся команда отважных его граждан, которая ведет его в бескрайнем океане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6840720" cy="1052640"/>
          </a:xfrm>
          <a:prstGeom prst="rect">
            <a:avLst/>
          </a:prstGeom>
          <a:solidFill>
            <a:srgbClr val="002776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1"/>
                </a:solidFill>
                <a:latin typeface="Arial"/>
              </a:rPr>
              <a:t>Использованн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ые символы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сква «Росмен» 2004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ые символы  Республик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тарст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тры перемен .Флаги и гербы республик России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боксары, Издательство «Чувашия», 199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.Я .Горяева, О.В. Островская. Декоративно – прикладное искусство в жизни человека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сква, «Просвещение» 2001.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688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е первые гербы появились в Запа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вропе в  средние  века. Это  были  лич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ки рыцарей , которые ставили на  бое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щитах, а  также  на  шлемах,  флагах  (штан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ртах) и попонах  лошадей.  Они  помог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ванным в латы с головы  до ног воин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личать  друг  друга  на  расстояни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ый  знак, цвет  в  гербе  имел  опр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енное значение и символически рассказы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л о том, кто этот человек,  которому  доз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но его носить. Герб был знаком чести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нно в  эпоху средневековья в  Европ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явились новое искусство и новая  наук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альдика,  связанная  с  составл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File0167"/>
          <p:cNvPicPr/>
          <p:nvPr/>
        </p:nvPicPr>
        <p:blipFill>
          <a:blip r:embed="rId1"/>
          <a:stretch/>
        </p:blipFill>
        <p:spPr>
          <a:xfrm>
            <a:off x="611280" y="1557360"/>
            <a:ext cx="2259000" cy="4176720"/>
          </a:xfrm>
          <a:prstGeom prst="rect">
            <a:avLst/>
          </a:prstGeom>
          <a:ln w="9360">
            <a:solidFill>
              <a:srgbClr val="ac0000"/>
            </a:solidFill>
            <a:miter/>
          </a:ln>
        </p:spPr>
      </p:pic>
      <p:sp>
        <p:nvSpPr>
          <p:cNvPr id="51" name="Text Box 7"/>
          <p:cNvSpPr/>
          <p:nvPr/>
        </p:nvSpPr>
        <p:spPr>
          <a:xfrm>
            <a:off x="611280" y="404640"/>
            <a:ext cx="790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1258920" y="549360"/>
            <a:ext cx="676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63000"/>
                  </a:srgbClr>
                </a:solidFill>
                <a:latin typeface="Arial"/>
              </a:rPr>
              <a:t>Геральдика: наука о чести и наследии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63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195640" y="1700280"/>
            <a:ext cx="6192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ой гербов служат щиты. Щит- это обязательный элемент герба, условное пространство, напоминающее о щите средневекового рыцаря .Постепенно в геральдике установилось пять основных форм гербового щита: варяжский, итальянский, испанский, французский, немецкий.    Наибольшее распространение получил французский щит - четырехугольный, заостренный кни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нно он преобладает в гербах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1"/>
          <p:cNvSpPr txBox="1"/>
          <p:nvPr/>
        </p:nvSpPr>
        <p:spPr>
          <a:xfrm>
            <a:off x="1258920" y="404640"/>
            <a:ext cx="626580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66000"/>
                  </a:srgbClr>
                </a:solidFill>
                <a:latin typeface="Arial"/>
              </a:rPr>
              <a:t>Держи щит, защищай честь!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66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5" name="Picture 12" descr="File0266"/>
          <p:cNvPicPr/>
          <p:nvPr/>
        </p:nvPicPr>
        <p:blipFill>
          <a:blip r:embed="rId1"/>
          <a:stretch/>
        </p:blipFill>
        <p:spPr>
          <a:xfrm>
            <a:off x="755640" y="1773360"/>
            <a:ext cx="1103400" cy="4211640"/>
          </a:xfrm>
          <a:prstGeom prst="rect">
            <a:avLst/>
          </a:prstGeom>
          <a:ln w="9360">
            <a:solidFill>
              <a:srgbClr val="c4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1080" y="5714640"/>
            <a:ext cx="22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806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Геральдические фигур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бразуются линиями , направления которых соответствуют направлениям линий  деления щита. Такими фигурами считаются: вертикальная полоса – столб, горизонтальная полоса- пояс, отделенная нижняя часть щита- подножие, диагональные полосы – перевязи, а также  кресты разнообразных форм, образованные сочетанием геральдических фигу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Негеральдическими фигурам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огут быть фигуры естественные, искусственные и легендарные. К фигурам естественным относят изображения человека , животных, растений.  Из естественных фигур в геральдике чаще всего встречаются лев и ор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Искусственные фигур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это постройки, оружие, орудие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меты обихода – все  то, что создано руками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2570"/>
                </a:solidFill>
                <a:latin typeface="Arial"/>
              </a:rPr>
              <a:t>Самую загадочную для современного человека группу составля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57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2570"/>
                </a:solidFill>
                <a:latin typeface="Arial"/>
              </a:rPr>
              <a:t>легендарные, или фантастические фигуры: кентавр (полумужчина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57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2570"/>
                </a:solidFill>
                <a:latin typeface="Arial"/>
              </a:rPr>
              <a:t>полулошадь), сирена (полуженщина – полуптица)  и  им  подоб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3059280" y="476280"/>
            <a:ext cx="496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62000"/>
                  </a:srgbClr>
                </a:solidFill>
                <a:latin typeface="Arial"/>
              </a:rPr>
              <a:t>Фигуры герба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62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9" name="Picture 7" descr="tn_strelec"/>
          <p:cNvPicPr/>
          <p:nvPr/>
        </p:nvPicPr>
        <p:blipFill>
          <a:blip r:embed="rId1"/>
          <a:stretch/>
        </p:blipFill>
        <p:spPr>
          <a:xfrm>
            <a:off x="900000" y="549360"/>
            <a:ext cx="136836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280360" cy="1152720"/>
          </a:xfrm>
          <a:prstGeom prst="rect">
            <a:avLst/>
          </a:prstGeom>
          <a:solidFill>
            <a:srgbClr val="1e227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2f254"/>
                </a:solidFill>
                <a:latin typeface="comic"/>
              </a:rPr>
              <a:t>Легендарный</a:t>
            </a:r>
            <a:r>
              <a:rPr b="1" lang="ru-RU" sz="6000" spc="-1" strike="noStrike">
                <a:solidFill>
                  <a:srgbClr val="f2f254"/>
                </a:solidFill>
                <a:latin typeface="comic"/>
              </a:rPr>
              <a:t> оре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углавый орел также относится к легендарным гербовым фигу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углавой птицы в природе не существует. При этом изображения двуглав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ла встречаются у народов Востока с глубокой древности. Может бы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ображая две головы, люди хотели удвоить могущество орла? Или счит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го знаком зоркой охраны, изгоняющим злые си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правой, и с левой стороны?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ее древнее из известных изображ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углавого орла было сделано на скале древни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еттами, жившими в Малой Азии в 12 веке до н. 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зже изображения двуглавого орла встреч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различных культурно-исторических регион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явление в  Европе  двуглавого  орла   к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ральдического знака связывают с Крестов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хо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ile0265"/>
          <p:cNvPicPr/>
          <p:nvPr/>
        </p:nvPicPr>
        <p:blipFill>
          <a:blip r:embed="rId1"/>
          <a:stretch/>
        </p:blipFill>
        <p:spPr>
          <a:xfrm>
            <a:off x="6012000" y="3284640"/>
            <a:ext cx="2765160" cy="2808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539640" y="333360"/>
            <a:ext cx="8280360" cy="1152720"/>
          </a:xfrm>
          <a:prstGeom prst="rect">
            <a:avLst/>
          </a:prstGeom>
          <a:solidFill>
            <a:srgbClr val="1e22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2f254"/>
                </a:solidFill>
                <a:latin typeface="comic"/>
              </a:rPr>
              <a:t>Легендарный</a:t>
            </a:r>
            <a:r>
              <a:rPr b="1" lang="ru-RU" sz="6000" spc="-1" strike="noStrike">
                <a:solidFill>
                  <a:srgbClr val="f2f254"/>
                </a:solidFill>
                <a:latin typeface="comic"/>
              </a:rPr>
              <a:t> орел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олото в геральдике соответствует желт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вету ,а серебро- белому. В геральдике приня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ть   цвета:   </a:t>
            </a:r>
            <a:r>
              <a:rPr b="1" lang="ru-RU" sz="2400" spc="-1" strike="noStrike">
                <a:solidFill>
                  <a:srgbClr val="a20000"/>
                </a:solidFill>
                <a:latin typeface="Arial"/>
              </a:rPr>
              <a:t>красный (червленый)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b0"/>
                </a:solidFill>
                <a:latin typeface="Arial"/>
              </a:rPr>
              <a:t>синий(лазоревый),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зеленый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d60057"/>
                </a:solidFill>
                <a:latin typeface="Arial"/>
              </a:rPr>
              <a:t>пурпур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чер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олото   считалось   символом    богатства 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аведливости, серебро- символом невинност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стоты. Червленый  –  символ любви, смел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убой -  символ  красоты  и  величия; зеленый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вол  изобилия;  пурпурный - могуще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ый –мудр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3"/>
          <p:cNvSpPr txBox="1"/>
          <p:nvPr/>
        </p:nvSpPr>
        <p:spPr>
          <a:xfrm>
            <a:off x="1042920" y="549360"/>
            <a:ext cx="5977080" cy="64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74000"/>
                  </a:srgbClr>
                </a:solidFill>
                <a:latin typeface="Arial"/>
              </a:rPr>
              <a:t>Цвет в геральдике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74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6" name="Picture 5" descr="image021"/>
          <p:cNvPicPr/>
          <p:nvPr/>
        </p:nvPicPr>
        <p:blipFill>
          <a:blip r:embed="rId1"/>
          <a:stretch/>
        </p:blipFill>
        <p:spPr>
          <a:xfrm>
            <a:off x="7164360" y="260280"/>
            <a:ext cx="1270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0560" y="3499920"/>
            <a:ext cx="835344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есна история Российского государственного ф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ело-сине-красный» флаг появился при Александре 3  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83 году, отменен в 1917 и возрожден в 1991 году.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лос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на флаге  придается значение единения трех славян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народов – белорусского, украинского и рус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другом понимании значение расцветки звучит так: бел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цвет – Вера, синий – Надежда, красный – Любов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rusflag1"/>
          <p:cNvPicPr/>
          <p:nvPr/>
        </p:nvPicPr>
        <p:blipFill>
          <a:blip r:embed="rId1"/>
          <a:stretch/>
        </p:blipFill>
        <p:spPr>
          <a:xfrm>
            <a:off x="755640" y="620640"/>
            <a:ext cx="3456000" cy="2432160"/>
          </a:xfrm>
          <a:prstGeom prst="rect">
            <a:avLst/>
          </a:prstGeom>
          <a:ln w="0">
            <a:noFill/>
          </a:ln>
        </p:spPr>
      </p:pic>
      <p:sp>
        <p:nvSpPr>
          <p:cNvPr id="70" name="WordArt 7"/>
          <p:cNvSpPr txBox="1"/>
          <p:nvPr/>
        </p:nvSpPr>
        <p:spPr>
          <a:xfrm>
            <a:off x="5003640" y="1413000"/>
            <a:ext cx="338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61000"/>
                  </a:srgbClr>
                </a:solidFill>
                <a:latin typeface="Arial"/>
              </a:rPr>
              <a:t>Флаг России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61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32400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50920" y="1916280"/>
            <a:ext cx="4824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 появился в Московском государстве лишь после избавления от  монголо  – татарского  ига  и принятия Иваном3 титула «Государь Всея  Руси».  Двуглавый  орел символизировал  переход  власти римско-византийских императоров к правящему дому Рюриковичей . При Иване  Грозном  на  печатях изображение  двуглавого  орла соединяется  с  древним  символом Москвы –  всадником,  поражающим змея. Все эти элементы отражены на Государственном гербе Российской Федерац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Image2"/>
          <p:cNvPicPr/>
          <p:nvPr/>
        </p:nvPicPr>
        <p:blipFill>
          <a:blip r:embed="rId1"/>
          <a:stretch/>
        </p:blipFill>
        <p:spPr>
          <a:xfrm>
            <a:off x="684360" y="2060640"/>
            <a:ext cx="2792160" cy="3456000"/>
          </a:xfrm>
          <a:prstGeom prst="rect">
            <a:avLst/>
          </a:prstGeom>
          <a:ln w="0">
            <a:noFill/>
          </a:ln>
        </p:spPr>
      </p:pic>
      <p:sp>
        <p:nvSpPr>
          <p:cNvPr id="75" name="WordArt 7"/>
          <p:cNvSpPr txBox="1"/>
          <p:nvPr/>
        </p:nvSpPr>
        <p:spPr>
          <a:xfrm>
            <a:off x="2700360" y="476280"/>
            <a:ext cx="345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65000"/>
                  </a:srgbClr>
                </a:solidFill>
                <a:latin typeface="Arial"/>
              </a:rPr>
              <a:t>Герб России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65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632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435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ссия – священная наша держа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ссия – любимая наша стр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гучая воля , великая слав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вое достоянье на все времен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авься  Отечество наше свободно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ратских народов союз веков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ками данная мудрость народна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авься, страна! Мы гордимся тоб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 южных морей до полярного кр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кинулись наши леса и по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дна ты на свете! Одна ты такая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ранимая Богом родная земл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рокий простор для мечты и для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ядущие нам открывают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м силу дает наша верность Отчиз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к было, так есть и так будет всегд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авься, Отечество наше свобод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ратских народов союз веков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ками данная мудрость народна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авься, страна !Мы гордимся тобой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4720" y="2349000"/>
            <a:ext cx="4535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Больше всех претерпел изме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Государственный гимн: «Молитва русских»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«Боже , Царя храни!» - «Марсельеза»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«Интернационал» - Государственные гим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СССР (три варианта) – «Патриотическая песн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1991-2000 гг. – Государственный гим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Российской  Федерации 2000 года, создан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на основе последнего Государствен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Гимна СССР с новым текстом С. В. Михалк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Мелодия гимна написана композито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А. В. Александровы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11"/>
          <p:cNvSpPr txBox="1"/>
          <p:nvPr/>
        </p:nvSpPr>
        <p:spPr>
          <a:xfrm>
            <a:off x="2411280" y="476280"/>
            <a:ext cx="48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63000"/>
                  </a:srgbClr>
                </a:solidFill>
                <a:latin typeface="Arial"/>
              </a:rPr>
              <a:t>Гимн России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63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0" name="Picture 12" descr="image907"/>
          <p:cNvPicPr/>
          <p:nvPr/>
        </p:nvPicPr>
        <p:blipFill>
          <a:blip r:embed="rId1"/>
          <a:stretch/>
        </p:blipFill>
        <p:spPr>
          <a:xfrm>
            <a:off x="900000" y="333360"/>
            <a:ext cx="10479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2:13:10Z</dcterms:created>
  <dc:creator>ученик</dc:creator>
  <dc:description/>
  <dc:language>en-US</dc:language>
  <cp:lastModifiedBy>Admin</cp:lastModifiedBy>
  <dcterms:modified xsi:type="dcterms:W3CDTF">2012-03-11T20:11:27Z</dcterms:modified>
  <cp:revision>131</cp:revision>
  <dc:subject/>
  <dc:title>Государственная символика</dc:title>
</cp:coreProperties>
</file>