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E0BC-E0DC-44A4-9857-D9E12AE0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97A-3ADE-4973-BE81-AA96A7D1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B1B-06E9-41AF-9B6A-D2D4E191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023-8DA8-46B1-86E9-DE8D3315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968B-E3B2-4DB9-8979-5846A774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DC91-AB86-4AE1-B156-A2C81B03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5ADF-30BB-499D-9593-C09B2CA5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188C-23AC-4F3B-88A8-456E848E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0695-077E-4844-90A1-A2474969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FA1C-D291-4908-90E9-2A5FE248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7131-D95B-4534-8844-9EBB0112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4BF-CFBB-405B-A708-25DECB46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9853-DBF7-4600-A944-25FF994C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DAA8-D88A-40E6-B09B-47AB1EB9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8C26-96D7-44AF-85E3-F1C1CCF4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6A8B-A9B8-489E-B806-210B3B6E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7302-740D-4CB1-AA25-0E97FE5C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77B-3FDC-45C1-8FD8-227020A7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DA2-B3F0-4C4B-B4BB-D081D527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4ED0-ED36-4E40-B42E-8E4106DC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63F-EC0D-4BD0-8020-895CB92F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0DC8-6398-4B46-AF2A-0E0608FE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E0D0-74E8-4A28-962A-7206A255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B895-0BC7-447A-B7CC-4905719D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71F4-7831-46F6-BF7F-E6E928FEE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A9F7-1469-44AC-B3BC-3FF774C1AF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523880" y="51055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обобщение знаний по теме «Русское искусств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X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в.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380880"/>
            <a:ext cx="7924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4600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скурсия по третьяковк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631960" y="277920"/>
            <a:ext cx="387828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781680" y="228600"/>
            <a:ext cx="2121120" cy="2835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28600" y="1523880"/>
            <a:ext cx="4336920" cy="5105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19720" y="3485160"/>
            <a:ext cx="525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И.С. Тургенев «Отцы и де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Л.Н. Толстой «Анна Каренин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Ф.М. Достоев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«Преступление и наказани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685800" y="61444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Старики-родители на могиле сы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602400" y="228600"/>
            <a:ext cx="2300400" cy="2743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629400" y="3691440"/>
            <a:ext cx="220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Юлий Цеза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Тамерл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Хан Бат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66520" y="151920"/>
            <a:ext cx="3429000" cy="121932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Василий Васильевич</a:t>
            </a:r>
            <a:br>
              <a:rPr sz="4000"/>
            </a:b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ВЕРЕЩАГИН</a:t>
            </a:r>
            <a:br>
              <a:rPr sz="2000"/>
            </a:b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(1842-1904)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1722600"/>
            <a:ext cx="6400800" cy="5135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05120" y="6346080"/>
            <a:ext cx="22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«Апофеоз войн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876920" cy="5334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819520" y="152280"/>
            <a:ext cx="3733560" cy="129564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Абрам Ефим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АРХИП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(1862-193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14600" y="228600"/>
            <a:ext cx="380376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2493720" cy="3581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400800" y="0"/>
            <a:ext cx="2462040" cy="2666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3080" y="0"/>
            <a:ext cx="2365200" cy="3505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886200" y="2784600"/>
            <a:ext cx="5257800" cy="4073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143000" y="632664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Аленуш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247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Богатыр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457200" y="281916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Ца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ван Васильевич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2209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втопортр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2008080" cy="2590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28600" y="1577880"/>
            <a:ext cx="6629400" cy="5280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743200" y="152280"/>
            <a:ext cx="3733920" cy="129564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Исаак Иль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ЛЕВИТ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(1860-19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09680" y="111240"/>
            <a:ext cx="4038840" cy="1214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854760" y="0"/>
            <a:ext cx="2289240" cy="2590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219320" y="1393920"/>
            <a:ext cx="5486400" cy="3284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-39600" y="3733920"/>
            <a:ext cx="2193840" cy="3124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4114800" y="4371840"/>
            <a:ext cx="5029200" cy="24861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flipH="1">
            <a:off x="5181480" y="635868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«Боярыня Морозо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76360" y="1599120"/>
            <a:ext cx="30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«Утро стрелецкой казн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80880" y="5934960"/>
            <a:ext cx="2977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«С гитаро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(Портр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С.А. Кропоткино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4000"/>
                            </p:stCondLst>
                            <p:childTnLst>
                              <p:par>
                                <p:cTn id="6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3276720" cy="121932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Михаил Александрович</a:t>
            </a:r>
            <a:br>
              <a:rPr sz="2000"/>
            </a:b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ВРУБЕЛЬ</a:t>
            </a:r>
            <a:br>
              <a:rPr sz="2000"/>
            </a:b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(1856-1910)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371600" y="3852720"/>
            <a:ext cx="7772400" cy="3005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6553080" cy="2583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989760" y="0"/>
            <a:ext cx="2154240" cy="3068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238880" y="263124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Автопортр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27760" y="6467400"/>
            <a:ext cx="27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Демон поверженны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5880" y="340524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Демон летящи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000"/>
                            </p:stCondLst>
                            <p:childTnLst>
                              <p:par>
                                <p:cTn id="6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6705720" cy="67057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9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62120" y="5181480"/>
            <a:ext cx="7924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4600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Государственная Третьяковская галере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2 мая 1856 г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481880" y="0"/>
            <a:ext cx="1662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648320" cy="3138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986360" y="228600"/>
            <a:ext cx="3624120" cy="3076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057400" y="3322800"/>
            <a:ext cx="4648320" cy="3535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8600" y="227880"/>
            <a:ext cx="43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Худяков «Стычка с контрабандистам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32601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Нестеров «Видение отроку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Варфоломею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304920"/>
            <a:ext cx="36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ильдер «Искушени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612880" y="277920"/>
            <a:ext cx="391644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3909960" cy="4953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95760" y="586620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«Портрет А.П. Струйско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271692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Б. Пастерн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Н. Заболоц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Я. Смеля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54160" cy="2971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647800" y="277920"/>
            <a:ext cx="384660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4287600" cy="4953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9480" y="60904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Портрет А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Пушкин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2799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 Автопортр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389916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Сам поэ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Мать поэта Н.О. Пушк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Друг поэта А. Дельви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629080" y="277920"/>
            <a:ext cx="388620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6300720" cy="4586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086600" y="0"/>
            <a:ext cx="1897200" cy="3048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72200" y="304776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Тропи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«Портрет К.П. Брюллов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114800" cy="2614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28600" y="4290840"/>
            <a:ext cx="4114800" cy="2567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724280" y="1447920"/>
            <a:ext cx="4191120" cy="2608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4648320" y="4308480"/>
            <a:ext cx="4267080" cy="2549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43423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«Девятый вал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41864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«Волн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158508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«Ревел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16610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«Бриг «Меркури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505320" y="2666880"/>
            <a:ext cx="2144520" cy="2667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 rot="10800000">
            <a:off x="3580920" y="4645440"/>
            <a:ext cx="19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Айваз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3276720" cy="13716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Иван Константинович</a:t>
            </a:r>
            <a:br>
              <a:rPr sz="2000"/>
            </a:b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АЙВАЗОВСКИЙ</a:t>
            </a:r>
            <a:br>
              <a:rPr sz="2000"/>
            </a:b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(1817 – 1900)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391932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4343400" cy="3300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648320" y="144792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743200" y="2905200"/>
            <a:ext cx="3495600" cy="3952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371600" y="158508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Игро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3093120"/>
            <a:ext cx="31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Свежий кавалер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58920" y="167544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Сватовство майор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3352680" cy="3886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057400" y="0"/>
            <a:ext cx="3921120" cy="1143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962520" y="3800520"/>
            <a:ext cx="5181480" cy="3057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0" y="1143000"/>
            <a:ext cx="5410080" cy="3625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6019920" y="0"/>
            <a:ext cx="2971800" cy="3733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295280" y="4231440"/>
            <a:ext cx="40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Утро в сосновом лесу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28760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рам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Портрет Шишки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21640" y="486144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«Полден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866560" y="37803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«Рож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1-10-10T07:32:0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