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7.wmf" ContentType="image/x-wmf"/>
  <Override PartName="/ppt/media/image25.wmf" ContentType="image/x-wmf"/>
  <Override PartName="/ppt/media/image15.jpeg" ContentType="image/jpeg"/>
  <Override PartName="/ppt/media/image22.jpeg" ContentType="image/jpeg"/>
  <Override PartName="/ppt/media/image21.jpeg" ContentType="image/jpeg"/>
  <Override PartName="/ppt/media/image32.wmf" ContentType="image/x-wmf"/>
  <Override PartName="/ppt/media/image29.wmf" ContentType="image/x-wmf"/>
  <Override PartName="/ppt/media/image1.png" ContentType="image/png"/>
  <Override PartName="/ppt/media/image19.jpeg" ContentType="image/jpeg"/>
  <Override PartName="/ppt/media/image18.jpeg" ContentType="image/jpeg"/>
  <Override PartName="/ppt/media/image28.wmf" ContentType="image/x-wmf"/>
  <Override PartName="/ppt/media/image30.wmf" ContentType="image/x-wmf"/>
  <Override PartName="/ppt/media/image6.jpeg" ContentType="image/jpeg"/>
  <Override PartName="/ppt/media/image23.wmf" ContentType="image/x-wmf"/>
  <Override PartName="/ppt/media/image9.jpeg" ContentType="image/jpeg"/>
  <Override PartName="/ppt/media/image33.wmf" ContentType="image/x-wmf"/>
  <Override PartName="/ppt/media/image31.wmf" ContentType="image/x-wmf"/>
  <Override PartName="/ppt/media/image7.jpeg" ContentType="image/jpeg"/>
  <Override PartName="/ppt/media/image38.wmf" ContentType="image/x-wmf"/>
  <Override PartName="/ppt/media/image34.wmf" ContentType="image/x-wmf"/>
  <Override PartName="/ppt/media/image36.wmf" ContentType="image/x-wmf"/>
  <Override PartName="/ppt/media/image37.png" ContentType="image/png"/>
  <Override PartName="/ppt/media/image39.wmf" ContentType="image/x-wmf"/>
  <Override PartName="/ppt/media/image8.jpeg" ContentType="image/jpeg"/>
  <Override PartName="/ppt/media/image14.png" ContentType="image/png"/>
  <Override PartName="/ppt/media/image10.jpeg" ContentType="image/jpeg"/>
  <Override PartName="/ppt/media/image5.jpeg" ContentType="image/jpeg"/>
  <Override PartName="/ppt/media/image20.wmf" ContentType="image/x-wmf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11.jpeg" ContentType="image/jpeg"/>
  <Override PartName="/ppt/media/image24.png" ContentType="image/png"/>
  <Override PartName="/ppt/media/image26.wmf" ContentType="image/x-wmf"/>
  <Override PartName="/ppt/media/image16.jpeg" ContentType="image/jpeg"/>
  <Override PartName="/ppt/media/image3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C177-9F0F-43E8-932C-EA108347B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1F65-D1F7-4B67-8009-1D09B7D72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60A2-C3BE-4314-90F2-E95E6A7F4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66D1-D0FE-4BE1-B14E-94C32EEC8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D526C-7D0F-464C-9504-5CDD932E8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CD23D-7ED1-45CD-B5DE-8983862F3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114EF-9FDC-4C46-A50C-A27C5CA0B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D1BD1-37BA-4336-B99C-E496FB596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5DE9E-F137-4FC1-B2BE-E4E12EAA0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C3DB8-7527-4493-91AE-06EEB67A2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F6578-D0E3-4277-96A1-CF7BE2AD3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8957-98C8-4411-AC5E-050E5A63D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A741C-5087-4D24-A2BA-A36F63175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76697-1C35-426E-A212-EE70204B3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98518-0703-4E36-AF6A-9BC3B288B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2E91E-5832-4760-950A-7303A48B1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A2D8B-394A-4CF0-ACEC-BE23A2222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560B5E-F055-4327-9EDA-C9D6FECB0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D8B8E7-D473-40B6-B132-0ABEDDA41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5EB620-9EE1-43FA-9946-E6AF6C475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FC71C7-0D43-437C-B070-A8D51B6AD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300DF6-ED8F-4332-9613-7BA2D45F3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87C1-9F59-4EB9-BC29-49FDA66CA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D9DDDB-46BB-403F-A50B-EA95DBCD8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8D513D-23DC-49DD-A61B-2A56C27ED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055C13-119B-4DF0-BF85-AEF8E372C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DC689E-4FFE-466C-A5BD-F966CF0BE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CDC971-CDA6-4DEB-BB15-0C9D898F5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4F7811-6365-4520-8878-57B5474E4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A8923C-0B14-4699-9D59-53DFBA455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1F9A-ADCD-4453-B5CA-9EC92A959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E33F-E91B-4B77-AEAD-F93B32FE6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F6EA-395E-4268-9DC1-EA4D696D1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1299-B288-4683-BE96-B01424090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7466-4719-43D3-9473-A75A3B977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23C3-0622-4250-9C23-2F5F125CC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59bff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634E5-93BA-4349-B495-90EEE3D49579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59bff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332A6-257D-4DF1-9D8B-AAA20BE4773A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CAC62-5C1A-4E28-AE44-62432137B6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wmf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6.wmf"/><Relationship Id="rId3" Type="http://schemas.openxmlformats.org/officeDocument/2006/relationships/image" Target="../media/image27.wmf"/><Relationship Id="rId4" Type="http://schemas.openxmlformats.org/officeDocument/2006/relationships/image" Target="../media/image28.wmf"/><Relationship Id="rId5" Type="http://schemas.openxmlformats.org/officeDocument/2006/relationships/image" Target="../media/image29.wmf"/><Relationship Id="rId6" Type="http://schemas.openxmlformats.org/officeDocument/2006/relationships/image" Target="../media/image29.wm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image" Target="../media/image31.wmf"/><Relationship Id="rId4" Type="http://schemas.openxmlformats.org/officeDocument/2006/relationships/image" Target="../media/image31.wmf"/><Relationship Id="rId5" Type="http://schemas.openxmlformats.org/officeDocument/2006/relationships/image" Target="../media/image31.wmf"/><Relationship Id="rId6" Type="http://schemas.openxmlformats.org/officeDocument/2006/relationships/image" Target="../media/image32.wmf"/><Relationship Id="rId7" Type="http://schemas.openxmlformats.org/officeDocument/2006/relationships/image" Target="../media/image32.wmf"/><Relationship Id="rId8" Type="http://schemas.openxmlformats.org/officeDocument/2006/relationships/image" Target="../media/image33.wmf"/><Relationship Id="rId9" Type="http://schemas.openxmlformats.org/officeDocument/2006/relationships/image" Target="../media/image33.wmf"/><Relationship Id="rId10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5.wmf"/><Relationship Id="rId4" Type="http://schemas.openxmlformats.org/officeDocument/2006/relationships/image" Target="../media/image36.wmf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8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59bff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90720" y="2069640"/>
            <a:ext cx="678168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100" spc="-1" strike="noStrike">
                <a:solidFill>
                  <a:srgbClr val="ff0000"/>
                </a:solidFill>
                <a:latin typeface="Comic Sans MS"/>
              </a:rPr>
              <a:t>Кодирование</a:t>
            </a:r>
            <a:br>
              <a:rPr sz="7100"/>
            </a:br>
            <a:r>
              <a:rPr b="1" lang="en-US" sz="7100" spc="-1" strike="noStrike">
                <a:solidFill>
                  <a:srgbClr val="ff0000"/>
                </a:solidFill>
                <a:latin typeface="Comic Sans MS"/>
              </a:rPr>
              <a:t>информации</a:t>
            </a:r>
            <a:endParaRPr b="0" lang="en-US" sz="71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59bff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2124000" y="404640"/>
            <a:ext cx="4753080" cy="151308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100000">
                <a:srgbClr val="ffffff"/>
              </a:gs>
            </a:gsLst>
            <a:lin ang="5400000"/>
          </a:gradFill>
          <a:ln w="7632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2484360" y="620640"/>
            <a:ext cx="41752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Кодирование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14" name=""/>
          <p:cNvSpPr/>
          <p:nvPr/>
        </p:nvSpPr>
        <p:spPr>
          <a:xfrm>
            <a:off x="2195640" y="4941720"/>
            <a:ext cx="4752720" cy="151308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100000">
                <a:srgbClr val="ffffff"/>
              </a:gs>
            </a:gsLst>
            <a:lin ang="5400000"/>
          </a:gradFill>
          <a:ln w="7632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2484360" y="5084640"/>
            <a:ext cx="41752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Декодирование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16" name=""/>
          <p:cNvSpPr/>
          <p:nvPr/>
        </p:nvSpPr>
        <p:spPr>
          <a:xfrm>
            <a:off x="4427640" y="2060640"/>
            <a:ext cx="360360" cy="2663640"/>
          </a:xfrm>
          <a:prstGeom prst="downArrow">
            <a:avLst>
              <a:gd name="adj1" fmla="val 50000"/>
              <a:gd name="adj2" fmla="val 184790"/>
            </a:avLst>
          </a:prstGeom>
          <a:solidFill>
            <a:srgbClr val="cc00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781360"/>
            <a:ext cx="3456000" cy="187164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Сообщени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отправляем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источник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информ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508720" y="2060640"/>
            <a:ext cx="3456000" cy="187164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Сообщени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получаем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от приём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информ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rot="2751600">
            <a:off x="2803680" y="1767960"/>
            <a:ext cx="393480" cy="1333440"/>
          </a:xfrm>
          <a:prstGeom prst="upArrow">
            <a:avLst>
              <a:gd name="adj1" fmla="val 50000"/>
              <a:gd name="adj2" fmla="val 84721"/>
            </a:avLst>
          </a:prstGeom>
          <a:solidFill>
            <a:srgbClr val="00ccff"/>
          </a:soli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rot="13200000">
            <a:off x="5833800" y="3679920"/>
            <a:ext cx="393480" cy="1333440"/>
          </a:xfrm>
          <a:prstGeom prst="upArrow">
            <a:avLst>
              <a:gd name="adj1" fmla="val 50000"/>
              <a:gd name="adj2" fmla="val 84721"/>
            </a:avLst>
          </a:prstGeom>
          <a:solidFill>
            <a:srgbClr val="00ccff"/>
          </a:soli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59bff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3160" y="2590560"/>
            <a:ext cx="8001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0099"/>
                </a:solidFill>
                <a:latin typeface="Comic Sans MS"/>
              </a:rPr>
              <a:t>Декодирование</a:t>
            </a:r>
            <a:r>
              <a:rPr b="1" lang="en-US" sz="43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это процесс восстановления содержания закодированной информации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59bff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0000"/>
                </a:solidFill>
                <a:latin typeface="Comic Sans MS"/>
              </a:rPr>
              <a:t>Существует три основных способа кодирования информации</a:t>
            </a:r>
            <a:endParaRPr b="0" lang="en-US" sz="4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"/>
          <p:cNvSpPr/>
          <p:nvPr/>
        </p:nvSpPr>
        <p:spPr>
          <a:xfrm>
            <a:off x="304920" y="2286000"/>
            <a:ext cx="350496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825"/>
              </a:spcBef>
              <a:buClr>
                <a:srgbClr val="6600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6600ff"/>
                </a:solidFill>
                <a:latin typeface="Comic Sans MS"/>
              </a:rPr>
              <a:t>Графический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80880" y="3473280"/>
            <a:ext cx="27432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6600ff"/>
                </a:solidFill>
                <a:latin typeface="Comic Sans MS"/>
              </a:rPr>
              <a:t>2.Числовой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80880" y="4692600"/>
            <a:ext cx="327672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6600ff"/>
                </a:solidFill>
                <a:latin typeface="Comic Sans MS"/>
              </a:rPr>
              <a:t>3.Символьный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581280" y="2286000"/>
            <a:ext cx="502920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Comic Sans MS"/>
              </a:rPr>
              <a:t>- с помощью рисунков     </a:t>
            </a:r>
            <a:r>
              <a:rPr b="1" lang="en-US" sz="29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900" spc="-1" strike="noStrike">
                <a:solidFill>
                  <a:srgbClr val="000000"/>
                </a:solidFill>
                <a:latin typeface="Comic Sans MS"/>
              </a:rPr>
              <a:t>или значков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124080" y="3505320"/>
            <a:ext cx="50292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Comic Sans MS"/>
              </a:rPr>
              <a:t>- с помощью чисел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505320" y="4724280"/>
            <a:ext cx="533376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Comic Sans MS"/>
              </a:rPr>
              <a:t>- с помощью символов </a:t>
            </a:r>
            <a:r>
              <a:rPr b="1" lang="en-US" sz="29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900" spc="-1" strike="noStrike">
                <a:solidFill>
                  <a:srgbClr val="000000"/>
                </a:solidFill>
                <a:latin typeface="Comic Sans MS"/>
              </a:rPr>
              <a:t>того же алфавита, что </a:t>
            </a:r>
            <a:r>
              <a:rPr b="1" lang="en-US" sz="29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900" spc="-1" strike="noStrike">
                <a:solidFill>
                  <a:srgbClr val="000000"/>
                </a:solidFill>
                <a:latin typeface="Comic Sans MS"/>
              </a:rPr>
              <a:t>и текст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ff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0" y="-76320"/>
            <a:ext cx="91440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 u="sng">
                <a:solidFill>
                  <a:srgbClr val="00cc00"/>
                </a:solidFill>
                <a:uFillTx/>
                <a:latin typeface="Arial"/>
              </a:rPr>
              <a:t>Кодирование числовой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 u="sng">
                <a:solidFill>
                  <a:srgbClr val="00cc00"/>
                </a:solidFill>
                <a:uFillTx/>
                <a:latin typeface="Arial"/>
              </a:rPr>
              <a:t>информации: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9966"/>
                </a:solidFill>
                <a:latin typeface="Arial"/>
              </a:rPr>
              <a:t>                    </a:t>
            </a:r>
            <a:r>
              <a:rPr b="1" lang="en-US" sz="3100" spc="-1" strike="noStrike">
                <a:solidFill>
                  <a:srgbClr val="000066"/>
                </a:solidFill>
                <a:latin typeface="Arial"/>
              </a:rPr>
              <a:t>– </a:t>
            </a:r>
            <a:r>
              <a:rPr b="1" lang="en-US" sz="3100" spc="-1" strike="noStrike">
                <a:solidFill>
                  <a:srgbClr val="000066"/>
                </a:solidFill>
                <a:latin typeface="Arial"/>
              </a:rPr>
              <a:t>числа, записанные арабскими         </a:t>
            </a:r>
            <a:r>
              <a:rPr b="1" lang="en-US" sz="31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31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31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3100" spc="-1" strike="noStrike">
                <a:solidFill>
                  <a:srgbClr val="000066"/>
                </a:solidFill>
                <a:latin typeface="Arial"/>
              </a:rPr>
              <a:t>цифрами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267080" y="2362320"/>
            <a:ext cx="487692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66"/>
                </a:solidFill>
                <a:latin typeface="Comic Sans MS"/>
              </a:rPr>
              <a:t>– </a:t>
            </a:r>
            <a:r>
              <a:rPr b="1" lang="en-US" sz="3100" spc="-1" strike="noStrike">
                <a:solidFill>
                  <a:srgbClr val="000066"/>
                </a:solidFill>
                <a:latin typeface="Comic Sans MS"/>
              </a:rPr>
              <a:t>числа, записанные римскими цифрами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819520" y="4572000"/>
            <a:ext cx="59436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Comic Sans MS"/>
              </a:rPr>
              <a:t>– </a:t>
            </a:r>
            <a:r>
              <a:rPr b="1" lang="en-US" sz="3000" spc="-1" strike="noStrike">
                <a:solidFill>
                  <a:srgbClr val="000066"/>
                </a:solidFill>
                <a:latin typeface="Comic Sans MS"/>
              </a:rPr>
              <a:t>русский язы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Comic Sans MS"/>
              </a:rPr>
              <a:t>– </a:t>
            </a:r>
            <a:r>
              <a:rPr b="1" lang="en-US" sz="3000" spc="-1" strike="noStrike">
                <a:solidFill>
                  <a:srgbClr val="000066"/>
                </a:solidFill>
                <a:latin typeface="Comic Sans MS"/>
              </a:rPr>
              <a:t>английский язы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228600" y="533520"/>
            <a:ext cx="1905120" cy="190476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228600" y="2590920"/>
            <a:ext cx="3809880" cy="82224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3"/>
          <a:stretch/>
        </p:blipFill>
        <p:spPr>
          <a:xfrm>
            <a:off x="304920" y="4038480"/>
            <a:ext cx="2255760" cy="281952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533520" y="3581280"/>
            <a:ext cx="861048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 u="sng">
                <a:solidFill>
                  <a:srgbClr val="00cc00"/>
                </a:solidFill>
                <a:uFillTx/>
                <a:latin typeface="Comic Sans MS"/>
              </a:rPr>
              <a:t>Кодирование текстовой информации: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59bff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304920" y="4191120"/>
            <a:ext cx="5029200" cy="15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cc00cc"/>
                </a:solidFill>
                <a:latin typeface="Comic Sans MS"/>
              </a:rPr>
              <a:t>Кодирование на дорогах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76320" y="76320"/>
            <a:ext cx="5257800" cy="3387600"/>
            <a:chOff x="76320" y="76320"/>
            <a:chExt cx="5257800" cy="3387600"/>
          </a:xfrm>
        </p:grpSpPr>
        <p:pic>
          <p:nvPicPr>
            <p:cNvPr id="238" name="" descr=""/>
            <p:cNvPicPr/>
            <p:nvPr/>
          </p:nvPicPr>
          <p:blipFill>
            <a:blip r:embed="rId1"/>
            <a:stretch/>
          </p:blipFill>
          <p:spPr>
            <a:xfrm>
              <a:off x="76320" y="76320"/>
              <a:ext cx="5257800" cy="338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" descr=""/>
            <p:cNvPicPr/>
            <p:nvPr/>
          </p:nvPicPr>
          <p:blipFill>
            <a:blip r:embed="rId2"/>
            <a:stretch/>
          </p:blipFill>
          <p:spPr>
            <a:xfrm>
              <a:off x="2412720" y="2788920"/>
              <a:ext cx="2921040" cy="655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5334120" y="4192560"/>
            <a:ext cx="3657600" cy="251316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4724280" y="1676160"/>
            <a:ext cx="41911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cc00cc"/>
                </a:solidFill>
                <a:latin typeface="Comic Sans MS"/>
              </a:rPr>
              <a:t>Кодирование музыки</a:t>
            </a:r>
            <a:endParaRPr b="0" lang="en-US" sz="47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59bff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609480" y="4114800"/>
            <a:ext cx="3962520" cy="15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cc00cc"/>
                </a:solidFill>
                <a:latin typeface="Comic Sans MS"/>
              </a:rPr>
              <a:t>Почтовые 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cc00cc"/>
                </a:solidFill>
                <a:latin typeface="Comic Sans MS"/>
              </a:rPr>
              <a:t>индексы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809520" y="533520"/>
            <a:ext cx="51944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99"/>
                </a:solidFill>
                <a:latin typeface="Comic Sans MS"/>
              </a:rPr>
              <a:t>«Школьное» кодировани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19720" cy="301788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304920" y="1219320"/>
            <a:ext cx="2044440" cy="266688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4495680" y="3054240"/>
            <a:ext cx="4521240" cy="319428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1752480" y="6172200"/>
            <a:ext cx="640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Comic Sans MS"/>
              </a:rPr>
              <a:t>(с указанием кода населённого пункт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59bff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609120" y="-360"/>
            <a:ext cx="76964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0000"/>
                </a:solidFill>
                <a:latin typeface="Comic Sans MS"/>
              </a:rPr>
              <a:t>Азбука Брайля</a:t>
            </a: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"/>
          <p:cNvSpPr/>
          <p:nvPr/>
        </p:nvSpPr>
        <p:spPr>
          <a:xfrm>
            <a:off x="3276720" y="4572000"/>
            <a:ext cx="5638680" cy="11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0080"/>
                </a:solidFill>
                <a:latin typeface="Comic Sans MS"/>
              </a:rPr>
              <a:t>Язык глухонемых - где символами языка служат определенные знак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5486400" y="76320"/>
            <a:ext cx="3502080" cy="41148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2076480" y="609480"/>
            <a:ext cx="3333600" cy="312444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117360" y="685800"/>
            <a:ext cx="2092320" cy="266688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4"/>
          <a:stretch/>
        </p:blipFill>
        <p:spPr>
          <a:xfrm>
            <a:off x="76320" y="3809880"/>
            <a:ext cx="29718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000"/>
                            </p:stCondLst>
                            <p:childTnLst>
                              <p:par>
                                <p:cTn id="3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59bff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700" spc="-1" strike="noStrike">
                <a:solidFill>
                  <a:srgbClr val="cc00cc"/>
                </a:solidFill>
                <a:latin typeface="Comic Sans MS"/>
              </a:rPr>
              <a:t>Сигнальные коды</a:t>
            </a:r>
            <a:endParaRPr b="0" lang="en-US" sz="47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"/>
          <p:cNvSpPr/>
          <p:nvPr/>
        </p:nvSpPr>
        <p:spPr>
          <a:xfrm>
            <a:off x="685800" y="990720"/>
            <a:ext cx="287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66"/>
                </a:solidFill>
                <a:latin typeface="Arial"/>
              </a:rPr>
              <a:t>Азбука Морзе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067280" y="5181480"/>
            <a:ext cx="4537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66"/>
                </a:solidFill>
                <a:latin typeface="Arial"/>
              </a:rPr>
              <a:t>Флажковая азбука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3365640" cy="198108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4648320" y="990720"/>
            <a:ext cx="2809800" cy="396216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3"/>
          <a:stretch/>
        </p:blipFill>
        <p:spPr>
          <a:xfrm>
            <a:off x="6629400" y="2362320"/>
            <a:ext cx="2335320" cy="376236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4"/>
          <a:stretch/>
        </p:blipFill>
        <p:spPr>
          <a:xfrm>
            <a:off x="228600" y="3657600"/>
            <a:ext cx="432432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500"/>
                            </p:stCondLst>
                            <p:childTnLst>
                              <p:par>
                                <p:cTn id="3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1000"/>
                            </p:stCondLst>
                            <p:childTnLst>
                              <p:par>
                                <p:cTn id="3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1000"/>
                            </p:stCondLst>
                            <p:childTnLst>
                              <p:par>
                                <p:cTn id="3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59bff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8229600" cy="12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700" spc="-1" strike="noStrike">
                <a:solidFill>
                  <a:srgbClr val="cc00cc"/>
                </a:solidFill>
                <a:latin typeface="Comic Sans MS"/>
              </a:rPr>
              <a:t>Двоичное кодирование</a:t>
            </a:r>
            <a:endParaRPr b="0" lang="en-US" sz="47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762120" y="1295280"/>
            <a:ext cx="7772400" cy="4955760"/>
            <a:chOff x="762120" y="1295280"/>
            <a:chExt cx="7772400" cy="4955760"/>
          </a:xfrm>
        </p:grpSpPr>
        <p:sp>
          <p:nvSpPr>
            <p:cNvPr id="263" name=""/>
            <p:cNvSpPr/>
            <p:nvPr/>
          </p:nvSpPr>
          <p:spPr>
            <a:xfrm>
              <a:off x="4191120" y="1447920"/>
              <a:ext cx="175248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Black"/>
                </a:rPr>
                <a:t>000011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Black"/>
                </a:rPr>
                <a:t>000101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Black"/>
                </a:rPr>
                <a:t>001001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Black"/>
                </a:rPr>
                <a:t>001001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Black"/>
                </a:rPr>
                <a:t>010001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Black"/>
                </a:rPr>
                <a:t>011111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Black"/>
                </a:rPr>
                <a:t>010001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Black"/>
                </a:rPr>
                <a:t>010001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334120" y="4191120"/>
              <a:ext cx="190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Black"/>
                </a:rPr>
                <a:t>1100 00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Black"/>
                </a:rPr>
                <a:t>1100 00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Black"/>
                </a:rPr>
                <a:t>1101 000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629400" y="580536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Black"/>
                </a:rPr>
                <a:t>001111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6" name="" descr=""/>
            <p:cNvPicPr/>
            <p:nvPr/>
          </p:nvPicPr>
          <p:blipFill>
            <a:blip r:embed="rId1"/>
            <a:stretch/>
          </p:blipFill>
          <p:spPr>
            <a:xfrm>
              <a:off x="762120" y="1295280"/>
              <a:ext cx="2282760" cy="297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3276720" y="2514600"/>
              <a:ext cx="685800" cy="304920"/>
            </a:xfrm>
            <a:custGeom>
              <a:avLst/>
              <a:gdLst>
                <a:gd name="textAreaLeft" fmla="*/ 0 w 685800"/>
                <a:gd name="textAreaRight" fmla="*/ 686160 w 68580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0000"/>
            </a:solidFill>
            <a:ln w="3816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572000" y="4495680"/>
              <a:ext cx="685800" cy="304920"/>
            </a:xfrm>
            <a:custGeom>
              <a:avLst/>
              <a:gdLst>
                <a:gd name="textAreaLeft" fmla="*/ 0 w 685800"/>
                <a:gd name="textAreaRight" fmla="*/ 686160 w 68580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0000"/>
            </a:solidFill>
            <a:ln w="3816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9" name=""/>
            <p:cNvGrpSpPr/>
            <p:nvPr/>
          </p:nvGrpSpPr>
          <p:grpSpPr>
            <a:xfrm>
              <a:off x="3733920" y="4191120"/>
              <a:ext cx="685800" cy="1008720"/>
              <a:chOff x="3733920" y="4191120"/>
              <a:chExt cx="685800" cy="1008720"/>
            </a:xfrm>
          </p:grpSpPr>
          <p:sp>
            <p:nvSpPr>
              <p:cNvPr id="270" name=""/>
              <p:cNvSpPr/>
              <p:nvPr/>
            </p:nvSpPr>
            <p:spPr>
              <a:xfrm>
                <a:off x="3733920" y="4191120"/>
                <a:ext cx="685800" cy="990360"/>
              </a:xfrm>
              <a:prstGeom prst="rect">
                <a:avLst/>
              </a:prstGeom>
              <a:solidFill>
                <a:srgbClr val="f8b58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3881520" y="4191120"/>
                <a:ext cx="533160" cy="100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66"/>
                    </a:solidFill>
                    <a:latin typeface="Arial"/>
                  </a:rPr>
                  <a:t>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66"/>
                    </a:solidFill>
                    <a:latin typeface="Arial"/>
                  </a:rPr>
                  <a:t>В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66"/>
                    </a:solidFill>
                    <a:latin typeface="Arial"/>
                  </a:rPr>
                  <a:t>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4724280" y="5791320"/>
              <a:ext cx="990720" cy="459720"/>
            </a:xfrm>
            <a:prstGeom prst="rect">
              <a:avLst/>
            </a:prstGeom>
            <a:solidFill>
              <a:srgbClr val="f8b58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66"/>
                  </a:solidFill>
                  <a:latin typeface="Arial"/>
                </a:rPr>
                <a:t>6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943600" y="5867280"/>
              <a:ext cx="685800" cy="304920"/>
            </a:xfrm>
            <a:custGeom>
              <a:avLst/>
              <a:gdLst>
                <a:gd name="textAreaLeft" fmla="*/ 0 w 685800"/>
                <a:gd name="textAreaRight" fmla="*/ 686160 w 68580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0000"/>
            </a:solidFill>
            <a:ln w="3816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59bff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1066680" y="2743200"/>
            <a:ext cx="687096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700" spc="-1" strike="noStrike">
                <a:solidFill>
                  <a:srgbClr val="cc00cc"/>
                </a:solidFill>
                <a:latin typeface="Comic Sans MS"/>
              </a:rPr>
              <a:t>Практические задания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59bff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2392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99"/>
                </a:solidFill>
                <a:latin typeface="Bookman Old Style"/>
              </a:rPr>
              <a:t>«Все есть число, и числа управляют миром»</a:t>
            </a:r>
            <a:br>
              <a:rPr sz="39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                   </a:t>
            </a:r>
            <a:r>
              <a:rPr b="1" i="1" lang="en-US" sz="3500" spc="-1" strike="noStrike">
                <a:solidFill>
                  <a:srgbClr val="ff66cc"/>
                </a:solidFill>
                <a:latin typeface="Bookman Old Style"/>
              </a:rPr>
              <a:t>Пифагорейцы</a:t>
            </a: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59092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100" spc="-1" strike="noStrike">
                <a:solidFill>
                  <a:srgbClr val="000099"/>
                </a:solidFill>
                <a:latin typeface="Bookman Old Style"/>
              </a:rPr>
              <a:t>«Это, конечно, мистика. Но числа дают возможность человеку управлять миром, и в этом нас убеждает весь ход развития науки и техники»</a:t>
            </a:r>
            <a:endParaRPr b="0" lang="en-US" sz="31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ff66cc"/>
                </a:solidFill>
                <a:latin typeface="Bookman Old Style"/>
              </a:rPr>
              <a:t>А. Дородницын</a:t>
            </a:r>
            <a:endParaRPr b="0" lang="en-US" sz="27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59bff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59bff"/>
                </a:solidFill>
                <a:latin typeface="Comic Sans MS"/>
              </a:rPr>
              <a:t>Подготовительный этап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Разделение класса на 3 команды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- Придумать и записать название своей команды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- Выбрать капитана команды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                      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Жюри: гост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5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500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500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500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500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59bff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1676520" y="3143160"/>
            <a:ext cx="5943600" cy="371484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78920" y="1483920"/>
            <a:ext cx="84963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Comic Sans MS"/>
              </a:rPr>
              <a:t>Работая в группе, </a:t>
            </a:r>
            <a:br>
              <a:rPr sz="4400"/>
            </a:br>
            <a:r>
              <a:rPr b="1" lang="ru-RU" sz="4400" spc="-1" strike="noStrike">
                <a:solidFill>
                  <a:srgbClr val="006600"/>
                </a:solidFill>
                <a:latin typeface="Comic Sans MS"/>
              </a:rPr>
              <a:t>будьте взаимовежливы!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59bff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6960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Задание № 1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800" spc="-1" strike="noStrike">
                <a:solidFill>
                  <a:srgbClr val="0066ff"/>
                </a:solidFill>
                <a:latin typeface="Comic Sans MS"/>
              </a:rPr>
              <a:t>Расшифровать следующие записи, используя таблицу азбуки Морзе: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59bff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6870600" cy="1143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Comic Sans MS"/>
              </a:rPr>
              <a:t>Команды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"/>
          <p:cNvSpPr/>
          <p:nvPr/>
        </p:nvSpPr>
        <p:spPr>
          <a:xfrm>
            <a:off x="1447920" y="2057400"/>
            <a:ext cx="75960" cy="7632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838080" y="2438280"/>
            <a:ext cx="76320" cy="7632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371600" y="2438280"/>
            <a:ext cx="76320" cy="7632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838080" y="3581280"/>
            <a:ext cx="76320" cy="7632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905120" y="3581280"/>
            <a:ext cx="75960" cy="7632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715000" y="1219320"/>
            <a:ext cx="76320" cy="7596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315200" y="1219320"/>
            <a:ext cx="76320" cy="7596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781680" y="1600200"/>
            <a:ext cx="76320" cy="7632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715000" y="1981080"/>
            <a:ext cx="76320" cy="7632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172200" y="1981080"/>
            <a:ext cx="76320" cy="7632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248520" y="2362320"/>
            <a:ext cx="75960" cy="7596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705720" y="3581280"/>
            <a:ext cx="75960" cy="7632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715000" y="3581280"/>
            <a:ext cx="76320" cy="7632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15000" y="1600200"/>
            <a:ext cx="76320" cy="7632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295280" y="365760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095880" y="129528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638680" y="289548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638680" y="243828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095880" y="365760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095880" y="167652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295280" y="129528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762120" y="129528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295280" y="167652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62120" y="167652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762120" y="205740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828800" y="167652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62120" y="327672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762120" y="289548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828800" y="327672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295280" y="327672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514600" y="1066680"/>
            <a:ext cx="30492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99"/>
                </a:solidFill>
                <a:latin typeface="Comic Sans MS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99"/>
                </a:solidFill>
                <a:latin typeface="Comic Sans MS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99"/>
                </a:solidFill>
                <a:latin typeface="Comic Sans MS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99"/>
                </a:solidFill>
                <a:latin typeface="Comic Sans MS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99"/>
                </a:solidFill>
                <a:latin typeface="Comic Sans MS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99"/>
                </a:solidFill>
                <a:latin typeface="Comic Sans MS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99"/>
                </a:solidFill>
                <a:latin typeface="Comic Sans MS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715000" y="3200400"/>
            <a:ext cx="76320" cy="7632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7620120" y="1066680"/>
            <a:ext cx="45720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99"/>
                </a:solidFill>
                <a:latin typeface="Comic Sans MS"/>
              </a:rPr>
              <a:t>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99"/>
                </a:solidFill>
                <a:latin typeface="Comic Sans MS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99"/>
                </a:solidFill>
                <a:latin typeface="Comic Sans MS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99"/>
                </a:solidFill>
                <a:latin typeface="Comic Sans MS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99"/>
                </a:solidFill>
                <a:latin typeface="Comic Sans MS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99"/>
                </a:solidFill>
                <a:latin typeface="Comic Sans MS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99"/>
                </a:solidFill>
                <a:latin typeface="Comic Sans MS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752480" y="4191120"/>
            <a:ext cx="30492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Comic Sans MS"/>
              </a:rPr>
              <a:t>циф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257800" y="4249800"/>
            <a:ext cx="3808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Comic Sans MS"/>
              </a:rPr>
              <a:t>тек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324480" y="4952880"/>
            <a:ext cx="76320" cy="7632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324480" y="5791320"/>
            <a:ext cx="76320" cy="7596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781680" y="5334120"/>
            <a:ext cx="76320" cy="7596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781680" y="5791320"/>
            <a:ext cx="76320" cy="7596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7238880" y="5791320"/>
            <a:ext cx="76320" cy="7596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248520" y="6248520"/>
            <a:ext cx="30456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248520" y="4572000"/>
            <a:ext cx="30456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248520" y="5410080"/>
            <a:ext cx="30456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7162920" y="5410080"/>
            <a:ext cx="30456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048120" y="4419720"/>
            <a:ext cx="75960" cy="7596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514600" y="4876920"/>
            <a:ext cx="76320" cy="7596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048120" y="4876920"/>
            <a:ext cx="75960" cy="7596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514600" y="5791320"/>
            <a:ext cx="76320" cy="7596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505320" y="5791320"/>
            <a:ext cx="75960" cy="7596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895480" y="6248520"/>
            <a:ext cx="30492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438280" y="4495680"/>
            <a:ext cx="30492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429000" y="5334120"/>
            <a:ext cx="30492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429000" y="4495680"/>
            <a:ext cx="30492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895480" y="5867280"/>
            <a:ext cx="30492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038480" y="4419720"/>
            <a:ext cx="76320" cy="7596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514600" y="5257800"/>
            <a:ext cx="76320" cy="7632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048120" y="5257800"/>
            <a:ext cx="75960" cy="7632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038480" y="5257800"/>
            <a:ext cx="76320" cy="7632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14600" y="6172200"/>
            <a:ext cx="76320" cy="7632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9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9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4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9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9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4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4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9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1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6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6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1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6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1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6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1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6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1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6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1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6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1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8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3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8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3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8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8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3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8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3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8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3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8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0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5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0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0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5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4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1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8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59bff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/>
          </p:nvPr>
        </p:nvSpPr>
        <p:spPr>
          <a:xfrm>
            <a:off x="2514600" y="2590560"/>
            <a:ext cx="44956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"/>
          <p:cNvSpPr/>
          <p:nvPr/>
        </p:nvSpPr>
        <p:spPr>
          <a:xfrm>
            <a:off x="228600" y="228600"/>
            <a:ext cx="7391520" cy="9471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e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Задание № 2</a:t>
            </a: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«ЛОМАЕМ» голову</a:t>
            </a:r>
            <a:br>
              <a:rPr sz="2400"/>
            </a:br>
            <a:br>
              <a:rPr sz="12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Прочитайте стихотворение А.Н.Стариков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295280" y="1341360"/>
            <a:ext cx="6324840" cy="5528880"/>
          </a:xfrm>
          <a:prstGeom prst="rect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Ей было 1100 ле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на в 101-й класс ходил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портфеле по 100 книг носила 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се это правда, а не бре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огда, пыля десятком ног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на шагала по дорог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а ней всегда бежал щен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 одним хвостом, зато 100-ног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на ловила каждый зву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воими 10-ю ушам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 10 загорелых ру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ртфель и поводок держа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 10 темно-синих гла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ассматривали мир привычно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о станет все совсем обычны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огда поймете наш рассказ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Поняли ли вы рассказ поэт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5715000" y="2286000"/>
            <a:ext cx="3278160" cy="24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59bff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09120" y="2742840"/>
            <a:ext cx="8001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mic Sans MS"/>
              </a:rPr>
              <a:t>Задание №3 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6000" spc="-1" strike="noStrike">
                <a:solidFill>
                  <a:srgbClr val="006666"/>
                </a:solidFill>
                <a:latin typeface="Comic Sans MS"/>
              </a:rPr>
              <a:t>Декодирование слов по номерам букв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59bff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/>
          </p:nvPr>
        </p:nvSpPr>
        <p:spPr>
          <a:xfrm>
            <a:off x="685440" y="1447920"/>
            <a:ext cx="80010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lain" startAt="2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3  6  2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9  15  1  12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lain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  21  12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14  29  26  30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   21  12  3   1              25  10  19  13  16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" name=""/>
          <p:cNvSpPr/>
          <p:nvPr/>
        </p:nvSpPr>
        <p:spPr>
          <a:xfrm>
            <a:off x="1905120" y="4492800"/>
            <a:ext cx="1676160" cy="20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ff"/>
                </a:solidFill>
                <a:latin typeface="Comic Sans MS"/>
              </a:rPr>
              <a:t>Хлеб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ff"/>
                </a:solidFill>
                <a:latin typeface="Comic Sans MS"/>
              </a:rPr>
              <a:t>Звук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ff"/>
                </a:solidFill>
                <a:latin typeface="Comic Sans MS"/>
              </a:rPr>
              <a:t>Буква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19920" y="4492800"/>
            <a:ext cx="1371600" cy="29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ff"/>
                </a:solidFill>
                <a:latin typeface="Comic Sans MS"/>
              </a:rPr>
              <a:t>Знак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ff"/>
                </a:solidFill>
                <a:latin typeface="Comic Sans MS"/>
              </a:rPr>
              <a:t>Мышь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ff"/>
                </a:solidFill>
                <a:latin typeface="Comic Sans MS"/>
              </a:rPr>
              <a:t>Число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9" dur="indefinite" restart="never" nodeType="tmRoot">
          <p:childTnLst>
            <p:seq>
              <p:cTn id="790" dur="indefinite" nodeType="mainSeq">
                <p:childTnLst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5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00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59bff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56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         х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54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         х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143000" y="22096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Ответ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56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10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11000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54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=110110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"/>
          <p:cNvSpPr/>
          <p:nvPr/>
        </p:nvSpPr>
        <p:spPr>
          <a:xfrm>
            <a:off x="3886200" y="685800"/>
            <a:ext cx="838080" cy="76320"/>
          </a:xfrm>
          <a:prstGeom prst="rightArrow">
            <a:avLst>
              <a:gd name="adj1" fmla="val 50000"/>
              <a:gd name="adj2" fmla="val 274528"/>
            </a:avLst>
          </a:prstGeom>
          <a:solidFill>
            <a:srgbClr val="ffe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809880" y="1295280"/>
            <a:ext cx="990720" cy="76320"/>
          </a:xfrm>
          <a:prstGeom prst="rightArrow">
            <a:avLst>
              <a:gd name="adj1" fmla="val 50000"/>
              <a:gd name="adj2" fmla="val 324528"/>
            </a:avLst>
          </a:prstGeom>
          <a:solidFill>
            <a:srgbClr val="ffe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9120" y="8100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Задание №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0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9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4" dur="5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5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1" dur="500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8" dur="500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59bff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/>
          </p:nvPr>
        </p:nvSpPr>
        <p:spPr>
          <a:xfrm>
            <a:off x="971280" y="189000"/>
            <a:ext cx="7056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800"/>
              </a:spcBef>
              <a:buClr>
                <a:srgbClr val="66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6600ff"/>
                </a:solidFill>
                <a:latin typeface="Comic Sans MS"/>
              </a:rPr>
              <a:t>ФИЗМИНУТКА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1619280" y="1427040"/>
            <a:ext cx="5491080" cy="462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31" dur="indefinite" restart="never" nodeType="tmRoot">
          <p:childTnLst>
            <p:seq>
              <p:cTn id="832" dur="indefinite" nodeType="mainSeq">
                <p:childTnLst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9" dur="5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fill="hold">
                            <p:stCondLst>
                              <p:cond delay="500"/>
                            </p:stCondLst>
                            <p:childTnLst>
                              <p:par>
                                <p:cTn id="84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3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59bff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826920" y="1916280"/>
            <a:ext cx="2016360" cy="33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2320">
                  <a:solidFill>
                    <a:srgbClr val="00ff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М</a:t>
            </a:r>
            <a:endParaRPr b="1" lang="en-US" sz="1800" spc="1" strike="noStrike">
              <a:ln w="22320">
                <a:solidFill>
                  <a:srgbClr val="00ff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3"/>
          <a:stretch/>
        </p:blipFill>
        <p:spPr>
          <a:xfrm>
            <a:off x="3132000" y="3284640"/>
            <a:ext cx="3810240" cy="175248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 txBox="1"/>
          <p:nvPr/>
        </p:nvSpPr>
        <p:spPr>
          <a:xfrm>
            <a:off x="3348000" y="2205000"/>
            <a:ext cx="360360" cy="89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2320">
                  <a:solidFill>
                    <a:srgbClr val="ff00ff"/>
                  </a:solidFill>
                  <a:miter/>
                </a:ln>
                <a:solidFill>
                  <a:srgbClr val="00ffff"/>
                </a:solidFill>
                <a:latin typeface="Georgia"/>
              </a:rPr>
              <a:t>,</a:t>
            </a:r>
            <a:endParaRPr b="1" lang="en-US" sz="1800" spc="1" strike="noStrike">
              <a:ln w="22320">
                <a:solidFill>
                  <a:srgbClr val="ff00ff"/>
                </a:solidFill>
                <a:miter/>
              </a:ln>
              <a:solidFill>
                <a:srgbClr val="00ffff"/>
              </a:solidFill>
              <a:latin typeface="Georgia"/>
              <a:ea typeface="Georgia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4"/>
          <a:stretch/>
        </p:blipFill>
        <p:spPr>
          <a:xfrm>
            <a:off x="7164360" y="3213000"/>
            <a:ext cx="1655640" cy="1567080"/>
          </a:xfrm>
          <a:prstGeom prst="rect">
            <a:avLst/>
          </a:prstGeom>
          <a:ln w="0">
            <a:noFill/>
          </a:ln>
        </p:spPr>
      </p:pic>
      <p:sp>
        <p:nvSpPr>
          <p:cNvPr id="360" name=""/>
          <p:cNvSpPr txBox="1"/>
          <p:nvPr/>
        </p:nvSpPr>
        <p:spPr>
          <a:xfrm>
            <a:off x="8459640" y="2205000"/>
            <a:ext cx="360360" cy="89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2320">
                  <a:solidFill>
                    <a:srgbClr val="ffffff"/>
                  </a:solidFill>
                  <a:miter/>
                </a:ln>
                <a:solidFill>
                  <a:srgbClr val="ffcc00"/>
                </a:solidFill>
                <a:latin typeface="Georgia"/>
              </a:rPr>
              <a:t>,</a:t>
            </a:r>
            <a:endParaRPr b="1" lang="en-US" sz="1800" spc="1" strike="noStrike">
              <a:ln w="22320">
                <a:solidFill>
                  <a:srgbClr val="ffffff"/>
                </a:solidFill>
                <a:miter/>
              </a:ln>
              <a:solidFill>
                <a:srgbClr val="ffcc00"/>
              </a:solidFill>
              <a:latin typeface="Georgia"/>
              <a:ea typeface="Georgia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2971800" y="304920"/>
            <a:ext cx="568800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cap="rnd" w="25560">
                  <a:solidFill>
                    <a:srgbClr val="006600"/>
                  </a:solidFill>
                  <a:custDash>
                    <a:ds d="100000" sp="1000"/>
                  </a:custDash>
                  <a:miter/>
                </a:ln>
                <a:blipFill rotWithShape="0">
                  <a:blip r:embed="rId5"/>
                  <a:srcRect/>
                  <a:stretch/>
                </a:blipFill>
                <a:latin typeface="Georgia"/>
              </a:rPr>
              <a:t>Монитор</a:t>
            </a:r>
            <a:endParaRPr b="1" i="1" lang="en-US" sz="1800" spc="1" strike="noStrike">
              <a:ln cap="rnd" w="25560">
                <a:solidFill>
                  <a:srgbClr val="006600"/>
                </a:solidFill>
                <a:custDash>
                  <a:ds d="100000" sp="1000"/>
                </a:custDash>
                <a:miter/>
              </a:ln>
              <a:blipFill rotWithShape="0">
                <a:blip r:embed="rId6"/>
                <a:srcRect/>
                <a:stretch/>
              </a:blipFill>
              <a:latin typeface="Georgia"/>
              <a:ea typeface="Georgia"/>
            </a:endParaRPr>
          </a:p>
        </p:txBody>
      </p:sp>
    </p:spTree>
  </p:cSld>
  <p:timing>
    <p:tnLst>
      <p:par>
        <p:cTn id="847" dur="indefinite" restart="never" nodeType="tmRoot">
          <p:childTnLst>
            <p:seq>
              <p:cTn id="848" dur="indefinite" nodeType="mainSeq">
                <p:childTnLst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3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59bff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6095880" y="3276720"/>
            <a:ext cx="1817640" cy="19047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1600200" y="3581280"/>
            <a:ext cx="2514600" cy="84312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4495680" y="1600200"/>
            <a:ext cx="936720" cy="182880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1982880" y="5349240"/>
            <a:ext cx="3844440" cy="13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ловек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Кодирование информаци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"/>
          <p:cNvSpPr/>
          <p:nvPr/>
        </p:nvSpPr>
        <p:spPr>
          <a:xfrm rot="19906200">
            <a:off x="2666520" y="2286000"/>
            <a:ext cx="1828800" cy="914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0101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rot="1185600">
            <a:off x="5486400" y="2209320"/>
            <a:ext cx="1828800" cy="914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0101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rot="9379200">
            <a:off x="5714640" y="5181480"/>
            <a:ext cx="1824120" cy="914400"/>
          </a:xfrm>
          <a:prstGeom prst="rightArrow">
            <a:avLst>
              <a:gd name="adj1" fmla="val 50000"/>
              <a:gd name="adj2" fmla="val 49872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тек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rot="12895800">
            <a:off x="2514240" y="5029200"/>
            <a:ext cx="1828800" cy="914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тек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59bff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" descr=""/>
          <p:cNvPicPr/>
          <p:nvPr/>
        </p:nvPicPr>
        <p:blipFill>
          <a:blip r:embed="rId1"/>
          <a:stretch/>
        </p:blipFill>
        <p:spPr>
          <a:xfrm>
            <a:off x="179280" y="1844640"/>
            <a:ext cx="2521080" cy="252108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 txBox="1"/>
          <p:nvPr/>
        </p:nvSpPr>
        <p:spPr>
          <a:xfrm>
            <a:off x="3348000" y="1484280"/>
            <a:ext cx="360360" cy="89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2320">
                  <a:solidFill>
                    <a:srgbClr val="ffffff"/>
                  </a:solidFill>
                  <a:miter/>
                </a:ln>
                <a:solidFill>
                  <a:srgbClr val="ffcc00"/>
                </a:solidFill>
                <a:latin typeface="Georgia"/>
              </a:rPr>
              <a:t>,</a:t>
            </a:r>
            <a:endParaRPr b="1" lang="en-US" sz="1800" spc="1" strike="noStrike">
              <a:ln w="22320">
                <a:solidFill>
                  <a:srgbClr val="ffffff"/>
                </a:solidFill>
                <a:miter/>
              </a:ln>
              <a:solidFill>
                <a:srgbClr val="ffcc00"/>
              </a:solidFill>
              <a:latin typeface="Georgia"/>
              <a:ea typeface="Georgia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2843280" y="1484280"/>
            <a:ext cx="360360" cy="89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2320">
                  <a:solidFill>
                    <a:srgbClr val="ffffff"/>
                  </a:solidFill>
                  <a:miter/>
                </a:ln>
                <a:solidFill>
                  <a:srgbClr val="ffcc00"/>
                </a:solidFill>
                <a:latin typeface="Georgia"/>
              </a:rPr>
              <a:t>,</a:t>
            </a:r>
            <a:endParaRPr b="1" lang="en-US" sz="1800" spc="1" strike="noStrike">
              <a:ln w="22320">
                <a:solidFill>
                  <a:srgbClr val="ffffff"/>
                </a:solidFill>
                <a:miter/>
              </a:ln>
              <a:solidFill>
                <a:srgbClr val="ffcc00"/>
              </a:solidFill>
              <a:latin typeface="Georgia"/>
              <a:ea typeface="Georgia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2340000" y="1484280"/>
            <a:ext cx="360360" cy="89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2320">
                  <a:solidFill>
                    <a:srgbClr val="ffffff"/>
                  </a:solidFill>
                  <a:miter/>
                </a:ln>
                <a:solidFill>
                  <a:srgbClr val="ffcc00"/>
                </a:solidFill>
                <a:latin typeface="Georgia"/>
              </a:rPr>
              <a:t>,</a:t>
            </a:r>
            <a:endParaRPr b="1" lang="en-US" sz="1800" spc="1" strike="noStrike">
              <a:ln w="22320">
                <a:solidFill>
                  <a:srgbClr val="ffffff"/>
                </a:solidFill>
                <a:miter/>
              </a:ln>
              <a:solidFill>
                <a:srgbClr val="ffcc00"/>
              </a:solidFill>
              <a:latin typeface="Georgia"/>
              <a:ea typeface="Georgia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3348000" y="2852640"/>
            <a:ext cx="115272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ffff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Arial"/>
              </a:rPr>
              <a:t>о</a:t>
            </a:r>
            <a:endParaRPr b="0" lang="en-US" sz="1800" spc="1" strike="noStrike">
              <a:ln w="25560">
                <a:solidFill>
                  <a:srgbClr val="ffff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932360" y="1125360"/>
            <a:ext cx="3168720" cy="30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ffff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Arial"/>
              </a:rPr>
              <a:t>о</a:t>
            </a:r>
            <a:endParaRPr b="0" lang="en-US" sz="1800" spc="1" strike="noStrike">
              <a:ln w="25560">
                <a:solidFill>
                  <a:srgbClr val="ffff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5796000" y="2133720"/>
            <a:ext cx="144000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4920">
                  <a:solidFill>
                    <a:srgbClr val="ffffff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latin typeface="Arial"/>
              </a:rPr>
              <a:t>Д</a:t>
            </a:r>
            <a:endParaRPr b="0" lang="en-US" sz="1800" spc="1" strike="noStrike">
              <a:ln w="34920">
                <a:solidFill>
                  <a:srgbClr val="ffffff"/>
                </a:solidFill>
                <a:miter/>
              </a:ln>
              <a:blipFill rotWithShape="0">
                <a:blip r:embed="rId7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1979640" y="4581360"/>
            <a:ext cx="669600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ff00"/>
                  </a:solidFill>
                  <a:miter/>
                </a:ln>
                <a:blipFill rotWithShape="0">
                  <a:blip r:embed="rId8"/>
                  <a:srcRect/>
                  <a:stretch/>
                </a:blipFill>
                <a:latin typeface="Comic Sans MS"/>
              </a:rPr>
              <a:t>Дисковод</a:t>
            </a:r>
            <a:endParaRPr b="1" lang="en-US" sz="1800" spc="1" strike="noStrike">
              <a:ln w="9360">
                <a:solidFill>
                  <a:srgbClr val="00ff00"/>
                </a:solidFill>
                <a:miter/>
              </a:ln>
              <a:blipFill rotWithShape="0">
                <a:blip r:embed="rId9"/>
                <a:srcRect/>
                <a:stretch/>
              </a:blipFill>
              <a:latin typeface="Comic Sans MS"/>
              <a:ea typeface="Comic Sans MS"/>
            </a:endParaRPr>
          </a:p>
        </p:txBody>
      </p:sp>
    </p:spTree>
  </p:cSld>
  <p:timing>
    <p:tnLst>
      <p:par>
        <p:cTn id="854" dur="indefinite" restart="never" nodeType="tmRoot">
          <p:childTnLst>
            <p:seq>
              <p:cTn id="855" dur="indefinite" nodeType="mainSeq">
                <p:childTnLst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0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59bff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611280" y="1916280"/>
            <a:ext cx="2016000" cy="26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КОД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1"/>
          <a:stretch/>
        </p:blipFill>
        <p:spPr>
          <a:xfrm>
            <a:off x="5508720" y="2492280"/>
            <a:ext cx="2635200" cy="178596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 txBox="1"/>
          <p:nvPr/>
        </p:nvSpPr>
        <p:spPr>
          <a:xfrm>
            <a:off x="3059280" y="1773360"/>
            <a:ext cx="360360" cy="89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2320">
                  <a:solidFill>
                    <a:srgbClr val="ffffff"/>
                  </a:solidFill>
                  <a:miter/>
                </a:ln>
                <a:solidFill>
                  <a:srgbClr val="800000"/>
                </a:solidFill>
                <a:latin typeface="Georgia"/>
              </a:rPr>
              <a:t>,</a:t>
            </a:r>
            <a:endParaRPr b="1" lang="en-US" sz="1800" spc="1" strike="noStrike">
              <a:ln w="22320">
                <a:solidFill>
                  <a:srgbClr val="ffffff"/>
                </a:solidFill>
                <a:miter/>
              </a:ln>
              <a:solidFill>
                <a:srgbClr val="800000"/>
              </a:solidFill>
              <a:latin typeface="Georgia"/>
              <a:ea typeface="Georgia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3924360" y="1268280"/>
            <a:ext cx="158436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2320">
                  <a:solidFill>
                    <a:srgbClr val="ffffff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г=в</a:t>
            </a:r>
            <a:endParaRPr b="1" lang="en-US" sz="1800" spc="1" strike="noStrike">
              <a:ln w="22320">
                <a:solidFill>
                  <a:srgbClr val="ffffff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6156360" y="1844640"/>
            <a:ext cx="360360" cy="89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2320">
                  <a:solidFill>
                    <a:srgbClr val="ffffff"/>
                  </a:solidFill>
                  <a:miter/>
                </a:ln>
                <a:solidFill>
                  <a:srgbClr val="808000"/>
                </a:solidFill>
                <a:latin typeface="Georgia"/>
              </a:rPr>
              <a:t>,</a:t>
            </a:r>
            <a:endParaRPr b="1" lang="en-US" sz="1800" spc="1" strike="noStrike">
              <a:ln w="22320">
                <a:solidFill>
                  <a:srgbClr val="ffffff"/>
                </a:solidFill>
                <a:miter/>
              </a:ln>
              <a:solidFill>
                <a:srgbClr val="808000"/>
              </a:solidFill>
              <a:latin typeface="Georgia"/>
              <a:ea typeface="Georgia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8101080" y="1916280"/>
            <a:ext cx="86508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1332000" y="4941720"/>
            <a:ext cx="691200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Georgia"/>
              </a:rPr>
              <a:t>Кодирование</a:t>
            </a:r>
            <a:endParaRPr b="1" i="1" lang="en-US" sz="1800" spc="1" strike="noStrike">
              <a:ln w="19080">
                <a:solidFill>
                  <a:srgbClr val="99cc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Georgia"/>
              <a:ea typeface="Georgia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4"/>
          <a:stretch/>
        </p:blipFill>
        <p:spPr>
          <a:xfrm>
            <a:off x="3132000" y="2205000"/>
            <a:ext cx="2049480" cy="1862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7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59bff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Занимательные задачи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№5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51920" y="1676520"/>
            <a:ext cx="48769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Мартышка-мама связала 111 своим непослушным детишкам по перчатке на каждую руку и ногу. Но они порвали все свои перчатки, кроме младшего, который порвал  только 11. Сколько перчаток попадет маме в починку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Ответ в 10-й сс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5181480" y="2743200"/>
            <a:ext cx="36576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59bff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6960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Задание №6 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800" spc="-1" strike="noStrike">
                <a:solidFill>
                  <a:srgbClr val="006666"/>
                </a:solidFill>
                <a:latin typeface="Comic Sans MS"/>
              </a:rPr>
              <a:t>Кодирование слов по номерам букв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8" dur="indefinite" restart="never" nodeType="tmRoot">
          <p:childTnLst>
            <p:seq>
              <p:cTn id="869" dur="indefinite" nodeType="mainSeq">
                <p:childTnLst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4" dur="5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6" dur="500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3" dur="500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59bff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ff"/>
                </a:solidFill>
                <a:latin typeface="Comic Sans MS"/>
              </a:rPr>
              <a:t>Команды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1000"/>
          </a:bodyPr>
          <a:p>
            <a:pPr marL="140400"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006600"/>
                </a:solidFill>
                <a:latin typeface="Georgia"/>
              </a:rPr>
              <a:t>Алфавит</a:t>
            </a:r>
            <a:r>
              <a:rPr b="1" lang="en-US" sz="47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47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1" lang="en-US" sz="47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1" lang="en-US" sz="4700" spc="-1" strike="noStrike">
                <a:solidFill>
                  <a:srgbClr val="006600"/>
                </a:solidFill>
                <a:latin typeface="Comic Sans MS"/>
              </a:rPr>
              <a:t>Тетрадь</a:t>
            </a:r>
            <a:endParaRPr b="0" lang="en-US" sz="4700" spc="-1" strike="noStrike">
              <a:solidFill>
                <a:srgbClr val="000000"/>
              </a:solidFill>
              <a:latin typeface="Comic Sans MS"/>
            </a:endParaRPr>
          </a:p>
          <a:p>
            <a:pPr marL="140400"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00000"/>
              </a:solidFill>
              <a:latin typeface="Comic Sans MS"/>
            </a:endParaRPr>
          </a:p>
          <a:p>
            <a:pPr marL="1404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marL="140400"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006600"/>
                </a:solidFill>
                <a:latin typeface="Comic Sans MS"/>
              </a:rPr>
              <a:t>Блокнот         Циркуль</a:t>
            </a:r>
            <a:endParaRPr b="0" lang="en-US" sz="4700" spc="-1" strike="noStrike">
              <a:solidFill>
                <a:srgbClr val="000000"/>
              </a:solidFill>
              <a:latin typeface="Comic Sans MS"/>
            </a:endParaRPr>
          </a:p>
          <a:p>
            <a:pPr marL="140400"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00000"/>
              </a:solidFill>
              <a:latin typeface="Comic Sans MS"/>
            </a:endParaRPr>
          </a:p>
          <a:p>
            <a:pPr marL="140400"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" name=""/>
          <p:cNvSpPr/>
          <p:nvPr/>
        </p:nvSpPr>
        <p:spPr>
          <a:xfrm>
            <a:off x="228600" y="283356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 13 22 1 3 10 20</a:t>
            </a:r>
            <a:r>
              <a:rPr b="1" lang="en-US" sz="27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4800600" y="283356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20 6 20 18 1 5 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52280" y="4510080"/>
            <a:ext cx="44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2 13 16 12 15 16 20</a:t>
            </a:r>
            <a:r>
              <a:rPr b="1" lang="en-US" sz="27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724280" y="451008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24 10 18 12 21 13 30</a:t>
            </a:r>
            <a:r>
              <a:rPr b="1" lang="en-US" sz="27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0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5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0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5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59bff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Занимательные задачи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№7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2743200" y="1828800"/>
            <a:ext cx="5943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Мартышка висит на хвосте и жует бананы. В каждой руке по 101 банану, а в каждой ноге – на 1 банан больше, чем в руке. Сколько бананов у мартышки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Ответ в 2-й сс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1"/>
          <a:stretch/>
        </p:blipFill>
        <p:spPr>
          <a:xfrm>
            <a:off x="380880" y="1981080"/>
            <a:ext cx="2189160" cy="27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6" dur="indefinite" restart="never" nodeType="tmRoot">
          <p:childTnLst>
            <p:seq>
              <p:cTn id="907" dur="indefinite" nodeType="mainSeq">
                <p:childTnLst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59bff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68709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99"/>
                </a:solidFill>
                <a:latin typeface="Comic Sans MS"/>
              </a:rPr>
              <a:t>Задание на дом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§ 4. Пример1. Переведите числа из 10 в 2 с.с. и обратно в 10 с.с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133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omic Sans MS"/>
              </a:rPr>
              <a:t>10                  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х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145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omic Sans MS"/>
              </a:rPr>
              <a:t>10                  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х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185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omic Sans MS"/>
              </a:rPr>
              <a:t>10                  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х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354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omic Sans MS"/>
              </a:rPr>
              <a:t>10                 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х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3" name=""/>
          <p:cNvSpPr/>
          <p:nvPr/>
        </p:nvSpPr>
        <p:spPr>
          <a:xfrm>
            <a:off x="2209680" y="4267080"/>
            <a:ext cx="1295640" cy="76320"/>
          </a:xfrm>
          <a:prstGeom prst="rightArrow">
            <a:avLst>
              <a:gd name="adj1" fmla="val 50000"/>
              <a:gd name="adj2" fmla="val 424410"/>
            </a:avLst>
          </a:prstGeom>
          <a:solidFill>
            <a:srgbClr val="ffe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209680" y="4800600"/>
            <a:ext cx="1295640" cy="76320"/>
          </a:xfrm>
          <a:prstGeom prst="rightArrow">
            <a:avLst>
              <a:gd name="adj1" fmla="val 50000"/>
              <a:gd name="adj2" fmla="val 424410"/>
            </a:avLst>
          </a:prstGeom>
          <a:solidFill>
            <a:srgbClr val="ffe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133720" y="3276720"/>
            <a:ext cx="1295280" cy="75960"/>
          </a:xfrm>
          <a:prstGeom prst="rightArrow">
            <a:avLst>
              <a:gd name="adj1" fmla="val 50000"/>
              <a:gd name="adj2" fmla="val 426303"/>
            </a:avLst>
          </a:prstGeom>
          <a:solidFill>
            <a:srgbClr val="ffe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209680" y="3733920"/>
            <a:ext cx="1295640" cy="75960"/>
          </a:xfrm>
          <a:prstGeom prst="rightArrow">
            <a:avLst>
              <a:gd name="adj1" fmla="val 50000"/>
              <a:gd name="adj2" fmla="val 426422"/>
            </a:avLst>
          </a:prstGeom>
          <a:solidFill>
            <a:srgbClr val="ffe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4" dur="indefinite" restart="never" nodeType="tmRoot">
          <p:childTnLst>
            <p:seq>
              <p:cTn id="915" dur="indefinite" nodeType="mainSeq">
                <p:childTnLst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2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7" dur="5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5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9" dur="500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5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6" dur="500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500" fill="hold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3" dur="500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8" dur="500" fill="hold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500" fill="hold"/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7" dur="500"/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59bff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/>
          </p:nvPr>
        </p:nvSpPr>
        <p:spPr>
          <a:xfrm>
            <a:off x="468360" y="475920"/>
            <a:ext cx="425592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Подведение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итогов урок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>
            <a:off x="4952880" y="2927520"/>
            <a:ext cx="2592360" cy="2025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58" dur="indefinite" restart="never" nodeType="tmRoot">
          <p:childTnLst>
            <p:seq>
              <p:cTn id="959" dur="indefinite" nodeType="mainSeq">
                <p:childTnLst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6" dur="500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9" dur="500" fill="hold"/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500" fill="hold"/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1" dur="500"/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59bff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1371600" y="207000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100" spc="-1" strike="noStrike">
                <a:solidFill>
                  <a:srgbClr val="ff0000"/>
                </a:solidFill>
                <a:latin typeface="Comic Sans MS"/>
              </a:rPr>
              <a:t>Кодирование</a:t>
            </a:r>
            <a:br>
              <a:rPr sz="7100"/>
            </a:br>
            <a:r>
              <a:rPr b="1" lang="en-US" sz="7100" spc="-1" strike="noStrike">
                <a:solidFill>
                  <a:srgbClr val="ff0000"/>
                </a:solidFill>
                <a:latin typeface="Comic Sans MS"/>
              </a:rPr>
              <a:t>информации</a:t>
            </a: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2" dur="indefinite" restart="never" nodeType="tmRoot">
          <p:childTnLst>
            <p:seq>
              <p:cTn id="973" dur="indefinite" nodeType="mainSeq">
                <p:childTnLst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8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0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7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59bff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187280" y="285228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r>
              <a:rPr b="1" lang="en-US" sz="7200" spc="-1" strike="noStrike">
                <a:solidFill>
                  <a:srgbClr val="0033cc"/>
                </a:solidFill>
                <a:latin typeface="Comic Sans MS"/>
              </a:rPr>
              <a:t>Спасибо </a:t>
            </a:r>
            <a:br>
              <a:rPr sz="7200"/>
            </a:br>
            <a:r>
              <a:rPr b="1" lang="en-US" sz="7200" spc="-1" strike="noStrike">
                <a:solidFill>
                  <a:srgbClr val="0033cc"/>
                </a:solidFill>
                <a:latin typeface="Comic Sans MS"/>
              </a:rPr>
              <a:t>за урок!</a:t>
            </a:r>
            <a:br>
              <a:rPr sz="7200"/>
            </a:br>
            <a:r>
              <a:rPr b="1" lang="en-US" sz="7200" spc="-1" strike="noStrike">
                <a:solidFill>
                  <a:srgbClr val="0033cc"/>
                </a:solidFill>
                <a:latin typeface="Comic Sans MS"/>
              </a:rPr>
              <a:t>До свидания!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59bff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Comic Sans MS"/>
              </a:rPr>
              <a:t>Вопросы для повторения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28240" y="762120"/>
            <a:ext cx="838188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100" spc="-1" strike="noStrike">
                <a:solidFill>
                  <a:srgbClr val="6600ff"/>
                </a:solidFill>
                <a:latin typeface="Comic Sans MS"/>
              </a:rPr>
              <a:t>Что такое информация?</a:t>
            </a:r>
            <a:endParaRPr b="0" lang="en-US" sz="31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Информация – это сведения об окружающем нас мире (всё что нас окружает).</a:t>
            </a:r>
            <a:endParaRPr b="0" lang="en-US" sz="31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100" spc="-1" strike="noStrike">
                <a:solidFill>
                  <a:srgbClr val="6600ff"/>
                </a:solidFill>
                <a:latin typeface="Comic Sans MS"/>
              </a:rPr>
              <a:t>Какие действия человек совершает с информацией?</a:t>
            </a:r>
            <a:endParaRPr b="0" lang="en-US" sz="31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Человек постоянно совершает действия, связанные с получением и передачей, хранением и обработкой информации.</a:t>
            </a:r>
            <a:endParaRPr b="0" lang="en-US" sz="31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59bff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228600" y="380880"/>
            <a:ext cx="83059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900" spc="-1" strike="noStrike">
                <a:solidFill>
                  <a:srgbClr val="6600ff"/>
                </a:solidFill>
                <a:latin typeface="Comic Sans MS"/>
              </a:rPr>
              <a:t>Как человек хранит информацию?</a:t>
            </a:r>
            <a:endParaRPr b="0" lang="en-US" sz="29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omic Sans MS"/>
              </a:rPr>
              <a:t>Хранение информации в уме – оперативная память (внутренняя информация); внешняя память (долговременная). </a:t>
            </a:r>
            <a:endParaRPr b="0" lang="en-US" sz="29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900" spc="-1" strike="noStrike">
                <a:solidFill>
                  <a:srgbClr val="6600ff"/>
                </a:solidFill>
                <a:latin typeface="Comic Sans MS"/>
              </a:rPr>
              <a:t>Какие современные носители информации вам известны?</a:t>
            </a:r>
            <a:endParaRPr b="0" lang="en-US" sz="29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omic Sans MS"/>
              </a:rPr>
              <a:t>Магнитные и лазерные диски, флеш - карты – обладают большой ёмкостью, надёжны и компактны. Винчестер (жёсткий диск)</a:t>
            </a:r>
            <a:endParaRPr b="0" lang="en-US" sz="29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59bff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228240" y="3808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6600ff"/>
                </a:solidFill>
                <a:latin typeface="Comic Sans MS"/>
              </a:rPr>
              <a:t>С помощью, какой системы счисления компьютер кодирует информацию в памяти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с помощью двоичной системы счисления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6600ff"/>
                </a:solidFill>
                <a:latin typeface="Comic Sans MS"/>
              </a:rPr>
              <a:t>А какие цифры включает двоичная система счисления  для хранение информации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                     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0 и 1.</a:t>
            </a: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59bff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1371600"/>
            <a:ext cx="8381880" cy="2971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100" spc="-1" strike="noStrike">
                <a:solidFill>
                  <a:srgbClr val="ff0000"/>
                </a:solidFill>
                <a:latin typeface="Comic Sans MS"/>
              </a:rPr>
              <a:t>27.01.12г</a:t>
            </a:r>
            <a:br>
              <a:rPr sz="7100"/>
            </a:br>
            <a:r>
              <a:rPr b="1" lang="en-US" sz="71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§</a:t>
            </a:r>
            <a:r>
              <a:rPr b="1" lang="en-US" sz="7100" spc="-1" strike="noStrike">
                <a:solidFill>
                  <a:srgbClr val="ff0000"/>
                </a:solidFill>
                <a:latin typeface="Comic Sans MS"/>
              </a:rPr>
              <a:t>4. Кодирование</a:t>
            </a:r>
            <a:br>
              <a:rPr sz="7100"/>
            </a:br>
            <a:r>
              <a:rPr b="1" lang="en-US" sz="7100" spc="-1" strike="noStrike">
                <a:solidFill>
                  <a:srgbClr val="ff0000"/>
                </a:solidFill>
                <a:latin typeface="Comic Sans MS"/>
              </a:rPr>
              <a:t>информации</a:t>
            </a: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59bff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7696080" cy="4430880"/>
          </a:xfrm>
          <a:prstGeom prst="rect">
            <a:avLst/>
          </a:prstGeom>
          <a:ln w="76320">
            <a:solidFill>
              <a:srgbClr val="0000ff"/>
            </a:solidFill>
            <a:miter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59bff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Comic Sans MS"/>
              </a:rPr>
              <a:t>Кодирование информаци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51920" y="1752480"/>
            <a:ext cx="8534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99"/>
                </a:solidFill>
                <a:latin typeface="Comic Sans MS"/>
              </a:rPr>
              <a:t>Код</a:t>
            </a:r>
            <a:r>
              <a:rPr b="0" lang="ru-RU" sz="3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– это система условных знаков для представления информаци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99"/>
                </a:solidFill>
                <a:latin typeface="Comic Sans MS"/>
              </a:rPr>
              <a:t>Кодирование</a:t>
            </a:r>
            <a:r>
              <a:rPr b="0" lang="ru-RU" sz="3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– это перевод информации в удобную для передачи, обработки или хранения форму с помощью некоторого код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8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" dur="8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03-12T19:43:15Z</dcterms:modified>
  <cp:revision>5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