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0.jpeg" ContentType="image/jpeg"/>
  <Override PartName="/ppt/media/image18.png" ContentType="image/png"/>
  <Override PartName="/ppt/media/image1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A3D1-FBCF-4C16-9CDC-588EEAD9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11A-857B-4186-AD2A-5B937145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FEC-B005-41C8-85D1-7B3B6094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44C0-18DA-4C7C-AA21-9598D2FF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CF51-5C34-41B9-9AC1-94370E9C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1978-E3E5-425A-A891-0F720CAE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F47-BA3D-4A9F-8DCA-0063C9A5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DCF-7F99-494A-8A99-AE8C12EE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A6C5-7711-4F11-A267-F6F1A6C3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E1F-5DC0-4571-B2FA-7D839EF6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B61D-9474-41EE-B74C-D339F97A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A1A-F658-42CF-B2FA-767ECEAC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EA39-E849-43D8-9878-848371BF2E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08000" y="4292280"/>
            <a:ext cx="525636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гнитный по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5877000"/>
            <a:ext cx="6400800" cy="69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 учитель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«ООШ №98»Доманова Н.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меньшение площади контура при неизменной магнитной индукции магнитного поля приводит к уменьшению числа линий, пронизывающих контур и, следовательно, к уменьшению Ф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Копия (2) Image0001"/>
          <p:cNvPicPr/>
          <p:nvPr/>
        </p:nvPicPr>
        <p:blipFill>
          <a:blip r:embed="rId2"/>
          <a:stretch/>
        </p:blipFill>
        <p:spPr>
          <a:xfrm>
            <a:off x="179280" y="3860640"/>
            <a:ext cx="590400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0" y="-50760"/>
            <a:ext cx="9325080" cy="70977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ворот контура также приводит к изменению числа линий, пронизывающих замкнутый кон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Копия (3) Image0001"/>
          <p:cNvPicPr/>
          <p:nvPr/>
        </p:nvPicPr>
        <p:blipFill>
          <a:blip r:embed="rId2"/>
          <a:stretch/>
        </p:blipFill>
        <p:spPr>
          <a:xfrm>
            <a:off x="684360" y="2276640"/>
            <a:ext cx="6480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6438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же плоскость контура параллельна линиям магнитной индукции, то поток сквозь него равен нулю: Ф =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Копия Image0001"/>
          <p:cNvPicPr/>
          <p:nvPr/>
        </p:nvPicPr>
        <p:blipFill>
          <a:blip r:embed="rId2"/>
          <a:stretch/>
        </p:blipFill>
        <p:spPr>
          <a:xfrm>
            <a:off x="2556000" y="2852640"/>
            <a:ext cx="626400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97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чего зависит магнитный поток, пронизывающий площадь плоского контура, помещенного в однородное магнитное пол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ощадь рамки, плоскость которой параллельна линиям магнитной индукции, увеличили в 3 раза. Как изменился магнитный поток сквозь рамку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411280" y="549360"/>
            <a:ext cx="6408720" cy="518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гнитный   поток  через замкнутую рамку, помещенную в однородное магнитное поле, завис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 только от модуля вектора магнитной инду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 только от площади витка и угла между ветром магнитной индукции и плоскостью рам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) только от площади рам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) от всех факторов, перечисленных вы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учить материал § 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полнить письменно упражнение 38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00720" y="4868640"/>
            <a:ext cx="412416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пасибо за ур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вторение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называется и каким символом обозначается векторная величина, которая служит количественной характеристикой магнитного пол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какой формуле определяется модуль вектора магнитной индукции однородного магнитного пол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принимается за единицу магнитной индукции? Как называется эта единиц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ком случае магнитное поле называется однородным, а в каком – неоднородны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называется линиями магнитной индукц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формулируйте правило буравч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формулируйте правило левой р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формулируйте правило правой р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374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гнитная индукция – это векторная величина, характеризующая магнитное поле и обознач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волом       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851280" y="2276640"/>
            <a:ext cx="4940280" cy="4016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7" name="Object 5"/>
              <p:cNvSpPr txBox="1"/>
              <p:nvPr/>
            </p:nvSpPr>
            <p:spPr>
              <a:xfrm>
                <a:off x="2484360" y="3789360"/>
                <a:ext cx="540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авило буравчик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авило левой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8920" y="1341360"/>
            <a:ext cx="4033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левую руку расположить так, чтобы линии магнитного поля входили в ладонь перпендикулярно к ней, а четыре пальца были направлены по току, то отставленный большой палец покажет направление действующей на проводник си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2421000"/>
            <a:ext cx="517356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ГНИТНЫЙ ПОТОК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— (символ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), мера силы и протяженности МАГНИТНОГО ПОЛЯ. Единицей магнитного потока явля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ебер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 Вб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076720" y="2492280"/>
            <a:ext cx="2886120" cy="30974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4353840" y="5589720"/>
            <a:ext cx="346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льгельм Эдуард Веб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04 – 1891 г.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 - магнитный поток, пронизывающий площадь контура, зависит от величины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ектора магнитной индукции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лощади контура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го ориентации относительно линий индукции магнитного пол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5"/>
              <p:cNvSpPr txBox="1"/>
              <p:nvPr/>
            </p:nvSpPr>
            <p:spPr>
              <a:xfrm>
                <a:off x="1763640" y="2492280"/>
                <a:ext cx="40388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Вs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4211640" y="2658960"/>
            <a:ext cx="4646520" cy="3848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753080" cy="3311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о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20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усилении магнитного поля количество силовых линий возрастает, следовательно, возрастает и магнитный по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Image0001"/>
          <p:cNvPicPr/>
          <p:nvPr/>
        </p:nvPicPr>
        <p:blipFill>
          <a:blip r:embed="rId2"/>
          <a:stretch/>
        </p:blipFill>
        <p:spPr>
          <a:xfrm>
            <a:off x="2843280" y="3284640"/>
            <a:ext cx="6049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08:33:36Z</dcterms:created>
  <dc:creator>Admin</dc:creator>
  <dc:description/>
  <dc:language>en-US</dc:language>
  <cp:lastModifiedBy>Учитель</cp:lastModifiedBy>
  <dcterms:modified xsi:type="dcterms:W3CDTF">2012-03-12T07:15:38Z</dcterms:modified>
  <cp:revision>5</cp:revision>
  <dc:subject/>
  <dc:title>Слайд 1</dc:title>
</cp:coreProperties>
</file>