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83A7-5482-4792-A8CD-1A6A788BE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2567-54B8-4AF8-8F81-CBA2235A0F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FCA-BC80-43B6-9EEC-06EE7FF1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F74-4DBC-4CEB-A929-81075E53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93C-074C-4CDC-BAFF-A0D87CFD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FFC-783C-410C-804C-D577A8A1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0D9-B6DF-44F8-9230-EAC3EA8D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D2CB-A0CE-4C4F-90CD-BEFD05A6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801-AB7C-4793-B141-C777A7D1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6596-84CA-4061-8C49-CB79495A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0E6-1F53-472A-9E2D-9A4FB3EE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8AB-89A3-4891-8B73-AA25F920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69E-63F2-4E38-A358-81796A7C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D44-04A2-476B-9F1C-1EE60DBE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F1AD-FB20-4829-B31D-37E0B8C8D6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7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Федеральное агентство по образованию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ГОУ СПО Кстовский нефтяной техн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42920" y="171468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Дети Великой Отечественной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357880" y="3929040"/>
            <a:ext cx="378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озова Ирин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удентка гр. 2009 АСУ -18 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643200" y="60721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стово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5429160" y="507204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апова Г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-360" y="1213920"/>
            <a:ext cx="50720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многие боролись с фашизмом с оружием в руках, становясь сыновьями и дочерями пол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1255956669_war_3"/>
          <p:cNvPicPr/>
          <p:nvPr/>
        </p:nvPicPr>
        <p:blipFill>
          <a:blip r:embed="rId1"/>
          <a:stretch/>
        </p:blipFill>
        <p:spPr>
          <a:xfrm>
            <a:off x="5000760" y="642960"/>
            <a:ext cx="3841560" cy="5572080"/>
          </a:xfrm>
          <a:prstGeom prst="rect">
            <a:avLst/>
          </a:prstGeom>
          <a:ln w="0">
            <a:noFill/>
          </a:ln>
        </p:spPr>
      </p:pic>
      <p:pic>
        <p:nvPicPr>
          <p:cNvPr id="76" name="20_den_pobedi.mp3" descr=""/>
          <p:cNvPicPr/>
          <p:nvPr/>
        </p:nvPicPr>
        <p:blipFill>
          <a:blip r:embed="rId2"/>
          <a:stretch/>
        </p:blipFill>
        <p:spPr>
          <a:xfrm>
            <a:off x="2357280" y="564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9720" y="142920"/>
            <a:ext cx="67676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йна, послевоенная разруха и гол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57360" y="999720"/>
            <a:ext cx="5429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ство поглотила война, юность – послевоенная разруха и гол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Нас постоянно перебрасывали из одного детдома в другой, – рассказывает Валентина Ивановна. Два года – 1946-1947 гг. я не знала вкуса хлеба. Во время этого ужасного голода норма была такой: завтрак и ужин – по 100 гр. хлеба, обед – 200. Но и эти крохи всегда отбирали ребята посильнее. Я ела только кашу и суп, заправленный ложкой рыбьего жира. Детдомовцы часами стояли в магазинах и ждали, когда продавец даст им горсточку хлебных крошек, которые оставались после нарезк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20090522-162027-794"/>
          <p:cNvPicPr/>
          <p:nvPr/>
        </p:nvPicPr>
        <p:blipFill>
          <a:blip r:embed="rId1"/>
          <a:stretch/>
        </p:blipFill>
        <p:spPr>
          <a:xfrm>
            <a:off x="357120" y="1357200"/>
            <a:ext cx="3000600" cy="40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2760" y="356760"/>
            <a:ext cx="42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тдомов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00320" y="1499760"/>
            <a:ext cx="4833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нно дети из детдомов во время войны восстанавливали разрушенное хозяйство, в 12 лет становясь у станков на заводах и фабриках, работая на стройках. Воспитанные трудом и доблестью, они рано взрослели, заменяя погибших родителей своим братьям и сестр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deti"/>
          <p:cNvPicPr/>
          <p:nvPr/>
        </p:nvPicPr>
        <p:blipFill>
          <a:blip r:embed="rId1"/>
          <a:stretch/>
        </p:blipFill>
        <p:spPr>
          <a:xfrm>
            <a:off x="285840" y="2000160"/>
            <a:ext cx="338436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" descr="x_e123aa73"/>
          <p:cNvPicPr/>
          <p:nvPr/>
        </p:nvPicPr>
        <p:blipFill>
          <a:blip r:embed="rId1">
            <a:grayscl/>
          </a:blip>
          <a:stretch/>
        </p:blipFill>
        <p:spPr>
          <a:xfrm>
            <a:off x="357120" y="35712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x_482600a9"/>
          <p:cNvPicPr/>
          <p:nvPr/>
        </p:nvPicPr>
        <p:blipFill>
          <a:blip r:embed="rId2">
            <a:grayscl/>
          </a:blip>
          <a:stretch/>
        </p:blipFill>
        <p:spPr>
          <a:xfrm>
            <a:off x="4500720" y="3143160"/>
            <a:ext cx="44575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55431"/>
          <p:cNvPicPr/>
          <p:nvPr/>
        </p:nvPicPr>
        <p:blipFill>
          <a:blip r:embed="rId1"/>
          <a:stretch/>
        </p:blipFill>
        <p:spPr>
          <a:xfrm>
            <a:off x="4429080" y="214200"/>
            <a:ext cx="4184640" cy="6321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357120" y="2714760"/>
            <a:ext cx="35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ГОРЖУС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6" descr="Рисунок1.jpg"/>
          <p:cNvPicPr/>
          <p:nvPr/>
        </p:nvPicPr>
        <p:blipFill>
          <a:blip r:embed="rId1"/>
          <a:stretch/>
        </p:blipFill>
        <p:spPr>
          <a:xfrm>
            <a:off x="1079640" y="133200"/>
            <a:ext cx="6381720" cy="501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м"/>
          <p:cNvPicPr/>
          <p:nvPr/>
        </p:nvPicPr>
        <p:blipFill>
          <a:blip r:embed="rId2"/>
          <a:stretch/>
        </p:blipFill>
        <p:spPr>
          <a:xfrm>
            <a:off x="5715000" y="142920"/>
            <a:ext cx="3246480" cy="3246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news_img_14071005_0006"/>
          <p:cNvPicPr/>
          <p:nvPr/>
        </p:nvPicPr>
        <p:blipFill>
          <a:blip r:embed="rId3"/>
          <a:stretch/>
        </p:blipFill>
        <p:spPr>
          <a:xfrm>
            <a:off x="6000840" y="4786200"/>
            <a:ext cx="3014640" cy="1790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и"/>
          <p:cNvPicPr/>
          <p:nvPr/>
        </p:nvPicPr>
        <p:blipFill>
          <a:blip r:embed="rId4"/>
          <a:stretch/>
        </p:blipFill>
        <p:spPr>
          <a:xfrm>
            <a:off x="214200" y="142920"/>
            <a:ext cx="2863800" cy="34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Над проселочной дорог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летали самолеты.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ьчуган лежит у стог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но птенчик желтороты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успел малыш на крылья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глядеть кресты паучь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ли очередь – и взмыл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ажьи летчики за тучи..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. Кед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NORMAL~1"/>
          <p:cNvPicPr/>
          <p:nvPr/>
        </p:nvPicPr>
        <p:blipFill>
          <a:blip r:embed="rId1"/>
          <a:stretch/>
        </p:blipFill>
        <p:spPr>
          <a:xfrm>
            <a:off x="826920" y="1484280"/>
            <a:ext cx="25718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210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ти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255956654_war_9"/>
          <p:cNvPicPr/>
          <p:nvPr/>
        </p:nvPicPr>
        <p:blipFill>
          <a:blip r:embed="rId1"/>
          <a:stretch/>
        </p:blipFill>
        <p:spPr>
          <a:xfrm>
            <a:off x="2357280" y="1071720"/>
            <a:ext cx="3929400" cy="25002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285840" y="3571920"/>
            <a:ext cx="8643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Летний день 22 июня 1941 года…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ди занимались обычными для себя делами. Школьники готовились к выпускному вечеру. Девчонки строили шалаши и играли в "дочки-матери", непоседливые мальчишки скакали верхом на деревянных лошад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00040" y="4284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то не подозревал, что и приятные хлопоты, и задорные игры, и многие жизни перечеркнет одно страшное слово – война. У целого поколения, рожденного с 1928 по 1945 год, украли детство. "Дети Великой Отечественной войны"– так называют таких людей. И дело здесь не только в дате рождения. Их воспитала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43280" y="214200"/>
            <a:ext cx="41817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чало войн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2920" y="2857680"/>
            <a:ext cx="8858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 сентября 1941г. гитлеровские войска захватили город Шлиссельбург у истока Невы и окружили Ленинград с суши. Началась 900 – дневная блокада города. Единственной дорогой в осажденный город было малоизученное Ладожское озеро. Из Ленинграда по воде было эвакуировано 33 479 человек, но навигация была смертельно опасна. Частые налеты вражеской авиации и непредсказуемые осенние штормы делали каждый рейс подвиг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1255800608_0_175a7_860e9702_xl"/>
          <p:cNvPicPr/>
          <p:nvPr/>
        </p:nvPicPr>
        <p:blipFill>
          <a:blip r:embed="rId1"/>
          <a:stretch/>
        </p:blipFill>
        <p:spPr>
          <a:xfrm>
            <a:off x="857160" y="142920"/>
            <a:ext cx="371952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ritannic Bold"/>
              </a:rPr>
              <a:t>Из воспоминаний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Britannic Bold"/>
              </a:rPr>
              <a:t>Валентины Ивановны Потарай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900000" y="1297440"/>
            <a:ext cx="7886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е было 5 –6 лет. Из блокадного Ленинграда нас эвакуировали в Пермскую область. Везли через Ладогу, где мы попали под бомбежку. Много детей тогда погибло, а кто выжил, натерпелся страха и ужаса. На Урал нас везли в товарных поездах вместе со скотом. На какой-то небольшой станции фашисты разбомбили поезд, загорелись вагоны. Мою старшую сестру Нину осколком ранило в лицо. Из ушей и раздробленной челюсти хлестала кровь. Средней сестре Тамаре пули попали в ногу, мать была смертельно ранена. На всю жизнь я запомнила эту картину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ZJLBPCA2LZ91NCA6PZ1OTCA2CYZ77CAH3RMWWCA2CD1BHCAZ9Z4P4CA47B3XVCATT7CT2CA7UCY2RCAXDAJIYCARC26UMCAOXBF4OCAJQGSEUCAPS63CBCA13UP8QCAVSL5CTCAGGTF9DCA6FZ9JICAI3YMCF"/>
          <p:cNvPicPr/>
          <p:nvPr/>
        </p:nvPicPr>
        <p:blipFill>
          <a:blip r:embed="rId1"/>
          <a:stretch/>
        </p:blipFill>
        <p:spPr>
          <a:xfrm>
            <a:off x="214200" y="214200"/>
            <a:ext cx="4930920" cy="3643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14960" y="2071440"/>
            <a:ext cx="39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лакать нельз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4785840"/>
            <a:ext cx="88581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на отучила детей плакать. Вспоминает Валентина Ивановна: «Когда наш эшелон разбомбили второй раз, мы попали в руки немцев. Фашисты выстраивали детей отдельно, взрослых отдельно. От ужаса никто не плакал, смотрели на все стеклянными глаз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x_53b069e0"/>
          <p:cNvPicPr/>
          <p:nvPr/>
        </p:nvPicPr>
        <p:blipFill>
          <a:blip r:embed="rId1"/>
          <a:stretch/>
        </p:blipFill>
        <p:spPr>
          <a:xfrm>
            <a:off x="285840" y="214200"/>
            <a:ext cx="5141880" cy="38577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5500800" y="1071720"/>
            <a:ext cx="36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четко усвоили урок: заплачешь – расстреляют. Ведь ребенок не может работать, пользы от него никакой. Значит, можно убивать безнаказан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85840" y="457200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люченные в лагерях дети были донорами крови для немецких солдат. Их цинично "сортировали" на пригодных и непригодных к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28760" y="1000080"/>
            <a:ext cx="40006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удьбы дете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4200" y="4214520"/>
            <a:ext cx="8715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Eras Demi ITC"/>
              </a:rPr>
              <a:t>Теряли родителей, братьев и сестер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Eras Demi ITC"/>
              </a:rPr>
              <a:t>Иногда напуганные дети по нескольку дней сидели рядом с холодными телами погибших матерей, ожидая решения своей участи. В лучшем случае их ждал советский детдом, в худшем – в фашистские засте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99"/>
          <p:cNvPicPr/>
          <p:nvPr/>
        </p:nvPicPr>
        <p:blipFill>
          <a:blip r:embed="rId1"/>
          <a:stretch/>
        </p:blipFill>
        <p:spPr>
          <a:xfrm>
            <a:off x="214200" y="198360"/>
            <a:ext cx="4857840" cy="34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3:53:06Z</dcterms:created>
  <dc:creator>Admin</dc:creator>
  <dc:description/>
  <dc:language>en-US</dc:language>
  <cp:lastModifiedBy>Galina</cp:lastModifiedBy>
  <dcterms:modified xsi:type="dcterms:W3CDTF">2010-04-14T21:23:57Z</dcterms:modified>
  <cp:revision>18</cp:revision>
  <dc:subject/>
  <dc:title>Федеральное агентство по образованию ГОУ СПО Кстовский нефтяной техникум</dc:title>
</cp:coreProperties>
</file>