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9.gif" ContentType="image/gif"/>
  <Override PartName="/ppt/media/image10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3899A-4313-431E-B851-82E0CEECF7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F4D-3E5D-40EC-8DD8-6B9DB891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47C-2B05-4AB5-B59D-D636467A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BC1-DEFA-4C09-9C26-F5291A3A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739-55C6-4F75-879E-DE4A9E39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9C0-255B-45CC-8226-5578CBAC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374-754A-47C8-8C46-12EB74F4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5AF-5033-4931-9349-6CE21FA0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F2C-FCB0-4248-BA20-43397D89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66C-0DC6-4B50-8966-57A5C663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9BF-BAB8-45E2-B8F9-FD2A67C2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16C-CFD9-4ADC-B0F9-E0CD278A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D2B-50B6-4101-B2BF-9F8DAE16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5F5CA-FAEA-4F5B-91D7-919DB509D6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6360" y="466560"/>
            <a:ext cx="92170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Развитие мелкой моторики, как один из способов развития речи и мышлени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0360" y="2266920"/>
            <a:ext cx="936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ордвинова Надежда Васильевна, учитель начальных классов I категории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88080" y="362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904000" y="971640"/>
            <a:ext cx="3187440" cy="4752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19280" y="971640"/>
            <a:ext cx="50911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eorgia"/>
              </a:rPr>
              <a:t>Нужно постараться </a:t>
            </a:r>
            <a:r>
              <a:rPr b="0" lang="ru-RU" sz="28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Georgia"/>
              </a:rPr>
              <a:t>ограничить использование в   рисовании фломастеров, 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Georgia"/>
              </a:rPr>
              <a:t>предпочтитель-не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eorgia"/>
              </a:rPr>
              <a:t>карандаши, краски, мелки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7640" y="826920"/>
            <a:ext cx="50403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c7056"/>
                </a:solidFill>
                <a:latin typeface="Arial"/>
              </a:rPr>
              <a:t>Очень полезны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c7056"/>
                </a:solidFill>
                <a:latin typeface="Arial"/>
              </a:rPr>
              <a:t>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c7056"/>
                </a:solidFill>
                <a:latin typeface="Arial"/>
              </a:rPr>
              <a:t>пальцев рук леп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c7056"/>
                </a:solidFill>
                <a:latin typeface="Arial"/>
              </a:rPr>
              <a:t>из пластилина или г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6360" y="3708360"/>
            <a:ext cx="8785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052c6"/>
                </a:solidFill>
                <a:latin typeface="Arial"/>
              </a:rPr>
              <a:t>Лепка к тому же развивает фантазию и  творчество детей !</a:t>
            </a:r>
            <a:br>
              <a:rPr sz="2800"/>
            </a:br>
            <a:r>
              <a:rPr b="0" lang="ru-RU" sz="2800" spc="-1" strike="noStrike">
                <a:solidFill>
                  <a:srgbClr val="6052c6"/>
                </a:solidFill>
                <a:latin typeface="Arial"/>
              </a:rPr>
              <a:t>Это прекрасное психопрофилактическое занят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19640" y="755640"/>
            <a:ext cx="3240360" cy="242892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052c6"/>
                </a:solidFill>
                <a:latin typeface="Arial"/>
              </a:rPr>
              <a:t>Можно изготовить  пазлы  дома самим, если  разрезать открытку или  карт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052c6"/>
                </a:solidFill>
                <a:latin typeface="Arial"/>
              </a:rPr>
              <a:t>Можно вырезать  с ребенком  из  журналов   различные фотографии  и  делать  вместе  коллажи  на  самые разные  темы  «Большие и маленькие»,  «Все, что летает»,  «Спорт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19280" y="971640"/>
            <a:ext cx="85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злы- игра, развивающая интеллект и мелкую моторику...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03280" y="826920"/>
            <a:ext cx="906768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Goudy Stout"/>
              </a:rPr>
              <a:t>Развивают мелкую моторику руки следующие упражнения, которые можно выполнять с папой или ма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3640" y="3635280"/>
            <a:ext cx="8278920" cy="28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ришивание пугов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ыш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ыжиг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работа с ножниц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ыпи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анизывание 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бор я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03280" y="684360"/>
            <a:ext cx="9067680" cy="60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прополка  сорня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перебирание кру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а  с  отвертками, шуруповер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язание крючком  и  на сп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гры в металлические и пластмассовые  и деревянные конструкторы, различные моза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боры для детского твор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( барельефы, фоторамки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зличные игры со шнур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(наборы «Флекси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3280" y="1042920"/>
            <a:ext cx="90676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cc0066"/>
                </a:solidFill>
                <a:latin typeface="Century"/>
              </a:rPr>
              <a:t>Выполняя  пальчиками различные  упражнения, кисти  рук  приобретают хорошую  подвижность, гибкость, исчезает скованность  движений, это  в  дальнейшем облегчит  приобретение навыков  письм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0000" y="2050920"/>
            <a:ext cx="7345080" cy="15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частливого лет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40000" y="2340000"/>
            <a:ext cx="748800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75465e"/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75465e"/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87640" y="900000"/>
            <a:ext cx="518508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Arial"/>
              </a:rPr>
              <a:t>Ученые, которые изучают деятельность детского мозга, психику детей, отмечают большое стимулирующее значение функции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92720" y="3708360"/>
            <a:ext cx="3095640" cy="2322720"/>
          </a:xfrm>
          <a:prstGeom prst="rect">
            <a:avLst/>
          </a:prstGeom>
          <a:ln w="12600">
            <a:solidFill>
              <a:srgbClr val="00cc99"/>
            </a:solidFill>
            <a:prstDash val="sysDot"/>
            <a:miter/>
          </a:ln>
        </p:spPr>
      </p:pic>
      <p:sp>
        <p:nvSpPr>
          <p:cNvPr id="54" name=""/>
          <p:cNvSpPr/>
          <p:nvPr/>
        </p:nvSpPr>
        <p:spPr>
          <a:xfrm>
            <a:off x="719280" y="4356000"/>
            <a:ext cx="5616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онкая моторика-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это разновидность дви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которых участвуют мел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ыш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79640" y="826920"/>
            <a:ext cx="2447640" cy="23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6360" y="539640"/>
            <a:ext cx="906768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Impact"/>
              </a:rPr>
              <a:t>Сотрудники   института физиологии   детей   и подростков   АПН  установили, что   уровень   развития   речи детей    находится   в   прямой зависимости  от   степени    сформированности    тонких движений  пальцев 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3280" y="899640"/>
            <a:ext cx="906768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Goudy Stout"/>
              </a:rPr>
              <a:t>Если бы не уроки письма, процент детей, посещающих школу с большим удовольствием, вырос бы , наверное, раз в 1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84720" y="3274920"/>
            <a:ext cx="5113080" cy="34308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3280" y="971640"/>
            <a:ext cx="906768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В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процесс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 рисования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у ребенка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развивается координация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движений обеих рук, координация действий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руки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и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Eras Bold ITC"/>
              </a:rPr>
              <a:t>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3280" y="1042920"/>
            <a:ext cx="90676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ебенку необходимы разнообразные физические упражнения , занятия спор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45080" y="3132000"/>
            <a:ext cx="3475080" cy="3529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95280" y="3492360"/>
            <a:ext cx="2590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4457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826920"/>
            <a:ext cx="7705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первом классе достаточно посещать одну спортивную секцию. Это не вызовет перегрузки и укрепит здоровье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8000" y="3492360"/>
            <a:ext cx="32623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47640" y="755280"/>
            <a:ext cx="7129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ажно, чтобы при  рисовании или  письме ребенок правильно держал инстру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56000" y="3073320"/>
            <a:ext cx="3384360" cy="3154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19280" y="3274920"/>
            <a:ext cx="4608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539640"/>
            <a:ext cx="91454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Особое внимание- правильной осанк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71640" y="2627280"/>
            <a:ext cx="6337440" cy="4227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Надежда</cp:lastModifiedBy>
  <dcterms:modified xsi:type="dcterms:W3CDTF">2012-03-12T00:26:38Z</dcterms:modified>
  <cp:revision>7</cp:revision>
  <dc:subject/>
  <dc:title>Слайд 1</dc:title>
</cp:coreProperties>
</file>