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6A2-7BF2-4212-80D1-F14E1949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74E-A74F-4783-B9C6-B462008B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D82-1865-4561-94EB-33E08B47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09A-165B-4A5F-82A4-387079CE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24F-DB7D-4DAD-A358-DC7D5CA8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8C7-7FDA-44CB-8947-FC8BC0FF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2BF-2B93-4E60-815C-B0A59DD1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8E0-70BF-405C-99D0-C56C6507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95D-F537-4428-A367-F4D0CD1F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D8E-56F1-4A60-8A13-B3CED5EA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F94-04A7-412E-BAE6-74EE0573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0C7-0078-4D68-8400-E43AA5E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3300">
                  <a:alpha val="50196"/>
                </a:srgbClr>
              </a:gs>
              <a:gs pos="50000">
                <a:srgbClr val="ff6600"/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229E-A49F-4BC7-8F58-A95E54930C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2"/>
          <p:cNvGrpSpPr/>
          <p:nvPr/>
        </p:nvGrpSpPr>
        <p:grpSpPr>
          <a:xfrm>
            <a:off x="669960" y="1042920"/>
            <a:ext cx="7797600" cy="1492200"/>
            <a:chOff x="669960" y="1042920"/>
            <a:chExt cx="7797600" cy="1492200"/>
          </a:xfrm>
        </p:grpSpPr>
        <p:pic>
          <p:nvPicPr>
            <p:cNvPr id="42" name="Rectangle 2" descr=""/>
            <p:cNvPicPr/>
            <p:nvPr/>
          </p:nvPicPr>
          <p:blipFill>
            <a:blip r:embed="rId1"/>
            <a:stretch/>
          </p:blipFill>
          <p:spPr>
            <a:xfrm>
              <a:off x="669960" y="1042920"/>
              <a:ext cx="779760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4360" y="105264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Garamond"/>
                </a:rPr>
                <a:t>Музыкальные инструменты народа хант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872400" cy="256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МБДОУ детский сад общеразвивающего вида с приоритетным осуществлением деятельности по художественно-эстетическому развитию детей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Руководитель: Менязева О.С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Заголовок 1"/>
          <p:cNvGrpSpPr/>
          <p:nvPr/>
        </p:nvGrpSpPr>
        <p:grpSpPr>
          <a:xfrm>
            <a:off x="444600" y="262080"/>
            <a:ext cx="8254800" cy="1170000"/>
            <a:chOff x="444600" y="262080"/>
            <a:chExt cx="8254800" cy="1170000"/>
          </a:xfrm>
        </p:grpSpPr>
        <p:pic>
          <p:nvPicPr>
            <p:cNvPr id="4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62080"/>
              <a:ext cx="8254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Цель 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457200" y="1600200"/>
            <a:ext cx="8291520" cy="23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Узнать о музыкальных инструментах народов Севера, истории, традициям, музыкальной культуре народов ханты и манси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Заголовок 1"/>
          <p:cNvGrpSpPr/>
          <p:nvPr/>
        </p:nvGrpSpPr>
        <p:grpSpPr>
          <a:xfrm>
            <a:off x="444600" y="262080"/>
            <a:ext cx="8254800" cy="1017360"/>
            <a:chOff x="444600" y="262080"/>
            <a:chExt cx="8254800" cy="1017360"/>
          </a:xfrm>
        </p:grpSpPr>
        <p:pic>
          <p:nvPicPr>
            <p:cNvPr id="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62080"/>
              <a:ext cx="825480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7200" y="274680"/>
              <a:ext cx="822960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aramond"/>
                </a:rPr>
                <a:t>Тумран самый древний инструмен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457200" y="1484280"/>
            <a:ext cx="8075520" cy="345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Тумран - деревянный или костяной инструмент, который прижимают к зубам и, дергая пальцем правой руки за нитку, привязанную к язычку, заставляют звучать, как будто звучит само северное сияние. Ханты и манси всегда считали, что тумран отгоняет злых духов и излечивает больных… Играют на тумране и взрослые и дети, а вот у человека чужого, не знающего секретов тумрана, игра не получится, как бы он ни старался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572000" y="465300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Заголовок 1"/>
          <p:cNvGrpSpPr/>
          <p:nvPr/>
        </p:nvGrpSpPr>
        <p:grpSpPr>
          <a:xfrm>
            <a:off x="444600" y="262080"/>
            <a:ext cx="8254800" cy="1170000"/>
            <a:chOff x="444600" y="262080"/>
            <a:chExt cx="8254800" cy="1170000"/>
          </a:xfrm>
        </p:grpSpPr>
        <p:pic>
          <p:nvPicPr>
            <p:cNvPr id="5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62080"/>
              <a:ext cx="8254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457200" y="1600200"/>
            <a:ext cx="728352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Нарс-юх (сангкультап) - инструмент сугубо мужской, женщины к нему не прикасаются. Да и песни, которые поются под его аккомпанемент - песни мужские о подвигах легендарных богатырей, эпические былины - тарнын-ары. Есть и другие песни, которые некоторые шутники называют "Что вижу, о том пою!" - песни импровизационные. Темой их становятся события, происшедшие с самим певцом, пропущенные через его душу и сердце. Это большое и нелегкое искусство - слагать и стихи и музыку одновременно - не каждому под силу! Здесь нужно умение и талант. Звуки нарс-юха или сангкультапа способны заворожить любого, будь это человек, зверь или птица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85080" y="2708280"/>
            <a:ext cx="10796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Заголовок 1"/>
          <p:cNvGrpSpPr/>
          <p:nvPr/>
        </p:nvGrpSpPr>
        <p:grpSpPr>
          <a:xfrm>
            <a:off x="444600" y="262080"/>
            <a:ext cx="8254800" cy="1170000"/>
            <a:chOff x="444600" y="262080"/>
            <a:chExt cx="8254800" cy="1170000"/>
          </a:xfrm>
        </p:grpSpPr>
        <p:pic>
          <p:nvPicPr>
            <p:cNvPr id="6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62080"/>
              <a:ext cx="8254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456840" y="1600200"/>
            <a:ext cx="8218440" cy="283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 вот у манси один из любимейших - многострунный тор-сапль-юх, угловая арфа в форме длинношеего журавля. В переводе с манси на русский тор-сапль-юх значит "журавлиная шея из дерева". Играют на тор-сапль-юхе двумя руками: левой - мелодию, а правой защипывают одну из нижних струн, издавая монотонные низкие звуки, придающие мелодии особую значимость и торжественность. Тор-сапль-юх звучит негромко и мелодично, его голос удивительно сочетается с голосом народного сказителя, без песен и сказок которого не обходится ни один праздник у манс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521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Заголовок 1"/>
          <p:cNvGrpSpPr/>
          <p:nvPr/>
        </p:nvGrpSpPr>
        <p:grpSpPr>
          <a:xfrm>
            <a:off x="444600" y="262080"/>
            <a:ext cx="8254800" cy="1170000"/>
            <a:chOff x="444600" y="262080"/>
            <a:chExt cx="8254800" cy="1170000"/>
          </a:xfrm>
        </p:grpSpPr>
        <p:pic>
          <p:nvPicPr>
            <p:cNvPr id="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62080"/>
              <a:ext cx="8254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aramond"/>
                </a:rPr>
                <a:t>Нерьпь - мансийская скрип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457200" y="1599840"/>
            <a:ext cx="8075520" cy="420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ерьпь - мансийская скрипка овальной формы, выдолбленная из цельного куска дерева. У нерьпи всего лишь одна струна из конского волоса или из сухожилий лося . Но зато как она звучит, как плачет, как передает все оттенки человеческого голоса! Играют на нерьпи смычком в форме лука, причем канифоль - сосновая смола - тут же под рукой - на задней стороне корпуса скрипки!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и игре нерьпь держат вертикально и водят смычком по струнам, иногда раскачивая                     инструмент навстречу смычку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380360" y="4221000"/>
            <a:ext cx="14288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Заголовок 1"/>
          <p:cNvGrpSpPr/>
          <p:nvPr/>
        </p:nvGrpSpPr>
        <p:grpSpPr>
          <a:xfrm>
            <a:off x="444600" y="262080"/>
            <a:ext cx="8254800" cy="1170000"/>
            <a:chOff x="444600" y="262080"/>
            <a:chExt cx="8254800" cy="1170000"/>
          </a:xfrm>
        </p:grpSpPr>
        <p:pic>
          <p:nvPicPr>
            <p:cNvPr id="7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62080"/>
              <a:ext cx="8254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Список литератур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900000" y="1628640"/>
            <a:ext cx="7499520" cy="291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етлугина Н.А. Музыкальный букварь – М.: Просвещение, 2000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Науменко Г.И. Фольклорная азбука – М.: Изд.центр «Академия», 2006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1:18:35Z</dcterms:created>
  <dc:creator>Кондрашов сс</dc:creator>
  <dc:description/>
  <dc:language>en-US</dc:language>
  <cp:lastModifiedBy>Кондрашов сс</cp:lastModifiedBy>
  <dcterms:modified xsi:type="dcterms:W3CDTF">2012-03-09T01:52:54Z</dcterms:modified>
  <cp:revision>4</cp:revision>
  <dc:subject/>
  <dc:title>Музыкальные инструменты народа ханты</dc:title>
</cp:coreProperties>
</file>