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B7A-5C0E-4765-8368-A84B3C2C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13D-BF4A-4D59-8B99-259615C7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F93-8632-42C4-917C-869DAEAF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FEA-9968-45ED-A3F1-330E12FB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3F91-63D3-4695-AF29-568970F9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505A-219B-4012-8DA8-9540E909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CA03-7342-4F7D-B7D0-C666E1A5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5E64-003A-45CE-A5BE-4F3E9CDC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C736-2855-45B2-845D-4F5614C1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5EE8-4EB1-4B59-AC89-8DC0EAD2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4473-128D-4A1D-80B5-9460BE56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AA7-894A-4197-93A9-8E71B709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E65E-811B-4A0A-9CFA-D6F93B71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2410-D34B-4F68-ACE0-F0EFE8C2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B0F6-0A2B-4F23-BF71-3FDA4854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9FD1-D47C-4449-B13D-ED3F9A02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D39A-11FB-4E41-A898-3B577947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6D9-7618-4E62-8BF1-7EA40AF8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479-2593-431A-8CB5-FE68D320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75D-73CF-48E0-B017-F65A9D42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FD4-75D8-4CD7-8AE6-6287C875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CEC-9F34-4007-B92F-AC3196AE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DF4-63FC-4C16-8BF4-076B99BF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CA7-CCB0-4734-A1E1-B3225C5E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A0F7-57E7-4447-8F10-973C0E07C7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D694-3C78-4F98-A4E6-2AB08C86F2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486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omic Sans MS"/>
              </a:rPr>
              <a:t>Урок по теме 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068280"/>
            <a:ext cx="6032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«Основное свойство дроби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полнила учитель математ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БОУ «ООШ № 98»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оманова Н.С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50920" y="4292640"/>
            <a:ext cx="4537080" cy="2565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2349360"/>
            <a:ext cx="4392720" cy="251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628640"/>
            <a:ext cx="4392720" cy="2160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Деление числителя и знаменателя дроби на одно и то же число называют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сокращением дроби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87280" y="2060640"/>
                <a:ext cx="3024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788000" y="3068640"/>
                <a:ext cx="3384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95640" y="4869000"/>
                <a:ext cx="41050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÷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÷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356000" y="3357720"/>
            <a:ext cx="5184720" cy="3816360"/>
          </a:xfrm>
          <a:prstGeom prst="irregularSeal2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3041640"/>
            <a:ext cx="5184720" cy="3816360"/>
          </a:xfrm>
          <a:prstGeom prst="irregularSeal2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9280" y="476280"/>
            <a:ext cx="5184720" cy="3816360"/>
          </a:xfrm>
          <a:prstGeom prst="irregularSeal2">
            <a:avLst/>
          </a:prstGeom>
          <a:solidFill>
            <a:srgbClr val="75f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396720" y="404640"/>
            <a:ext cx="5184720" cy="3816360"/>
          </a:xfrm>
          <a:prstGeom prst="irregularSeal2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ыполните сокращение дробей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39640" y="1341360"/>
                <a:ext cx="12366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003640" y="1773360"/>
                <a:ext cx="9795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484360" y="4076640"/>
                <a:ext cx="8557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551560" y="4508640"/>
                <a:ext cx="10033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835280" y="1341360"/>
                <a:ext cx="162396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219720" y="1700280"/>
                <a:ext cx="11415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732720" y="4437000"/>
                <a:ext cx="117000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611360" y="4149720"/>
                <a:ext cx="7272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omic Sans MS"/>
              </a:rPr>
              <a:t>Повторени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3772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Сравните дроб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4211640" y="836640"/>
                <a:ext cx="20559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5364000" y="2924280"/>
                <a:ext cx="2087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539640" y="2060640"/>
                <a:ext cx="2448000" cy="16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5"/>
              <p:cNvSpPr txBox="1"/>
              <p:nvPr/>
            </p:nvSpPr>
            <p:spPr>
              <a:xfrm>
                <a:off x="3059280" y="4292640"/>
                <a:ext cx="18270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4859280" y="1197000"/>
                <a:ext cx="2858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6227640" y="3284640"/>
                <a:ext cx="2858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1547640" y="2492280"/>
                <a:ext cx="3574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780000" y="4653000"/>
                <a:ext cx="3571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1729080" cy="1942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2808360" cy="1800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300720" y="836640"/>
            <a:ext cx="1513080" cy="1314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580000" y="4581360"/>
            <a:ext cx="208764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4620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5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6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492360" y="2492280"/>
            <a:ext cx="4286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omic Sans MS"/>
              </a:rPr>
              <a:t>Всем спасибо за урок)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4544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</a:rPr>
              <a:t>Вычисли устн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125360"/>
            <a:ext cx="15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)72: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5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1052640"/>
            <a:ext cx="129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)95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6000" y="981000"/>
            <a:ext cx="16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)96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3645000"/>
            <a:ext cx="1152720" cy="79200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f66"/>
                </a:solidFill>
                <a:latin typeface="Comic Sans MS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3573360"/>
            <a:ext cx="1152720" cy="79236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f66"/>
                </a:solidFill>
                <a:latin typeface="Comic Sans MS"/>
              </a:rPr>
              <a:t>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3573360"/>
            <a:ext cx="1152720" cy="79236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35120" y="5037120"/>
            <a:ext cx="44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0840" y="5038560"/>
            <a:ext cx="386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МОЛОДЦ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Какая часть круга закрашен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808360" cy="252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284720" y="1268280"/>
            <a:ext cx="3095640" cy="251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3097440" cy="2521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4221000"/>
            <a:ext cx="1008000" cy="79236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77480" y="43657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f66"/>
                </a:solidFill>
                <a:latin typeface="Comic Sans MS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4360" y="4149720"/>
            <a:ext cx="1008000" cy="79200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12000" y="5661000"/>
            <a:ext cx="1008000" cy="79236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70560" y="42926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f66"/>
                </a:solidFill>
                <a:latin typeface="Comic Sans MS"/>
              </a:rPr>
              <a:t>4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580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f66"/>
                </a:solidFill>
                <a:latin typeface="Comic Sans MS"/>
              </a:rPr>
              <a:t>8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omic Sans MS"/>
              </a:rPr>
              <a:t>Основное свойство дроб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сли числитель и знаменатель дроби умножить или разделить на одно и то же число, отличное от нуля, то получится дробь, равная данно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039000" y="259704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059280" y="4005360"/>
                <a:ext cx="26287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Основное свойство дроби на математическом язык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35240" y="1916280"/>
                <a:ext cx="5073480" cy="28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num>
                      <m:den>
                        <m:r>
                          <m:t xml:space="preserve">в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2606040" y="5470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де с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492360" y="5516640"/>
                <a:ext cx="503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С помощью основного свойства дроби, можно дроби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приводить к другому знаменателю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 или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сокращать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69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4105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19640" y="4437000"/>
            <a:ext cx="3313080" cy="1419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835280" y="4221000"/>
            <a:ext cx="2879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Содержимое 2"/>
          <p:cNvSpPr/>
          <p:nvPr/>
        </p:nvSpPr>
        <p:spPr>
          <a:xfrm>
            <a:off x="457200" y="549360"/>
            <a:ext cx="74674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иведите дроб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к знаменателю 8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к знаменателю 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к числителю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5003640" y="0"/>
                <a:ext cx="720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435640" y="2492280"/>
                <a:ext cx="20764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÷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÷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292720" y="1052640"/>
                <a:ext cx="244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580000" y="4005360"/>
                <a:ext cx="2521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omic Sans MS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54705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Раз - подняться, потянутьс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Два - нагнуться, разогнутьс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Три - в ладоши, три хлопк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Головою три кив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На четыре - руки шир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Пять - руками помахать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Шесть - на место тих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сесть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003640" y="4005360"/>
            <a:ext cx="36291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9:27:32Z</dcterms:created>
  <dc:creator>Admin</dc:creator>
  <dc:description/>
  <dc:language>en-US</dc:language>
  <cp:lastModifiedBy>Admin</cp:lastModifiedBy>
  <dcterms:modified xsi:type="dcterms:W3CDTF">2012-03-12T09:47:43Z</dcterms:modified>
  <cp:revision>3</cp:revision>
  <dc:subject/>
  <dc:title>Урок по теме :</dc:title>
</cp:coreProperties>
</file>