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EDBF-6BA0-46EB-AA9B-40426D13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D606-3CC1-451E-AB51-6DBFBFDC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1DD1-9AC2-43BE-B631-B4C68F05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9AEE-893B-45FC-80C4-43FE0E35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2F6A-AB15-4C89-A31C-A1271F74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6850-3792-40DE-93E1-F7508ED3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A362-8645-4294-83FF-FE905353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2FE7-5F30-474B-AF3F-F7C9E18A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8E16-6717-4A74-BA1E-5AC575F6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8EAA-4746-4A2D-9D38-77FEEB9A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1230-A036-4C6D-9D5F-BF81CFFA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407A-5697-42AE-A9EA-50C5242F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485E-24A9-4A78-BDEE-3F1F9ACE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378A-1971-4261-B3C2-FC55FBFB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5A9D-D342-4C47-B264-DDC7A87A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BF82-81B8-4FAD-9FAE-530C5C9F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5E69-BCF3-4A41-B999-3347C449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978A0-39E0-436F-8821-47C7D1EF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D522F-4AC9-4B5F-94C0-EDCFCD37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913D1-7D95-4119-9B48-4CE6021B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37485-BDEF-45E6-85ED-1F1DB081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7E736-AB88-4869-B811-CBE2CF42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DB29-C0CC-4449-9112-394975BB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89F19-B8D4-4468-A5CB-7A87384E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B8F52-3918-45E1-BF9A-F33A6399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C0FF3-4B71-4E9E-A2E4-E3F505BF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F9502-A68D-42CC-B7E6-EA760F3C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83808-0B50-4FEE-A2A9-390061CC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15942-C82A-4A84-9C3E-795C97C5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E7658-76B9-4ADD-8C9C-C3C74DFB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D4C0F-20CE-4F3E-B5F7-E0350B4F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059F7-C702-47FC-AC9E-DACD749A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C4C1B-BB95-4A91-B5B7-9FA5116E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EEC-27A3-49D7-B119-E66E1906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97645-3752-4532-B091-414B4AFB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37C59-96C6-4C68-AD90-1F9E9005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EF413-0CEB-491B-9932-7924B758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6917B-6A35-4690-885D-95114934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AD37B-DD13-4754-AAB0-99159C61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014D1-07AB-4013-AEF1-E3C5A714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2AC6C-D9A0-4200-AF18-83BBA8FF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A43BA-8CDD-47F3-BDB2-E187B253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A022B-37A8-4531-96A7-A1B81C15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D080-C13D-43DB-9C69-CA2893A4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408A-D19B-4F39-A051-64B1DD12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B32E-8506-4C7B-8F5B-43223436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5575-DBE3-4538-A608-9B783F20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1971-A527-4241-BF9D-B255A29F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27F0-A4D0-4A6A-AC83-563279B0D32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6BA9-DA75-47B1-9F39-878DA8EED2C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B29F-FCF6-4E40-A117-75AA47D117F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8556-ED98-40AA-ABBA-BFE0C748263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0" y="620640"/>
            <a:ext cx="9126360" cy="5627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24000" y="573408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Arial"/>
              </a:rPr>
              <a:t>Оп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3564000" y="5877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Arial"/>
              </a:rPr>
              <a:t>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6443640" y="58770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Arial"/>
              </a:rPr>
              <a:t>Дви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Erasure_-_Love_To_Hate_You_Обожаю_ненавидеть_тебя_(mp3ostrov.com)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5" descr=""/>
          <p:cNvPicPr/>
          <p:nvPr/>
        </p:nvPicPr>
        <p:blipFill>
          <a:blip r:embed="rId2"/>
          <a:stretch/>
        </p:blipFill>
        <p:spPr>
          <a:xfrm>
            <a:off x="0" y="2997360"/>
            <a:ext cx="5292720" cy="38606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6" descr=""/>
          <p:cNvPicPr/>
          <p:nvPr/>
        </p:nvPicPr>
        <p:blipFill>
          <a:blip r:embed="rId3"/>
          <a:stretch/>
        </p:blipFill>
        <p:spPr>
          <a:xfrm>
            <a:off x="5651640" y="2205000"/>
            <a:ext cx="2844720" cy="46530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"/>
          <p:cNvPicPr/>
          <p:nvPr/>
        </p:nvPicPr>
        <p:blipFill>
          <a:blip r:embed="rId4"/>
          <a:stretch/>
        </p:blipFill>
        <p:spPr>
          <a:xfrm>
            <a:off x="0" y="0"/>
            <a:ext cx="3456000" cy="33130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8" descr=""/>
          <p:cNvPicPr/>
          <p:nvPr/>
        </p:nvPicPr>
        <p:blipFill>
          <a:blip r:embed="rId5"/>
          <a:stretch/>
        </p:blipFill>
        <p:spPr>
          <a:xfrm>
            <a:off x="3564000" y="0"/>
            <a:ext cx="43210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36840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1042920" y="1268280"/>
            <a:ext cx="6985080" cy="42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99"/>
                </a:solidFill>
                <a:latin typeface="Arial"/>
              </a:rPr>
              <a:t>Тест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ff"/>
                </a:solidFill>
                <a:latin typeface="Arial"/>
              </a:rPr>
              <a:t>(5 вопросов из предложенных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2303e"/>
                </a:solidFill>
                <a:latin typeface="Calibri"/>
              </a:rPr>
              <a:t>ответы на тестовые зада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836640"/>
            <a:ext cx="4038480" cy="55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I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вариан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1 – б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2 – г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3 – б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4 – г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5 – 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836640"/>
            <a:ext cx="4038480" cy="55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II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вариан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 – 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2 – б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3 – 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4 – 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5 – 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77164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ефлексия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2881440" cy="21607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4"/>
          <p:cNvSpPr/>
          <p:nvPr/>
        </p:nvSpPr>
        <p:spPr>
          <a:xfrm>
            <a:off x="250920" y="31417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Я полностью доволен своими знаниями по этой 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6227640" y="3573360"/>
            <a:ext cx="2376720" cy="23767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6"/>
          <p:cNvSpPr/>
          <p:nvPr/>
        </p:nvSpPr>
        <p:spPr>
          <a:xfrm>
            <a:off x="6372360" y="609300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не не понравился у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3"/>
          <a:stretch/>
        </p:blipFill>
        <p:spPr>
          <a:xfrm>
            <a:off x="6156360" y="6922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37" name="TextBox 8"/>
          <p:cNvSpPr/>
          <p:nvPr/>
        </p:nvSpPr>
        <p:spPr>
          <a:xfrm>
            <a:off x="5688000" y="2781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 меня есть проблемы по этой 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4"/>
          <a:stretch/>
        </p:blipFill>
        <p:spPr>
          <a:xfrm>
            <a:off x="250920" y="4005360"/>
            <a:ext cx="2238120" cy="20383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0"/>
          <p:cNvSpPr/>
          <p:nvPr/>
        </p:nvSpPr>
        <p:spPr>
          <a:xfrm>
            <a:off x="179280" y="6237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не было интересно на ур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08080" y="701640"/>
            <a:ext cx="856440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2"/>
          <p:cNvSpPr/>
          <p:nvPr/>
        </p:nvSpPr>
        <p:spPr>
          <a:xfrm>
            <a:off x="395280" y="1989000"/>
            <a:ext cx="8569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с точки зрения анатомии можно объяснить испанскую поговорку «Под ногой красивой девушки мог бы протекать ручеек.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полнительные вопрос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помощью какого раздела физики можно объяснить работу суставов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ая наука дает нам представление о составе костей. И какие вещества обуславливают свойства костей (эластичность и твердость)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765000"/>
            <a:ext cx="7846920" cy="259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Обобщение и систематизация знаний по теме «Опорно – двигательная система»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0672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ние № 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427640" y="1855800"/>
            <a:ext cx="69840" cy="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3680" bIns="1368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99000" y="1860120"/>
            <a:ext cx="46080" cy="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" bIns="90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483920"/>
            <a:ext cx="2674800" cy="4876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смотрите рисунок и подпишите кости скелета в соответствии с номерами указанными на рисунке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Содержимое 7" descr="img364.jpg"/>
          <p:cNvPicPr/>
          <p:nvPr/>
        </p:nvPicPr>
        <p:blipFill>
          <a:blip r:embed="rId1"/>
          <a:stretch/>
        </p:blipFill>
        <p:spPr>
          <a:xfrm>
            <a:off x="3851280" y="189000"/>
            <a:ext cx="5041800" cy="6335640"/>
          </a:xfrm>
          <a:prstGeom prst="rect">
            <a:avLst/>
          </a:prstGeom>
          <a:ln w="0">
            <a:noFill/>
          </a:ln>
        </p:spPr>
      </p:pic>
      <p:pic>
        <p:nvPicPr>
          <p:cNvPr id="207" name="Моцарт_-_Рондо_аллегро_(Маленькая_серенада_K_525)_(3_23)(www.muzico.ru)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33038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468360" y="582480"/>
          <a:ext cx="8362800" cy="5234040"/>
        </p:xfrm>
        <a:graphic>
          <a:graphicData uri="http://schemas.openxmlformats.org/drawingml/2006/table">
            <a:tbl>
              <a:tblPr/>
              <a:tblGrid>
                <a:gridCol w="917640"/>
                <a:gridCol w="2549520"/>
                <a:gridCol w="4895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дел скеле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ти и 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чере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419040">
                        <a:spcBef>
                          <a:spcPts val="400"/>
                        </a:spcBef>
                        <a:buClr>
                          <a:srgbClr val="0bd0d9"/>
                        </a:buClr>
                        <a:buSzPct val="9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еменная           6. в. челю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spcBef>
                          <a:spcPts val="400"/>
                        </a:spcBef>
                        <a:buClr>
                          <a:srgbClr val="0bd0d9"/>
                        </a:buClr>
                        <a:buSzPct val="9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тылочная       7. нос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spcBef>
                          <a:spcPts val="400"/>
                        </a:spcBef>
                        <a:buClr>
                          <a:srgbClr val="0bd0d9"/>
                        </a:buClr>
                        <a:buSzPct val="9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лобная               5. скул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spcBef>
                          <a:spcPts val="400"/>
                        </a:spcBef>
                        <a:buClr>
                          <a:srgbClr val="0bd0d9"/>
                        </a:buClr>
                        <a:buSzPct val="9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исочная           8. н. челю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spcBef>
                          <a:spcPts val="400"/>
                        </a:spcBef>
                        <a:buClr>
                          <a:srgbClr val="0bd0d9"/>
                        </a:buClr>
                        <a:buSzPct val="9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Грудная клетка 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озвоночни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9. рукоятка грудины  13. шейный отд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0.тело грудины         14. грудной отд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1.мечев. отросток     15. поясничный отд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2. блужд. Ребра        16. крестцовый отд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                                    </a:t>
                      </a: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7. копчиковый отд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I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Верхняя конеч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8. ключица                 22. Локтевая 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9. лопатка                  23. запястье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0. плечевая кость     24. пяст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1. лучевая кость       25. фаланги пальц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Arial"/>
              </a:rPr>
              <a:t>Обобщение знаний по теме «Опорно – двигательная система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3844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Задание № 2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Содержимое 7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790880" cy="46818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8"/>
          <p:cNvSpPr/>
          <p:nvPr/>
        </p:nvSpPr>
        <p:spPr>
          <a:xfrm>
            <a:off x="5076720" y="1557360"/>
            <a:ext cx="374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полните  предложенную табл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Моцарт_-_Рондо_аллегро_(Маленькая_серенада_K_525)_(3_23)(www.muzico.ru).mp3" descr=""/>
          <p:cNvPicPr/>
          <p:nvPr/>
        </p:nvPicPr>
        <p:blipFill>
          <a:blip r:embed="rId2"/>
          <a:stretch/>
        </p:blipFill>
        <p:spPr>
          <a:xfrm>
            <a:off x="8812080" y="6526080"/>
            <a:ext cx="331920" cy="3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33038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457200" y="704880"/>
          <a:ext cx="8507520" cy="5210280"/>
        </p:xfrm>
        <a:graphic>
          <a:graphicData uri="http://schemas.openxmlformats.org/drawingml/2006/table">
            <a:tbl>
              <a:tblPr/>
              <a:tblGrid>
                <a:gridCol w="2127240"/>
                <a:gridCol w="2125800"/>
                <a:gridCol w="2127240"/>
                <a:gridCol w="2127240"/>
              </a:tblGrid>
              <a:tr h="13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двигательных нейронов двуглавой мыш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двигательных нейронов трехглавой мыш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двуглавой мыш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трехглавой мыш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а сгибается в локтевом суставе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озбужд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тормож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кращает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сслабляет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а разгибается в локтевом суставе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тормож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озбужд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сслабляет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кращает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а неподвижна, удерживает груз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озбужд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озбужд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кращ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краще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ние №3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нкурс капитан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нды сочиняют синквейн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 – я – со словом «мышцы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 – я – со словом «скелет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 – я – со словом «осанка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оставьте синквейн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первой строчке тема называется одним словом (обычно существительное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торая строчка – это описание темы в двух словах (два прилагательных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ретья строчка – это описание действия в рамках этой темы тремя словами (глагол или деепричастие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етвертая строчка – это фраза из четырех слов, показывающая отношение к тем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няя строчка – это синоним одного слова, который повторяет суть тем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3" descr=""/>
          <p:cNvPicPr/>
          <p:nvPr/>
        </p:nvPicPr>
        <p:blipFill>
          <a:blip r:embed="rId1"/>
          <a:stretch/>
        </p:blipFill>
        <p:spPr>
          <a:xfrm>
            <a:off x="-281160" y="701640"/>
            <a:ext cx="9315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9:35:28Z</dcterms:created>
  <dc:creator>Татьяна</dc:creator>
  <dc:description/>
  <dc:language>en-US</dc:language>
  <cp:lastModifiedBy>Татьяна</cp:lastModifiedBy>
  <dcterms:modified xsi:type="dcterms:W3CDTF">2011-11-03T03:03:30Z</dcterms:modified>
  <cp:revision>31</cp:revision>
  <dc:subject/>
  <dc:title>Опорно – двигательная                        система</dc:title>
</cp:coreProperties>
</file>