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1B3D-2623-4898-B29E-2C8D5EA771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2940-3F5C-4A6D-A267-BAE19DD628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CB19-F811-4366-ABED-D266BB0397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508-A588-4E6E-B072-66EA31A1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0BF-5C07-41F5-AE30-894F175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87A-DDF6-42BD-883A-5159B79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AD5-0FCB-4E29-80AA-1152FDCD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62D8-7EE7-44FA-9D30-FF2B2156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E7C3-9B69-4E39-BC0F-3614703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976-B294-4117-8BB9-33DEE57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F80F-98E3-45D8-9293-8F7646F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EB5-2173-4232-A9F8-D3B07A06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14DB-CA78-4C51-BCB4-D187A9D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1145-70FF-48D6-A2E0-1CFD29AF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3AC-A5B0-491E-9BF1-8BFF31A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8C31-83E0-4C02-BA64-B52FA1E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BE1E-3FB4-4188-B5EF-40EBE94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FB8-237B-4092-BCD8-7A2FD79C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1A57-0695-4F25-85EB-0AF8EFA0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972-155B-41D8-8D85-7ECBC478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22A-58A5-41D4-8D6F-C3DA6A5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B36-BD16-429C-9BC5-04F7E13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C24-9DD5-479D-AD1F-56FA568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94E-E71B-4F7D-B75B-82BFD63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B98-592C-4DB4-AAD1-70D7BB6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5D2-D5A2-4364-BEA7-95D8F50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06B-1E56-42A1-BC39-09758E6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6FF-4E6A-4112-A1A4-7E7857418E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6666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666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6666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66666"/>
                    </a:gs>
                    <a:gs pos="5000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CC8-C25E-4E1E-812D-6D308D2DC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chportal.ru/" TargetMode="External"/><Relationship Id="rId2" Type="http://schemas.openxmlformats.org/officeDocument/2006/relationships/hyperlink" Target="http://metodsovet.su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5" descr="mw_joomla_logo.png"/>
          <p:cNvPicPr/>
          <p:nvPr/>
        </p:nvPicPr>
        <p:blipFill>
          <a:blip r:embed="rId1"/>
          <a:stretch/>
        </p:blipFill>
        <p:spPr>
          <a:xfrm>
            <a:off x="414360" y="1554120"/>
            <a:ext cx="1884240" cy="17496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2967120" y="6076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0000"/>
                </a:solidFill>
                <a:latin typeface="Tahoma"/>
                <a:ea typeface="Tahoma"/>
              </a:rPr>
              <a:t>Кстово 20</a:t>
            </a:r>
            <a:r>
              <a:rPr b="1" lang="en-US" sz="1800" spc="-1" strike="noStrike">
                <a:solidFill>
                  <a:srgbClr val="9e0000"/>
                </a:solidFill>
                <a:latin typeface="Tahoma"/>
                <a:ea typeface="Tahoma"/>
              </a:rPr>
              <a:t>1</a:t>
            </a:r>
            <a:r>
              <a:rPr b="1" lang="ru-RU" sz="1800" spc="-1" strike="noStrike">
                <a:solidFill>
                  <a:srgbClr val="9e0000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1643040" y="214200"/>
            <a:ext cx="7466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ahoma"/>
              </a:rPr>
              <a:t>Министерство образования 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ahoma"/>
              </a:rPr>
              <a:t>ГБОУ СПО  «Кстовский  нефтяной техникум»</a:t>
            </a:r>
            <a:br>
              <a:rPr sz="2100"/>
            </a:br>
            <a:br>
              <a:rPr sz="600"/>
            </a:br>
            <a:br>
              <a:rPr sz="600"/>
            </a:br>
            <a:br>
              <a:rPr sz="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2786040" y="1571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ahoma"/>
                <a:ea typeface="Tahoma"/>
              </a:rPr>
              <a:t>Доклад - през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2143080" y="2357280"/>
            <a:ext cx="67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мпетентностный подход в преподавании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500720" y="4660920"/>
            <a:ext cx="43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ahoma"/>
                <a:ea typeface="Tahoma"/>
              </a:rPr>
              <a:t>Выполнила </a:t>
            </a:r>
            <a:r>
              <a:rPr b="1" i="1" lang="en-US" sz="20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Tahoma"/>
                <a:ea typeface="Tahoma"/>
              </a:rPr>
              <a:t>преподаватель   Потапова Г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G:\SONY\12.03.2009\DSC02336.J55PG.jpg"/>
          <p:cNvPicPr/>
          <p:nvPr/>
        </p:nvPicPr>
        <p:blipFill>
          <a:blip r:embed="rId2"/>
          <a:stretch/>
        </p:blipFill>
        <p:spPr>
          <a:xfrm>
            <a:off x="7812000" y="5369040"/>
            <a:ext cx="96840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1619280" y="404640"/>
            <a:ext cx="72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ятельность преподавателя по формированию компетенций в рамках дисциплины «Истор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подаватель  истории должен подготовить студент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необходимости владеть большим объемом исторической и обществоведческой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необходимости  знать досконально понятийный аппар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умению критически анализировать исторические докумен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 выстраиванию  исторической вертика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способности сформулировать  суждение о важнейших исторических событ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знанию хронологию исторического проце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1619280" y="174600"/>
            <a:ext cx="718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  связи со спецификой предмета деятельность преподавателя истории должна включать формирование всех ключевых компетенц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собое внимание следует уделя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бщекультурн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ценностно-смыслов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оциально-трудовой компетенц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G:\SONY\28.02.2012\DSC09549-5.JPG"/>
          <p:cNvPicPr/>
          <p:nvPr/>
        </p:nvPicPr>
        <p:blipFill>
          <a:blip r:embed="rId1"/>
          <a:stretch/>
        </p:blipFill>
        <p:spPr>
          <a:xfrm>
            <a:off x="6300720" y="2997360"/>
            <a:ext cx="2210040" cy="119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G:\SONY\28.02.2012\DSC09557-5.JPG"/>
          <p:cNvPicPr/>
          <p:nvPr/>
        </p:nvPicPr>
        <p:blipFill>
          <a:blip r:embed="rId2"/>
          <a:stretch/>
        </p:blipFill>
        <p:spPr>
          <a:xfrm>
            <a:off x="4211640" y="4437000"/>
            <a:ext cx="2981160" cy="146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G:\SONY\05.09.2009\DSC04552.-55PG.jpg"/>
          <p:cNvPicPr/>
          <p:nvPr/>
        </p:nvPicPr>
        <p:blipFill>
          <a:blip r:embed="rId3"/>
          <a:stretch/>
        </p:blipFill>
        <p:spPr>
          <a:xfrm>
            <a:off x="6918480" y="1341360"/>
            <a:ext cx="2041200" cy="15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G:\SONY\25.02.2012\DSC03105.5PG.jpg"/>
          <p:cNvPicPr/>
          <p:nvPr/>
        </p:nvPicPr>
        <p:blipFill>
          <a:blip r:embed="rId4"/>
          <a:stretch/>
        </p:blipFill>
        <p:spPr>
          <a:xfrm>
            <a:off x="1908000" y="5445000"/>
            <a:ext cx="214956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3075120" y="2276640"/>
            <a:ext cx="4601880" cy="20412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tretch/>
        </p:blipFill>
        <p:spPr>
          <a:xfrm>
            <a:off x="5376960" y="115920"/>
            <a:ext cx="3481200" cy="20494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1332000" y="587520"/>
            <a:ext cx="374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абота с информацией на уроках истории. Устное и письменное об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Рисунок 5" descr=""/>
          <p:cNvPicPr/>
          <p:nvPr/>
        </p:nvPicPr>
        <p:blipFill>
          <a:blip r:embed="rId3"/>
          <a:stretch/>
        </p:blipFill>
        <p:spPr>
          <a:xfrm>
            <a:off x="1908000" y="4437000"/>
            <a:ext cx="496440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908000" y="549360"/>
            <a:ext cx="66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ри изучении материала по истории уделяется серьезное внимание самостоятельной работе с учебным и оригинальным текстом, что позволя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звить умение работать с проблем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скать пути решен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звить умение действовать в неопределенной ситу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амостоятельно добывать недостающую информац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1959120" y="3789360"/>
            <a:ext cx="66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еред преподавателем стоит задача -  развить компетенции, то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формировать комплекс  умений и знаний в сфере  работы с информаци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владеть методами поиска, структурирования, свертывания, предъявления информации в различных форм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1763640" y="4052880"/>
            <a:ext cx="3614760" cy="2373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"/>
          <p:cNvPicPr/>
          <p:nvPr/>
        </p:nvPicPr>
        <p:blipFill>
          <a:blip r:embed="rId2"/>
          <a:stretch/>
        </p:blipFill>
        <p:spPr>
          <a:xfrm>
            <a:off x="5559480" y="126828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"/>
          <p:cNvPicPr/>
          <p:nvPr/>
        </p:nvPicPr>
        <p:blipFill>
          <a:blip r:embed="rId3"/>
          <a:stretch/>
        </p:blipFill>
        <p:spPr>
          <a:xfrm>
            <a:off x="1620720" y="1268280"/>
            <a:ext cx="34704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"/>
          <p:cNvPicPr/>
          <p:nvPr/>
        </p:nvPicPr>
        <p:blipFill>
          <a:blip r:embed="rId4"/>
          <a:stretch/>
        </p:blipFill>
        <p:spPr>
          <a:xfrm>
            <a:off x="5857920" y="4052880"/>
            <a:ext cx="3076560" cy="2289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1692360" y="200160"/>
            <a:ext cx="715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атериалы, подготовленные  студентами –первокурсниками к конференции, посвященной 200-летию Отечественной войны 1812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835280" y="620640"/>
            <a:ext cx="691344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сновные формы и методы работы с текстом, позволяющие решить эту задач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оставление вопросов к тексту и ответы на н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омментированное чтение текста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аналитическое чтение текс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збивка текста на смысловые 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оставление тезисного пла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оставление конкретизирующих, сравнитель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хронологических обобщающих табли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дбор примеров, раскрывающих основные идеи текста, составление логической схе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еобразование цифровой информации, данной в тексте, в график, статистическую таблицу, диаграм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3168720" cy="2453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5060880" y="446040"/>
            <a:ext cx="3992760" cy="2371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"/>
          <p:cNvPicPr/>
          <p:nvPr/>
        </p:nvPicPr>
        <p:blipFill>
          <a:blip r:embed="rId3"/>
          <a:stretch/>
        </p:blipFill>
        <p:spPr>
          <a:xfrm>
            <a:off x="2911320" y="3652920"/>
            <a:ext cx="4029120" cy="23922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0"/>
          <p:cNvSpPr/>
          <p:nvPr/>
        </p:nvSpPr>
        <p:spPr>
          <a:xfrm>
            <a:off x="1332000" y="29242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Тематическая газета по ист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4995720" y="2936880"/>
            <a:ext cx="387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Фрагмент выставки творческих раб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2689200" y="6138720"/>
            <a:ext cx="47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Идет работа над анализом текста. Формируется познавательная компете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5435640" y="3500280"/>
            <a:ext cx="37083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5587920" y="3652920"/>
            <a:ext cx="370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835280" y="620640"/>
            <a:ext cx="67690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словия успешного формирования компетент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занятиях  истории формируется такая составляющая познавательной компетентности, как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пособность анализирова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нимать побудительные причины социальных действи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оотносить их с исторически сложившимися системами социальных цен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908000" y="4724280"/>
            <a:ext cx="691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 самом общем виде можно сказа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омпетентностным является задание, которое име­ет не только учебное, но и жизненное обоснование и не вызы­вает у студента безответного  вопроса: «А зачем мы это делаем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766880" y="260280"/>
            <a:ext cx="684072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К наиболее типичным методам формирования и развития ключевых компетенций, применимым в преподавании истории, можно отнест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бращение к прошлому или только что сформированному опыту студен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крытое обсуждение новых знаний, в ходе которого оказывается задействованной субъектная позиция студен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ешение проблемных задач и обсуждение проблемных ситуаций, «соразмерных» опыту студентов данного возра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искуссию студентов, столкновение субъектных по­зи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олевые и деловые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оектную деятель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тод анализа конкретных ситуац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8" descr="G:\SONY\03.03.2011\DSC00696.-5JPG.jpg"/>
          <p:cNvPicPr/>
          <p:nvPr/>
        </p:nvPicPr>
        <p:blipFill>
          <a:blip r:embed="rId1"/>
          <a:stretch/>
        </p:blipFill>
        <p:spPr>
          <a:xfrm>
            <a:off x="6588000" y="5229360"/>
            <a:ext cx="2303640" cy="1385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60600" y="484200"/>
            <a:ext cx="72007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сходя из этих позиций, можно сформулировать основную идею: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оцесс активизации познавательной деятельности является приоритетным в формировании компетенций.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технологическом смысле познавательная активность обеспечивается за сч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недрения эффективн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стоянного использования межпредметных связей, повышающих научный уровень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спользования информационно-коммуникационных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рганизации процесса личностного осмысления исторического опы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20720" y="115920"/>
            <a:ext cx="7491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47640" y="907560"/>
            <a:ext cx="74916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1  Введ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Понятие компетенции и  компетентност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2  Компетентностный подход в преподавании истор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2.1 Необходимые условия для реализации компетенций в    преподавании дисциплины «История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2.2 Деятельность преподавателя по формированию  компетенций в рамках дисциплины «История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2.3 Условия успешного формирования компетентност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3 Заключ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4 Использованная литера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1547640" y="404640"/>
            <a:ext cx="68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ентоспособность человека на современном рынке труда, по мнению специалистов, во многом зависит от его способности приобретать и развивать умения, навыки и компет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ни могут использоваться применительно к целому ряду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разование должно быть нацелено на формирование готовности студентов эффективно организовывать свои внутренние и внешние ресур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Это необходимо  для принятия решений и достижения поставленной ц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547640" y="115920"/>
            <a:ext cx="717084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1.Зинченко В.П. Психологические основы педагогики. – М.,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2 Иванов Д.А., Митрофанов К.Г., Соколова О.В. Компетентностный подход в образовании. Проблемы, понятия, инструментарий.- М.:  АПК и ПРО,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3 Лебедев О.Е. Компетентностный подход в образовании. Школьные технологии.-2004.-№5.-С.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4 Новиков А. М. Методология учебной деятельности. М., 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5 Стрелова О.Ю.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сторическое образование в условиях новых стандартов: от программы-конспекта содержания – к программе-плану деятельности.  Журнал «Преподавание истории в школе», 2010г.,  №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hlinkClick r:id="rId1"/>
              </a:rPr>
              <a:t>6 uchportal.ru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hlinkClick r:id="rId2"/>
              </a:rPr>
              <a:t>7 http://metodsovet.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2916360" y="17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G:\SONY\28.02.2012\Для работы\DSC02733.11JPG.jpg"/>
          <p:cNvPicPr/>
          <p:nvPr/>
        </p:nvPicPr>
        <p:blipFill>
          <a:blip r:embed="rId1"/>
          <a:stretch/>
        </p:blipFill>
        <p:spPr>
          <a:xfrm>
            <a:off x="3008160" y="3586320"/>
            <a:ext cx="4660920" cy="1930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Галина\Desktop\ФОТКИ\Новая папка (2)\DSC091541.JPG"/>
          <p:cNvPicPr/>
          <p:nvPr/>
        </p:nvPicPr>
        <p:blipFill>
          <a:blip r:embed="rId2"/>
          <a:stretch/>
        </p:blipFill>
        <p:spPr>
          <a:xfrm>
            <a:off x="3043080" y="115920"/>
            <a:ext cx="4553280" cy="3097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195640" y="5516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619280" y="40464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Цель работы:  обобщение опыта работы по формированию  компетенций в преподавании ист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1652760" y="4508640"/>
            <a:ext cx="68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омпетентность</a:t>
            </a:r>
            <a:r>
              <a:rPr b="1" lang="ru-RU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– совокупность личностных качеств студента, обусловленных опытом его деятельности в определенной социально и личностно-значимой сфе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763640" y="2725560"/>
            <a:ext cx="69469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тенци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тчужденное, заранее заданное социальное требование к образовательной подготовке студента, необходимой для его эффективной продуктивной деятельности в определенной сфе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1619280" y="1341360"/>
            <a:ext cx="6899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Понятие компетенции и компетен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снову новой структуры ценностей составляют компетенция и компетент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835280" y="476280"/>
            <a:ext cx="6697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д компетенциями подразумевается совокупность тех социальных функций, которыми обладает человек при реализации социально значимых прав и обязанностей члена общества, социальной группы, коллектива. А компетентность есть "обладание знаниями, помогающими судить о чём-либо"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835280" y="2637000"/>
            <a:ext cx="6697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омпетенцией можно условно обозначить совокупность того, чем человек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сполагает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,  а компетентностью - совокупность того, чем он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ладе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835280" y="4054320"/>
            <a:ext cx="66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Широкое использование компетентностного подхода продиктовано желанием  придать образованию личностно-ориентированный характер и сформировать у студентов навыки деятельности в конкретных ситуа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747800" y="479520"/>
            <a:ext cx="68421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ые условия для реализации компетенций в   преподавании дисциплины «Истор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обходимо «вооружить» молодеж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Политическими и социальными компетенциями, связанными со способность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рать на себя ответствен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частвовать в совместном принятии реш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регулировать конфликты ненасильственным пут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частвовать в функционировании и развитии демократических институ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 Компетенциями, касающимися жизни в многокультурном обществе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имание различи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важение друг друг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пособность жить с людьми других культур, языков и религ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744560" y="404640"/>
            <a:ext cx="72723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 Компетенциями, определяющими владение  устным и письменным общение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е обладающим ими грозит изоляция от обществ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 Компетенциями, связанными с возникновением общества информаци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 Компетенциями, реализующими способность и желание учиться всю жизнь,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ак основа непрерывной подготовки в профессиональном плане, личной и общественной жи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G:\SONY\29.05.2010\DSC0749511.JPG"/>
          <p:cNvPicPr/>
          <p:nvPr/>
        </p:nvPicPr>
        <p:blipFill>
          <a:blip r:embed="rId1"/>
          <a:stretch/>
        </p:blipFill>
        <p:spPr>
          <a:xfrm>
            <a:off x="2124000" y="4657680"/>
            <a:ext cx="2519280" cy="18525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"/>
          <p:cNvPicPr/>
          <p:nvPr/>
        </p:nvPicPr>
        <p:blipFill>
          <a:blip r:embed="rId2"/>
          <a:stretch/>
        </p:blipFill>
        <p:spPr>
          <a:xfrm>
            <a:off x="6300720" y="4657680"/>
            <a:ext cx="241632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908000" y="333360"/>
            <a:ext cx="6985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Что должны уметь молодые люди для того, чтобы овладеть, а затем и реализовать ключевые компетен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 Изу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извлекать пользу из опы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рганизовать взаимосвязь своих знаний и упорядочить 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рганизовать свои собственные приемы обуч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решать пробле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амостоятельно заниматься  своим обуч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2197080" y="306864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 Иск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апрашивать различные базы да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онсультировать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лучать информацию (из различных источник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работать с документами и классифицировать 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G:\SONY\28.02.2012\DSC06409.-5JPG.jpg"/>
          <p:cNvPicPr/>
          <p:nvPr/>
        </p:nvPicPr>
        <p:blipFill>
          <a:blip r:embed="rId1"/>
          <a:stretch/>
        </p:blipFill>
        <p:spPr>
          <a:xfrm>
            <a:off x="2700360" y="4727520"/>
            <a:ext cx="2330280" cy="1747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G:\SONY\15.12.2010\DSC0034911.JPG"/>
          <p:cNvPicPr/>
          <p:nvPr/>
        </p:nvPicPr>
        <p:blipFill>
          <a:blip r:embed="rId2"/>
          <a:stretch/>
        </p:blipFill>
        <p:spPr>
          <a:xfrm>
            <a:off x="6443640" y="5300640"/>
            <a:ext cx="190188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763640" y="54936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 Дум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рганизовывать взаимосвязь прошлых и настоящих событ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ритически относиться к тому или иному аспекту наших общест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противостоять неуверенности и слож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анимать позицию в дискуссиях и "выковывать" свое собственн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идеть важность политического и экономического окружения, в котором проходит обуч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ценивать социальные привычки, связанные со здоровьем, потреблением, а также окружающей сред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оценивать произведения искус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1763640" y="4292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 Сотрудни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сотрудничать и работать в групп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инимать реш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лаживать разногласия и конфлик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договаривать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разрабатывать и выполнять контрак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G:\SONY\27.01.2011\DSC00621.5JPG.jpg"/>
          <p:cNvPicPr/>
          <p:nvPr/>
        </p:nvPicPr>
        <p:blipFill>
          <a:blip r:embed="rId1"/>
          <a:stretch/>
        </p:blipFill>
        <p:spPr>
          <a:xfrm>
            <a:off x="6697800" y="3860640"/>
            <a:ext cx="2198520" cy="1433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1763640" y="47628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 Приниматься за д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ключаться в проек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ести ответствен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йти в группу или коллектив и внести свой вкла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оказать солида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организовывать свою работ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пользоваться вычислительными и моделирующими прием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1763640" y="2997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6  Адаптировать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использовать новые технологии информации и коммуник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оказать гибкость перед лицом быстрых изме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казать стойкость перед трудностя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меть находить новые реш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757520" y="515772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аким образом, необходимо  формировать целостную систему универсальных знаний, умений, навыков, а также опыт самостоятельной деятельности и личной ответственности студ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7702560" y="223920"/>
            <a:ext cx="136368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8:08:10Z</dcterms:created>
  <dc:creator>Galina</dc:creator>
  <dc:description/>
  <dc:language>en-US</dc:language>
  <cp:lastModifiedBy>Галина</cp:lastModifiedBy>
  <cp:lastPrinted>2012-02-28T23:15:08Z</cp:lastPrinted>
  <dcterms:modified xsi:type="dcterms:W3CDTF">2012-03-11T00:19:40Z</dcterms:modified>
  <cp:revision>105</cp:revision>
  <dc:subject/>
  <dc:title>Доклад о ходе рабо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