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C06-AA29-4185-A3A2-3F607F25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1A6-10A4-41E3-9C29-E54658E3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A8E-AE1C-428A-BB9F-A7921F36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814-4E83-403E-8FD7-6A33969F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9ED-93CA-45BA-9F4A-F9110F1E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687-0F88-4B74-8B8D-06395F24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B72-5276-4A88-9D5A-02F1BB5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29E-B4E1-4FAE-8025-7A6D554F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83C-2FB8-4AF4-92AB-7C672E48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3E0-2F0A-46EA-8C95-D61CB981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92B-38AF-4924-B67C-E1DF70E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AC1-F2A9-4116-AEE8-A8E52C78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4491-11BB-4CB1-93E8-C5983DABC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8" descr=""/>
          <p:cNvPicPr/>
          <p:nvPr/>
        </p:nvPicPr>
        <p:blipFill>
          <a:blip r:embed="rId2"/>
          <a:stretch/>
        </p:blipFill>
        <p:spPr>
          <a:xfrm>
            <a:off x="633240" y="676440"/>
            <a:ext cx="6303960" cy="1957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cuments and Settings\НВ\Рабочий стол\картинки\PHOTO1\J0202202.JPG"/>
          <p:cNvPicPr/>
          <p:nvPr/>
        </p:nvPicPr>
        <p:blipFill>
          <a:blip r:embed="rId3"/>
          <a:stretch/>
        </p:blipFill>
        <p:spPr>
          <a:xfrm>
            <a:off x="6572160" y="928800"/>
            <a:ext cx="1765440" cy="26604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2627280" y="5084640"/>
            <a:ext cx="56944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двинова Надежда Васильевн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0920" y="5516640"/>
            <a:ext cx="5977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 МКОУ "Перегрёбинская СОШ №1"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928440"/>
            <a:ext cx="77724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огательство (ст.163 УК Р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(от 3 до 15 лет лишение свобод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C:\Documents and Settings\НВ\Рабочий стол\картинки\PHOTO1\J0227540.JPG"/>
          <p:cNvPicPr/>
          <p:nvPr/>
        </p:nvPicPr>
        <p:blipFill>
          <a:blip r:embed="rId2"/>
          <a:stretch/>
        </p:blipFill>
        <p:spPr>
          <a:xfrm>
            <a:off x="3286080" y="2143080"/>
            <a:ext cx="3030480" cy="20001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1071720" y="442908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хват заложника(ст.206 УК РФ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от 5 до 20 лет лишения свобод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714240" y="1000080"/>
            <a:ext cx="671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роризм (ст.205 УК РФ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от 5 до 20 лет лишение свобод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C:\Documents and Settings\НВ\Рабочий стол\картинки\PHOTO1\J0201797.JPG"/>
          <p:cNvPicPr/>
          <p:nvPr/>
        </p:nvPicPr>
        <p:blipFill>
          <a:blip r:embed="rId2"/>
          <a:stretch/>
        </p:blipFill>
        <p:spPr>
          <a:xfrm>
            <a:off x="4857840" y="1928880"/>
            <a:ext cx="3024000" cy="20001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C:\Documents and Settings\НВ\Рабочий стол\картинки\PHOTO1\J0308957.JPG"/>
          <p:cNvPicPr/>
          <p:nvPr/>
        </p:nvPicPr>
        <p:blipFill>
          <a:blip r:embed="rId2"/>
          <a:stretch/>
        </p:blipFill>
        <p:spPr>
          <a:xfrm>
            <a:off x="4643280" y="785880"/>
            <a:ext cx="3657600" cy="2457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70" name="Picture 2" descr="C:\Documents and Settings\НВ\Рабочий стол\картинки\PHOTO1\J0289480.JPG"/>
          <p:cNvPicPr/>
          <p:nvPr/>
        </p:nvPicPr>
        <p:blipFill>
          <a:blip r:embed="rId3"/>
          <a:stretch/>
        </p:blipFill>
        <p:spPr>
          <a:xfrm>
            <a:off x="4643280" y="3714840"/>
            <a:ext cx="3643560" cy="24289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71" name="Прямоугольник 8" descr=""/>
          <p:cNvPicPr/>
          <p:nvPr/>
        </p:nvPicPr>
        <p:blipFill>
          <a:blip r:embed="rId4"/>
          <a:stretch/>
        </p:blipFill>
        <p:spPr>
          <a:xfrm>
            <a:off x="414360" y="2249640"/>
            <a:ext cx="59864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НВ\Рабочий стол\картинки\PHOTO1\J0308954.JPG"/>
          <p:cNvPicPr/>
          <p:nvPr/>
        </p:nvPicPr>
        <p:blipFill>
          <a:blip r:embed="rId2"/>
          <a:stretch/>
        </p:blipFill>
        <p:spPr>
          <a:xfrm>
            <a:off x="2571840" y="714240"/>
            <a:ext cx="3657600" cy="2414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73" name="Picture 4" descr="C:\Documents and Settings\НВ\Рабочий стол\картинки\PHOTO1\J0308923.JPG"/>
          <p:cNvPicPr/>
          <p:nvPr/>
        </p:nvPicPr>
        <p:blipFill>
          <a:blip r:embed="rId3"/>
          <a:stretch/>
        </p:blipFill>
        <p:spPr>
          <a:xfrm>
            <a:off x="4786200" y="3214800"/>
            <a:ext cx="3657600" cy="24256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74" name="Прямоугольник 7" descr=""/>
          <p:cNvPicPr/>
          <p:nvPr/>
        </p:nvPicPr>
        <p:blipFill>
          <a:blip r:embed="rId4"/>
          <a:stretch/>
        </p:blipFill>
        <p:spPr>
          <a:xfrm>
            <a:off x="274680" y="2468520"/>
            <a:ext cx="52783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nts and Settings\НВ\Рабочий стол\картинки\PHOTO1\J0289725.JPG"/>
          <p:cNvPicPr/>
          <p:nvPr/>
        </p:nvPicPr>
        <p:blipFill>
          <a:blip r:embed="rId2"/>
          <a:stretch/>
        </p:blipFill>
        <p:spPr>
          <a:xfrm>
            <a:off x="714240" y="3357720"/>
            <a:ext cx="3571920" cy="23936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76" name="Picture 2" descr="C:\Documents and Settings\НВ\Рабочий стол\картинки\PHOTO1\J0262747.JPG"/>
          <p:cNvPicPr/>
          <p:nvPr/>
        </p:nvPicPr>
        <p:blipFill>
          <a:blip r:embed="rId3"/>
          <a:stretch/>
        </p:blipFill>
        <p:spPr>
          <a:xfrm>
            <a:off x="4714920" y="3286080"/>
            <a:ext cx="3657600" cy="24256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77" name="Прямоугольник 7" descr=""/>
          <p:cNvPicPr/>
          <p:nvPr/>
        </p:nvPicPr>
        <p:blipFill>
          <a:blip r:embed="rId4"/>
          <a:stretch/>
        </p:blipFill>
        <p:spPr>
          <a:xfrm>
            <a:off x="1066680" y="749160"/>
            <a:ext cx="685188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3" descr=""/>
          <p:cNvPicPr/>
          <p:nvPr/>
        </p:nvPicPr>
        <p:blipFill>
          <a:blip r:embed="rId2"/>
          <a:stretch/>
        </p:blipFill>
        <p:spPr>
          <a:xfrm>
            <a:off x="665280" y="2657520"/>
            <a:ext cx="7808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Что такое преступлени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ступлением признаётся виновно совершённое общественно –опасное деяние, запрещённое Уголовным кодексом под угрозой наказ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ч.1 ст. 14 УК Р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C:\Documents and Settings\НВ\Рабочий стол\картинки\PHOTO1\J0178820.JPG"/>
          <p:cNvPicPr/>
          <p:nvPr/>
        </p:nvPicPr>
        <p:blipFill>
          <a:blip r:embed="rId2"/>
          <a:stretch/>
        </p:blipFill>
        <p:spPr>
          <a:xfrm>
            <a:off x="4714920" y="3857760"/>
            <a:ext cx="3143160" cy="20952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609480"/>
            <a:ext cx="7743960" cy="210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Кто признаётся несовершеннолетним по Уголовному кодекс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57160" y="3285720"/>
            <a:ext cx="760104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овершеннолетними признаются лица, которым ко времени совершения преступления  исполнилось 14 лет, но не исполнилось 18 лет (ч.1 ст.27 УК Р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С какого  возраста наступает уголовная ответственнос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16 лет (ч.1 ст.20 УКРФ), а за отдельные виды преступлений уголовная ответственность  наступает с 14 лет (ч.2 ст.20 УК Р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C:\Documents and Settings\НВ\Рабочий стол\картинки\PHOTO1\J0182829.JPG"/>
          <p:cNvPicPr/>
          <p:nvPr/>
        </p:nvPicPr>
        <p:blipFill>
          <a:blip r:embed="rId2"/>
          <a:stretch/>
        </p:blipFill>
        <p:spPr>
          <a:xfrm>
            <a:off x="6143760" y="3571920"/>
            <a:ext cx="1603080" cy="24350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За какие виды преступления наступает уголовная ответственность с 14 ле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5880" y="2428560"/>
            <a:ext cx="774360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бийство (ст.105 У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(5 лет лишения свобод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ышленное причинение тяжкого вреда здоровью( ст.111 УК Р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(2 года –лишение свобод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ышленное причинение средней тяжести вреда здоровью (ст.112 УК Р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жа. (ст. 158 УК Р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(от 3 до 10 лет лишения свобод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бёж.(ст.161 УК Р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бой(ст. 162 УК Р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:\Documents and Settings\НВ\Рабочий стол\картинки\PHOTO1\J0285021.JPG"/>
          <p:cNvPicPr/>
          <p:nvPr/>
        </p:nvPicPr>
        <p:blipFill>
          <a:blip r:embed="rId2"/>
          <a:stretch/>
        </p:blipFill>
        <p:spPr>
          <a:xfrm>
            <a:off x="6215040" y="2571840"/>
            <a:ext cx="1928880" cy="2936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57" name="Picture 6" descr="C:\Documents and Settings\НВ\Рабочий стол\картинки\PHOTO1\J0177737.JPG"/>
          <p:cNvPicPr/>
          <p:nvPr/>
        </p:nvPicPr>
        <p:blipFill>
          <a:blip r:embed="rId3"/>
          <a:stretch/>
        </p:blipFill>
        <p:spPr>
          <a:xfrm>
            <a:off x="2714760" y="4000680"/>
            <a:ext cx="2928960" cy="19522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85716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ышленное уничтожение или повреждение имущества при отягчающих обстоятельствах (ст.167 УК РФ) –( поджог, взрыв, затопление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(от 2 до 5 лет лишение свобод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C:\Documents and Settings\НВ\Рабочий стол\картинки\PHOTO1\J0178945.JPG"/>
          <p:cNvPicPr/>
          <p:nvPr/>
        </p:nvPicPr>
        <p:blipFill>
          <a:blip r:embed="rId2"/>
          <a:stretch/>
        </p:blipFill>
        <p:spPr>
          <a:xfrm>
            <a:off x="2500200" y="3446640"/>
            <a:ext cx="3929040" cy="26254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НВ\Рабочий стол\картинки\PHOTO1\J0182417.JPG"/>
          <p:cNvPicPr/>
          <p:nvPr/>
        </p:nvPicPr>
        <p:blipFill>
          <a:blip r:embed="rId2"/>
          <a:stretch/>
        </p:blipFill>
        <p:spPr>
          <a:xfrm>
            <a:off x="4071960" y="2786040"/>
            <a:ext cx="3978360" cy="2652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61" name="Прямоугольник 4"/>
          <p:cNvSpPr/>
          <p:nvPr/>
        </p:nvSpPr>
        <p:spPr>
          <a:xfrm>
            <a:off x="1214280" y="1214280"/>
            <a:ext cx="678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едомо ложное сообщение об акте терроризма (ст. 207 УК РФ)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до 3 лет лишение свобод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НВ\Рабочий стол\картинки\PHOTO1\J0227778.JPG"/>
          <p:cNvPicPr/>
          <p:nvPr/>
        </p:nvPicPr>
        <p:blipFill>
          <a:blip r:embed="rId2"/>
          <a:stretch/>
        </p:blipFill>
        <p:spPr>
          <a:xfrm>
            <a:off x="3786120" y="2928960"/>
            <a:ext cx="4194360" cy="27892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63" name="Прямоугольник 4"/>
          <p:cNvSpPr/>
          <p:nvPr/>
        </p:nvSpPr>
        <p:spPr>
          <a:xfrm>
            <a:off x="785880" y="857160"/>
            <a:ext cx="700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равомерное завладение автомобилем или иным транспортным средством без цели хищения( ст. 166 УК РФ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УГОН - от 3 до 12 лет лишения свобод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3:33:44Z</dcterms:created>
  <dc:creator>Школа</dc:creator>
  <dc:description/>
  <dc:language>en-US</dc:language>
  <cp:lastModifiedBy>Надежда</cp:lastModifiedBy>
  <dcterms:modified xsi:type="dcterms:W3CDTF">2012-03-11T04:24:12Z</dcterms:modified>
  <cp:revision>20</cp:revision>
  <dc:subject/>
  <dc:title>Слайд 1</dc:title>
</cp:coreProperties>
</file>