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B59-A68F-4B16-B00B-A0E24A87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ADC-9F59-4BD2-80B6-55BD10F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DCD-C696-4187-A71A-7C2275D9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815-573A-4A86-8CC0-BA79C97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D145-8C22-4EB1-8A14-F954E80C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6EB0-B403-4931-B437-651BD89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4551-2645-44E3-8703-DE7FCB5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DA2-748E-449C-B649-5040FF02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7A5-B276-4F1B-B1EE-95E697C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6B9-170B-4BCC-B483-79E5CD50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E6C-5676-40E4-9255-387445C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21D-3535-47B5-B241-ECE7F38A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5A6-7C47-4700-8479-25FB128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FEC-D8AF-4642-89DA-54B40A8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EF0-3B46-4054-BBA6-33FF937C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1AFB-74EE-49DC-B87F-2D7BC3F8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3F92-7558-4F59-AD29-F102DCAF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93A5-5355-4567-B6F8-A57AC84B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634F-D779-45F4-8666-6130CBBC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DE7B-BBD5-44C6-AE6F-44E7FF3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B3D0-6C04-4B96-9AB8-7323793C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4933-A732-4F28-BE01-A6113DF7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DE1-3587-4DD8-B58C-B4E52038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B53E-1E98-49C2-BE29-E19912D0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5CA4-E1BD-4F9C-9D19-C581651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EF9D-7DC8-43F6-AA70-2F093AB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A2E0-3422-4D39-AE88-14A4D962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34BB-F4AC-4535-8ED8-26CD061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A573-5983-4317-A4A0-91FE75C3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CC83-76BF-49DC-B2C7-A36AA3B2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BC30-14DE-4F23-83D2-67C1BA7D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0FE5-ED39-4EEE-8A41-1E0007B6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EC4B-6569-4BF9-8A13-C22F4DB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520-8E5A-499B-8CF8-4BFDC94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7D49-3DD4-48DA-8FCF-1678C7C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04C6-B304-4BCC-8219-93D164D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8F23-45A6-4B87-AD39-181CEE6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29BE-AF9B-4702-B68A-EB7C613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7D05-5A9F-4B9F-B5AB-52D47A6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A45B-6963-417C-A644-D64B31D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6000-EC8C-4FD8-BA10-48FB236F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B182-75EF-4AB3-AC6B-AB0E2470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D33F-5D43-4D17-A68E-068E2391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00B-C0DE-4E50-BA84-7A13C60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C47-4019-4B22-90B8-26B27203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FDF-2F9F-4AEB-BC44-7AF9BD3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1D1-2135-4397-A7B6-54838FF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08-0E4C-46D2-B5B2-9DC84BA1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19D1-4A43-4519-99CA-A7C0BE12C049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48F-4E90-4577-A3F6-C899E9540C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7A8-ADFB-4149-ABD8-4FEA5B2339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407-B762-44BB-BCBC-5468871FD1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ИНТЕГРИРОВАННЫЙ УРОК УЧИТЕЛЯ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КУЛЯБИНОЙ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ОЛИНЫ АЛЕКСЕЕВНЫ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ГБОУ гимназии 42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г.Санкт-Петербург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8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2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775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90440" y="260280"/>
            <a:ext cx="8774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9792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57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3300"/>
                </a:solidFill>
                <a:latin typeface="Arial Black"/>
              </a:rPr>
              <a:t>Праздник, праздник, празднуем семьей!!!</a:t>
            </a:r>
            <a:endParaRPr b="0" lang="en-US" sz="6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9464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ПЕЙЗАЖ</a:t>
            </a:r>
            <a:br>
              <a:rPr sz="2800"/>
            </a:br>
            <a:r>
              <a:rPr b="0" lang="ru-RU" sz="2400" spc="-1" strike="noStrike">
                <a:solidFill>
                  <a:srgbClr val="fff9cf"/>
                </a:solidFill>
                <a:latin typeface="Arial Black"/>
              </a:rPr>
              <a:t>Иван Иванович Шишкин</a:t>
            </a:r>
            <a:br>
              <a:rPr sz="2400"/>
            </a:br>
            <a:r>
              <a:rPr b="0" lang="ru-RU" sz="2400" spc="-1" strike="noStrike">
                <a:solidFill>
                  <a:srgbClr val="fff9cf"/>
                </a:solidFill>
                <a:latin typeface="Arial Black"/>
              </a:rPr>
              <a:t> «Корабельная роща»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19640" y="1341360"/>
            <a:ext cx="367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9cf"/>
                </a:solidFill>
                <a:latin typeface="Arial Black"/>
              </a:rPr>
              <a:t>НАТЮРМОРТ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Кузьма Сергеевич Петров-Водкин</a:t>
            </a:r>
            <a:br>
              <a:rPr sz="2800"/>
            </a:b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«Черемуха </a:t>
            </a:r>
            <a:br>
              <a:rPr sz="2800"/>
            </a:b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в стакане»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00364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1640" y="1267920"/>
            <a:ext cx="4319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9cf"/>
                </a:solidFill>
                <a:latin typeface="Arial Black"/>
              </a:rPr>
              <a:t>ПОРТРЕ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Валентин Александрович Серов</a:t>
            </a:r>
            <a:br>
              <a:rPr sz="2800"/>
            </a:br>
            <a:r>
              <a:rPr b="0" lang="ru-RU" sz="2800" spc="-1" strike="noStrike">
                <a:solidFill>
                  <a:srgbClr val="fff9cf"/>
                </a:solidFill>
                <a:latin typeface="Arial Black"/>
              </a:rPr>
              <a:t>«Портрет княгини О.К. Орловой»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4284720" cy="59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ндрей Петрович Рябушкин «Семья купц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235640" cy="580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ергей Васильевич Иванов «Семья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92360" y="333000"/>
            <a:ext cx="331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ор Михайлович Славя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 балко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иколай Петрович Богданов-Бельский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«Новые владельцы. Чаепитие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1386000"/>
            <a:ext cx="7885080" cy="54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6:42:43Z</dcterms:created>
  <dc:creator>Holmes</dc:creator>
  <dc:description/>
  <cp:keywords/>
  <dc:language>en-US</dc:language>
  <cp:lastModifiedBy>Asus</cp:lastModifiedBy>
  <dcterms:modified xsi:type="dcterms:W3CDTF">2012-03-12T14:06:12Z</dcterms:modified>
  <cp:revision>9</cp:revision>
  <dc:subject/>
  <dc:title>Праздник, праздник, празднуем семьей!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