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08D4-C928-4715-8A7C-054210D35D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761-985B-4917-832D-14B5153ED6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137-3B0C-4486-AB79-30BDC469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A9E-401C-4949-9BA5-63AD565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888-4E9A-40EF-93EB-68A0D73F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B5F-7088-4BAE-9630-B9820D49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90A-ABDC-48F8-867A-11F6A8A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FB8-3363-4D20-907B-BD3EBDA2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6EA-BA48-4DC7-B81F-735F686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669-5D68-443B-8F66-F2CFFA5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A33-F240-402B-B446-ADA343B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2FA-F3F2-42F0-99AD-6AFD9D0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594-96E7-4CE8-8509-CCE16E4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596-9C55-43CC-B4F4-4C91D36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A079-1311-4F71-8D00-AA436F0AF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68360" y="620640"/>
            <a:ext cx="79912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 лет со дня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нятия блокады Ленингра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V14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8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468360" y="620640"/>
            <a:ext cx="79912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 лет со дня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нятия блокады Ленингра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Ленинград\Leningrad2.jpg"/>
          <p:cNvPicPr/>
          <p:nvPr/>
        </p:nvPicPr>
        <p:blipFill>
          <a:blip r:embed="rId1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Ленинград\kudoyar_4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Ленинград\deti.jpg"/>
          <p:cNvPicPr/>
          <p:nvPr/>
        </p:nvPicPr>
        <p:blipFill>
          <a:blip r:embed="rId1"/>
          <a:stretch/>
        </p:blipFill>
        <p:spPr>
          <a:xfrm>
            <a:off x="0" y="0"/>
            <a:ext cx="937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Ленинград\blokada243.jpg"/>
          <p:cNvPicPr/>
          <p:nvPr/>
        </p:nvPicPr>
        <p:blipFill>
          <a:blip r:embed="rId1"/>
          <a:stretch/>
        </p:blipFill>
        <p:spPr>
          <a:xfrm>
            <a:off x="0" y="285840"/>
            <a:ext cx="9109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Ленинград\27-56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0_32_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8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Ленинград\1222267148_120920609201787700.jpg"/>
          <p:cNvPicPr/>
          <p:nvPr/>
        </p:nvPicPr>
        <p:blipFill>
          <a:blip r:embed="rId1"/>
          <a:stretch/>
        </p:blipFill>
        <p:spPr>
          <a:xfrm>
            <a:off x="2214720" y="0"/>
            <a:ext cx="464328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Ленинград\21277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1A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53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:\Ленинград\b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Ленинград\fc18b9b644878c749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Ленинград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:\Ленинград\mednij_vsadnik.jpg"/>
          <p:cNvPicPr/>
          <p:nvPr/>
        </p:nvPicPr>
        <p:blipFill>
          <a:blip r:embed="rId1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E:\Ленинград\grigorii02.jpg"/>
          <p:cNvPicPr/>
          <p:nvPr/>
        </p:nvPicPr>
        <p:blipFill>
          <a:blip r:embed="rId1"/>
          <a:stretch/>
        </p:blipFill>
        <p:spPr>
          <a:xfrm>
            <a:off x="1643040" y="-66600"/>
            <a:ext cx="51436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:\Ленинград\0,1020,1175179,00.jpg"/>
          <p:cNvPicPr/>
          <p:nvPr/>
        </p:nvPicPr>
        <p:blipFill>
          <a:blip r:embed="rId1"/>
          <a:stretch/>
        </p:blipFill>
        <p:spPr>
          <a:xfrm>
            <a:off x="0" y="571680"/>
            <a:ext cx="92073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Ленинград\dat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E:\Ленинград\a2f58d958986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68360" y="620640"/>
            <a:ext cx="79912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 лет со дня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нятия блокады Ленингра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1" name="LEVITAN1.WAV" descr=""/>
          <p:cNvPicPr/>
          <p:nvPr/>
        </p:nvPicPr>
        <p:blipFill>
          <a:blip r:embed="rId1"/>
          <a:stretch/>
        </p:blipFill>
        <p:spPr>
          <a:xfrm>
            <a:off x="214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035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Ленинград\9.gif"/>
          <p:cNvPicPr/>
          <p:nvPr/>
        </p:nvPicPr>
        <p:blipFill>
          <a:blip r:embed="rId1"/>
          <a:stretch/>
        </p:blipFill>
        <p:spPr>
          <a:xfrm>
            <a:off x="185724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E:\Ленинград\blokada.jpg"/>
          <p:cNvPicPr/>
          <p:nvPr/>
        </p:nvPicPr>
        <p:blipFill>
          <a:blip r:embed="rId1"/>
          <a:stretch/>
        </p:blipFill>
        <p:spPr>
          <a:xfrm>
            <a:off x="0" y="0"/>
            <a:ext cx="928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Ленинград\podv1.jpg"/>
          <p:cNvPicPr/>
          <p:nvPr/>
        </p:nvPicPr>
        <p:blipFill>
          <a:blip r:embed="rId1"/>
          <a:stretch/>
        </p:blipFill>
        <p:spPr>
          <a:xfrm>
            <a:off x="0" y="428760"/>
            <a:ext cx="91184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Ленинград\cap0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:\Ленинград\00000033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Ленинград\Blockade4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ЕРОН</cp:lastModifiedBy>
  <dcterms:modified xsi:type="dcterms:W3CDTF">2005-02-02T14:18:11Z</dcterms:modified>
  <cp:revision>9</cp:revision>
  <dc:subject/>
  <dc:title>PowerPoint Presentation</dc:title>
</cp:coreProperties>
</file>