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54D-633B-4701-930C-E37A4A8C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F90-8C30-4B9D-956D-F23DB2FA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EBF37-A3F4-49CC-885F-DFDD70A8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FA24F-0EDF-45F6-9A85-BB49740E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1F7EC-AFDF-481F-83D9-90D7044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FE346-2F6E-44BF-9131-56185B56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F8B28-AE60-4B47-8B4F-56A178D6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90A56-DF51-4528-99E5-8A821169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AEAEA-77AE-4F6D-961B-0EB48921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0A02F-08E0-4F0A-9923-7F821EF3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0C77F-F150-463F-AEFE-53EA9666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B28-DBED-4707-AA93-8CB4E274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8B4-20FF-4AE2-92B8-BF57CC2F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B917-AE56-44E5-A9A4-90E7A9CA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DFA-DE53-4AC2-B468-2F607849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1270-F3F5-4809-B8C2-8DF6D353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55E2-C5BC-4609-A878-4D207C7B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8CAF-3091-41D4-A48C-55E7CCF5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4797-1464-4D6E-A106-BED4B5BA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1683-4A0E-4FB4-A440-17277B94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D78-2499-4204-A353-C6E2C604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DB33-09D2-4C95-84F2-5087DA03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6BFF-8C86-4818-A190-79F54F6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B042-04B9-49B5-84E0-E1975085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5FF5-B7F7-4441-8169-7394EFCC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6B4F-B372-4E50-B9AE-121368D2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0330-70AA-4EDA-96B0-99C4C730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E758-54C3-41D6-932E-1A39260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D189-6B99-4A62-BEA8-17EAC391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C33A-46E5-4833-8780-161CA26D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86EC-22C7-4E52-B3E2-D41EF5F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945-CD7A-408A-8342-2A670AC5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2EF64-270B-437B-9DB9-09ED828E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612D-1F96-4B91-9088-4CC273C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4478-3E58-42E4-9363-E3E1D247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10D5-C005-4D4C-BBB6-45AA0F9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2415-D448-4F5D-8A43-D5694CE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0C92-CEB6-4FE7-A115-7C31F3CD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3298-4DD7-4227-A084-AB0FA447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6BC2-D72E-4011-86D6-0C4A535B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61A5-B399-47C9-B80A-4E12A6FC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D6B9-1150-40E4-A02A-171C517A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0B4-0CEB-4AEA-9D12-EE2C6AF6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64EF-544C-418C-B5D5-E1801948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6AE50-2F17-4A38-8730-BC457858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1564-61F2-4926-A032-D1A284F1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7217-D706-4611-BBE1-816A1D5C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BD2A4-5045-40CC-9A7B-73029928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2C140-BB7B-40DB-966B-ABB37038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DA726-1A11-4875-A3F2-289072AC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446E-5065-4680-82AC-8898775C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53E7-3ADA-48D3-ABC4-0C457C06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6E968-59A7-4E4B-9971-EC77C3D6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7FA-5792-4AD4-82CE-D3B22797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AA705-00A5-40AB-9C09-5D6F8F6B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0A02F-4F48-451B-A388-FD5E57D9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F6535-7EFC-4AA4-95E2-10218E5E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E781-3C4F-4CF7-8102-56AD9BBD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D787D-6F25-4709-A113-A7D52F4E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1B1A-3F19-425F-BAA3-1E2B113B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D746A-1FB0-41B1-B43E-7EF9DA68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8912-6B95-4102-A218-4A8BE0BB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D76E3-517B-4D7D-A648-85490A6B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9FC6A-B0A2-4B2B-91BA-A4B06B6D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FA4-84E7-44B2-837B-BC60F25D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C5AFE-1F0F-4220-ADC8-ACA9DAFC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25ABE-33A5-486B-AF22-25D46128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03EF-DFA4-47D9-8DD5-85810EE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B07C3-BBF0-4440-BFD3-BB7C2DD4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8F49-F791-4AA1-BDF4-5F1DF434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A4BD3-5906-4F3B-8EBB-E7C19CF6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C34B-A05F-4AA7-AFE0-2EE81148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BF65-0556-44E7-8DE1-4AFC69F3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380F5-8A7C-4887-B0D6-7C44218E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9CD84-48B9-489E-96C3-82F69D8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FDE-FC30-42EE-A2B0-2CA96F8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C3BE3-D200-41CB-A8D9-7D73F5B8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4D977-9A5F-4283-9435-7D2E3F53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EBC8B-7BEC-429C-AE3C-16E38E4C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7ACC0-3479-46B9-B5EF-BA0FEB00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5041B-D34E-4150-951D-2CF6E32C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DF2EB-F5F4-4F50-A4F4-6E07C50B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0EC6-BD30-4006-908B-BF454CF5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5BC38-7054-4BE4-B531-1C0F14FE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26CF-04C9-456B-8C9A-5E793E86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EBDAD-E6BB-4439-8260-296E1E8F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492-AD87-43DD-8096-6224DF13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11956-E1F0-444E-A12B-6049B5A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D83E-4AE7-4246-A553-05FA13DE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168A1-3739-46B5-9157-4E2F2195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69F2B-4185-4E64-8E63-5758529A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8C182-7AFC-4D89-8603-83AD8A33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4CDD0-7A4A-49A5-8FC0-749C9C26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83109-E69A-4A69-B531-A3AB7D7D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0E1E9-F303-4CE0-AB68-56099561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28AD7-ADA4-42EA-92D4-803348FB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86A31-0CCE-46AD-836E-9A2B67D2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1DA-7447-4D6E-8DE3-80A74BA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81B7-6494-4596-A89F-E25B2A1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86850-5CEA-451F-B6A5-8824AFAD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1A0E7-C730-4988-ACC8-2330324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5115-6F3C-4427-91AF-FE7D53A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D410-E53B-4035-836C-1939BD1A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1AAA-F9E1-46EA-9EC4-CC3C09A5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3C06F-2CE7-46FB-80C5-68C98967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EDA86-328B-4042-9A34-DA04C189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6773C-095D-4011-9E8F-35D76B23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DE78A-5D58-4CA6-8BC7-2DA1AF7A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D21D-0D16-4B82-A4C4-69279C05B1E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BD6D-AC59-4652-8C07-DAFBD5A4FF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BE7D-F694-4CAB-8B85-7568A63DEE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215-3417-4562-BDD6-5BF5CA8173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EEF-4FBE-4DC5-8789-7105DE413B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FEB-1B70-40AB-BBD8-122B7BF2765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46AC-6C45-4238-A2D6-C5CA63C1E36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3EFF-5242-4C45-AF95-C32F3D977F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6864-4EF7-4784-BB42-4465CCA000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1" descr=""/>
          <p:cNvPicPr/>
          <p:nvPr/>
        </p:nvPicPr>
        <p:blipFill>
          <a:blip r:embed="rId1"/>
          <a:stretch/>
        </p:blipFill>
        <p:spPr>
          <a:xfrm>
            <a:off x="927000" y="1914480"/>
            <a:ext cx="7747200" cy="16146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5070600" y="4000680"/>
            <a:ext cx="34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БОУ гимназии №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ряшова Дарь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TextBox 3" descr=""/>
          <p:cNvPicPr/>
          <p:nvPr/>
        </p:nvPicPr>
        <p:blipFill>
          <a:blip r:embed="rId2"/>
          <a:stretch/>
        </p:blipFill>
        <p:spPr>
          <a:xfrm>
            <a:off x="3090960" y="682560"/>
            <a:ext cx="3181320" cy="4078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4" descr="38f078858962.jpg"/>
          <p:cNvPicPr/>
          <p:nvPr/>
        </p:nvPicPr>
        <p:blipFill>
          <a:blip r:embed="rId3"/>
          <a:stretch/>
        </p:blipFill>
        <p:spPr>
          <a:xfrm>
            <a:off x="706320" y="3638520"/>
            <a:ext cx="237168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3337920" y="42876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6. Complete the sent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with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a, some </a:t>
            </a: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or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1163880" y="1714680"/>
            <a:ext cx="690048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want…………..cup of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n't got……..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 don't know ..... good jok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3" descr="Misc%20Coffee%20Cup.jpg"/>
          <p:cNvPicPr/>
          <p:nvPr/>
        </p:nvPicPr>
        <p:blipFill>
          <a:blip r:embed="rId1"/>
          <a:stretch/>
        </p:blipFill>
        <p:spPr>
          <a:xfrm>
            <a:off x="5286240" y="43578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1"/>
          <p:cNvSpPr/>
          <p:nvPr/>
        </p:nvSpPr>
        <p:spPr>
          <a:xfrm>
            <a:off x="2639880" y="35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7. Choose the correct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for each sen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"/>
          <p:cNvSpPr/>
          <p:nvPr/>
        </p:nvSpPr>
        <p:spPr>
          <a:xfrm>
            <a:off x="371880" y="1214280"/>
            <a:ext cx="608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any……….. in the bow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like a ……………of ju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eed a……. and some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Рисунок 3" descr="1144367.gif"/>
          <p:cNvPicPr/>
          <p:nvPr/>
        </p:nvPicPr>
        <p:blipFill>
          <a:blip r:embed="rId1"/>
          <a:stretch/>
        </p:blipFill>
        <p:spPr>
          <a:xfrm>
            <a:off x="214200" y="3286080"/>
            <a:ext cx="2000520" cy="214632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4" descr="tamg.jpg"/>
          <p:cNvPicPr/>
          <p:nvPr/>
        </p:nvPicPr>
        <p:blipFill>
          <a:blip r:embed="rId2"/>
          <a:stretch/>
        </p:blipFill>
        <p:spPr>
          <a:xfrm>
            <a:off x="2357280" y="2928960"/>
            <a:ext cx="1911600" cy="19209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5" descr="thinkandgrowthin_co_uk.jpg"/>
          <p:cNvPicPr/>
          <p:nvPr/>
        </p:nvPicPr>
        <p:blipFill>
          <a:blip r:embed="rId3"/>
          <a:stretch/>
        </p:blipFill>
        <p:spPr>
          <a:xfrm>
            <a:off x="6572160" y="114300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6" descr="13921678.jpg"/>
          <p:cNvPicPr/>
          <p:nvPr/>
        </p:nvPicPr>
        <p:blipFill>
          <a:blip r:embed="rId4"/>
          <a:stretch/>
        </p:blipFill>
        <p:spPr>
          <a:xfrm>
            <a:off x="3143160" y="5072040"/>
            <a:ext cx="1833480" cy="137628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7" descr="paper-list-notebook.jpg"/>
          <p:cNvPicPr/>
          <p:nvPr/>
        </p:nvPicPr>
        <p:blipFill>
          <a:blip r:embed="rId5"/>
          <a:stretch/>
        </p:blipFill>
        <p:spPr>
          <a:xfrm>
            <a:off x="4786200" y="278604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8" descr="0b268ece34443999987d262fa5350ffa.jpg"/>
          <p:cNvPicPr/>
          <p:nvPr/>
        </p:nvPicPr>
        <p:blipFill>
          <a:blip r:embed="rId6"/>
          <a:stretch/>
        </p:blipFill>
        <p:spPr>
          <a:xfrm>
            <a:off x="5643720" y="4786200"/>
            <a:ext cx="247644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2722320" y="500040"/>
            <a:ext cx="25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8. Fill in the ga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with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is, are, a </a:t>
            </a: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or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"/>
          <p:cNvSpPr/>
          <p:nvPr/>
        </p:nvSpPr>
        <p:spPr>
          <a:xfrm>
            <a:off x="1028880" y="1571760"/>
            <a:ext cx="587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…..the mil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s…….my favourite fr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……….some drink in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Рисунок 3" descr="35056672_01_31.jpg"/>
          <p:cNvPicPr/>
          <p:nvPr/>
        </p:nvPicPr>
        <p:blipFill>
          <a:blip r:embed="rId1"/>
          <a:stretch/>
        </p:blipFill>
        <p:spPr>
          <a:xfrm>
            <a:off x="1928880" y="3786120"/>
            <a:ext cx="13921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1"/>
          <p:cNvSpPr/>
          <p:nvPr/>
        </p:nvSpPr>
        <p:spPr>
          <a:xfrm>
            <a:off x="2650680" y="642960"/>
            <a:ext cx="259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9. Fill in the ga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with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is, are, a </a:t>
            </a: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or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1173600" y="1928880"/>
            <a:ext cx="606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re any cheese in the f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like………..ju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………not any apples in my 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Рисунок 3" descr="cheese.jpg"/>
          <p:cNvPicPr/>
          <p:nvPr/>
        </p:nvPicPr>
        <p:blipFill>
          <a:blip r:embed="rId1"/>
          <a:stretch/>
        </p:blipFill>
        <p:spPr>
          <a:xfrm>
            <a:off x="5857920" y="4572000"/>
            <a:ext cx="1474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081600" y="571680"/>
            <a:ext cx="33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10. Correct the mistakes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               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Is-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"/>
          <p:cNvSpPr/>
          <p:nvPr/>
        </p:nvSpPr>
        <p:spPr>
          <a:xfrm>
            <a:off x="1161720" y="1714680"/>
            <a:ext cx="518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some sugar in your co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some books o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some cherries in the bas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Рисунок 3" descr="448668.jpg"/>
          <p:cNvPicPr/>
          <p:nvPr/>
        </p:nvPicPr>
        <p:blipFill>
          <a:blip r:embed="rId1"/>
          <a:stretch/>
        </p:blipFill>
        <p:spPr>
          <a:xfrm>
            <a:off x="2071800" y="4143240"/>
            <a:ext cx="4143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extBox 1" descr=""/>
          <p:cNvPicPr/>
          <p:nvPr/>
        </p:nvPicPr>
        <p:blipFill>
          <a:blip r:embed="rId1"/>
          <a:stretch/>
        </p:blipFill>
        <p:spPr>
          <a:xfrm>
            <a:off x="1085760" y="536400"/>
            <a:ext cx="7259760" cy="9637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3"/>
          <p:cNvSpPr/>
          <p:nvPr/>
        </p:nvSpPr>
        <p:spPr>
          <a:xfrm>
            <a:off x="1015920" y="1785960"/>
            <a:ext cx="516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n’t some cheese in the bas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got some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 fruit in the bow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Рисунок 4" descr="9611dda8a438fd606e0a0d647c65fcd8.jpg"/>
          <p:cNvPicPr/>
          <p:nvPr/>
        </p:nvPicPr>
        <p:blipFill>
          <a:blip r:embed="rId2"/>
          <a:stretch/>
        </p:blipFill>
        <p:spPr>
          <a:xfrm>
            <a:off x="3714840" y="4214880"/>
            <a:ext cx="32860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2921040" y="21420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12. </a:t>
            </a:r>
            <a:r>
              <a:rPr b="0" lang="en-US" sz="1400" spc="-1" strike="noStrike">
                <a:solidFill>
                  <a:srgbClr val="000000"/>
                </a:solidFill>
                <a:latin typeface="Goudy Stout"/>
              </a:rPr>
              <a:t>Rewrite the sentences chan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oudy Stout"/>
              </a:rPr>
              <a:t>them from </a:t>
            </a:r>
            <a:r>
              <a:rPr b="0" lang="en-US" sz="1400" spc="-1" strike="noStrike">
                <a:solidFill>
                  <a:srgbClr val="ff0000"/>
                </a:solidFill>
                <a:latin typeface="Goudy Stout"/>
              </a:rPr>
              <a:t>singular to plural </a:t>
            </a:r>
            <a:r>
              <a:rPr b="0" lang="en-US" sz="1400" spc="-1" strike="noStrike">
                <a:solidFill>
                  <a:srgbClr val="000000"/>
                </a:solidFill>
                <a:latin typeface="Goudy Stout"/>
              </a:rPr>
              <a:t>or vice ver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"/>
          <p:cNvSpPr/>
          <p:nvPr/>
        </p:nvSpPr>
        <p:spPr>
          <a:xfrm>
            <a:off x="667800" y="1357200"/>
            <a:ext cx="576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plant in the ga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n’t any pencils on the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 book on the de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1214280" y="714240"/>
          <a:ext cx="6715440" cy="5459400"/>
        </p:xfrm>
        <a:graphic>
          <a:graphicData uri="http://schemas.openxmlformats.org/drawingml/2006/table">
            <a:tbl>
              <a:tblPr/>
              <a:tblGrid>
                <a:gridCol w="730440"/>
                <a:gridCol w="2023920"/>
                <a:gridCol w="1889280"/>
                <a:gridCol w="207180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en/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-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-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-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-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me-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-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re are some plant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re isn’t a pencil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there any books...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1214280" y="785880"/>
          <a:ext cx="6715440" cy="5214960"/>
        </p:xfrm>
        <a:graphic>
          <a:graphicData uri="http://schemas.openxmlformats.org/drawingml/2006/table">
            <a:tbl>
              <a:tblPr/>
              <a:tblGrid>
                <a:gridCol w="730440"/>
                <a:gridCol w="2023920"/>
                <a:gridCol w="1889280"/>
                <a:gridCol w="207180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04" name="TextBox 5"/>
          <p:cNvSpPr/>
          <p:nvPr/>
        </p:nvSpPr>
        <p:spPr>
          <a:xfrm>
            <a:off x="2599200" y="214200"/>
            <a:ext cx="377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Stout"/>
              </a:rPr>
              <a:t>Make the table in your exercise 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2471040" y="50004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Write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SOME/A/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2" descr="1.jpg"/>
          <p:cNvPicPr/>
          <p:nvPr/>
        </p:nvPicPr>
        <p:blipFill>
          <a:blip r:embed="rId1"/>
          <a:stretch/>
        </p:blipFill>
        <p:spPr>
          <a:xfrm>
            <a:off x="857160" y="114300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BreadWhite.jpg"/>
          <p:cNvPicPr/>
          <p:nvPr/>
        </p:nvPicPr>
        <p:blipFill>
          <a:blip r:embed="rId2"/>
          <a:stretch/>
        </p:blipFill>
        <p:spPr>
          <a:xfrm>
            <a:off x="5643720" y="928800"/>
            <a:ext cx="2857320" cy="31129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item_3759.jpg"/>
          <p:cNvPicPr/>
          <p:nvPr/>
        </p:nvPicPr>
        <p:blipFill>
          <a:blip r:embed="rId3"/>
          <a:stretch/>
        </p:blipFill>
        <p:spPr>
          <a:xfrm>
            <a:off x="3071880" y="3429000"/>
            <a:ext cx="2614680" cy="2847960"/>
          </a:xfrm>
          <a:prstGeom prst="rect">
            <a:avLst/>
          </a:prstGeom>
          <a:ln w="0">
            <a:noFill/>
          </a:ln>
        </p:spPr>
      </p:pic>
      <p:sp>
        <p:nvSpPr>
          <p:cNvPr id="409" name="Овал 5"/>
          <p:cNvSpPr/>
          <p:nvPr/>
        </p:nvSpPr>
        <p:spPr>
          <a:xfrm>
            <a:off x="428760" y="12859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6"/>
          <p:cNvSpPr/>
          <p:nvPr/>
        </p:nvSpPr>
        <p:spPr>
          <a:xfrm>
            <a:off x="5072040" y="1357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7"/>
          <p:cNvSpPr/>
          <p:nvPr/>
        </p:nvSpPr>
        <p:spPr>
          <a:xfrm>
            <a:off x="5214960" y="4572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1214280" y="785880"/>
          <a:ext cx="6715440" cy="5214960"/>
        </p:xfrm>
        <a:graphic>
          <a:graphicData uri="http://schemas.openxmlformats.org/drawingml/2006/table">
            <a:tbl>
              <a:tblPr/>
              <a:tblGrid>
                <a:gridCol w="730440"/>
                <a:gridCol w="2023920"/>
                <a:gridCol w="1889280"/>
                <a:gridCol w="207180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13" name="TextBox 2"/>
          <p:cNvSpPr/>
          <p:nvPr/>
        </p:nvSpPr>
        <p:spPr>
          <a:xfrm>
            <a:off x="2707200" y="285840"/>
            <a:ext cx="348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Stout"/>
              </a:rPr>
              <a:t>fill the table in your exercise 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2789640" y="1285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4646880" y="1285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"/>
          <p:cNvSpPr/>
          <p:nvPr/>
        </p:nvSpPr>
        <p:spPr>
          <a:xfrm>
            <a:off x="6716880" y="1285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3688560" y="42876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1. Write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SOME/A/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Рисунок 5" descr="16058.jpg"/>
          <p:cNvPicPr/>
          <p:nvPr/>
        </p:nvPicPr>
        <p:blipFill>
          <a:blip r:embed="rId2"/>
          <a:stretch/>
        </p:blipFill>
        <p:spPr>
          <a:xfrm>
            <a:off x="1000080" y="1428840"/>
            <a:ext cx="2898720" cy="217332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6" descr="4767294378c4dd39e684ab559e7b2dc0.jpg"/>
          <p:cNvPicPr/>
          <p:nvPr/>
        </p:nvPicPr>
        <p:blipFill>
          <a:blip r:embed="rId3"/>
          <a:stretch/>
        </p:blipFill>
        <p:spPr>
          <a:xfrm>
            <a:off x="5500800" y="121428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7" descr="448668.jpg"/>
          <p:cNvPicPr/>
          <p:nvPr/>
        </p:nvPicPr>
        <p:blipFill>
          <a:blip r:embed="rId4"/>
          <a:stretch/>
        </p:blipFill>
        <p:spPr>
          <a:xfrm>
            <a:off x="2357280" y="4143240"/>
            <a:ext cx="3000600" cy="2251080"/>
          </a:xfrm>
          <a:prstGeom prst="rect">
            <a:avLst/>
          </a:prstGeom>
          <a:ln w="0">
            <a:noFill/>
          </a:ln>
        </p:spPr>
      </p:pic>
      <p:sp>
        <p:nvSpPr>
          <p:cNvPr id="421" name="Овал 8"/>
          <p:cNvSpPr/>
          <p:nvPr/>
        </p:nvSpPr>
        <p:spPr>
          <a:xfrm>
            <a:off x="714240" y="1143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9"/>
          <p:cNvSpPr/>
          <p:nvPr/>
        </p:nvSpPr>
        <p:spPr>
          <a:xfrm>
            <a:off x="5072040" y="1357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10"/>
          <p:cNvSpPr/>
          <p:nvPr/>
        </p:nvSpPr>
        <p:spPr>
          <a:xfrm>
            <a:off x="178596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2" descr="0b268ece34443999987d262fa5350ffa.jpg"/>
          <p:cNvPicPr/>
          <p:nvPr/>
        </p:nvPicPr>
        <p:blipFill>
          <a:blip r:embed="rId1"/>
          <a:stretch/>
        </p:blipFill>
        <p:spPr>
          <a:xfrm>
            <a:off x="571680" y="714240"/>
            <a:ext cx="3695400" cy="250056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3" descr="02_ybloko_02.jpg"/>
          <p:cNvPicPr/>
          <p:nvPr/>
        </p:nvPicPr>
        <p:blipFill>
          <a:blip r:embed="rId2"/>
          <a:stretch/>
        </p:blipFill>
        <p:spPr>
          <a:xfrm>
            <a:off x="2000160" y="364320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4" descr="thinkandgrowthin_co_uk.jpg"/>
          <p:cNvPicPr/>
          <p:nvPr/>
        </p:nvPicPr>
        <p:blipFill>
          <a:blip r:embed="rId3"/>
          <a:stretch/>
        </p:blipFill>
        <p:spPr>
          <a:xfrm>
            <a:off x="5000760" y="78588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5"/>
          <p:cNvSpPr/>
          <p:nvPr/>
        </p:nvSpPr>
        <p:spPr>
          <a:xfrm>
            <a:off x="3474000" y="14292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2. Write SOME/A/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6"/>
          <p:cNvSpPr/>
          <p:nvPr/>
        </p:nvSpPr>
        <p:spPr>
          <a:xfrm>
            <a:off x="500040" y="928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7"/>
          <p:cNvSpPr/>
          <p:nvPr/>
        </p:nvSpPr>
        <p:spPr>
          <a:xfrm>
            <a:off x="5000760" y="8571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8"/>
          <p:cNvSpPr/>
          <p:nvPr/>
        </p:nvSpPr>
        <p:spPr>
          <a:xfrm>
            <a:off x="1643040" y="3643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2922120" y="285840"/>
            <a:ext cx="33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3. write which noun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countable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uncoun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2"/>
          <p:cNvSpPr/>
          <p:nvPr/>
        </p:nvSpPr>
        <p:spPr>
          <a:xfrm>
            <a:off x="785880" y="1785960"/>
            <a:ext cx="3143160" cy="14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3"/>
          <p:cNvSpPr/>
          <p:nvPr/>
        </p:nvSpPr>
        <p:spPr>
          <a:xfrm>
            <a:off x="4929120" y="1857240"/>
            <a:ext cx="307188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4"/>
          <p:cNvSpPr/>
          <p:nvPr/>
        </p:nvSpPr>
        <p:spPr>
          <a:xfrm>
            <a:off x="2500200" y="4143240"/>
            <a:ext cx="350064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Овал 5"/>
          <p:cNvGrpSpPr/>
          <p:nvPr/>
        </p:nvGrpSpPr>
        <p:grpSpPr>
          <a:xfrm>
            <a:off x="347760" y="1450800"/>
            <a:ext cx="1212840" cy="1109880"/>
            <a:chOff x="347760" y="1450800"/>
            <a:chExt cx="1212840" cy="1109880"/>
          </a:xfrm>
        </p:grpSpPr>
        <p:pic>
          <p:nvPicPr>
            <p:cNvPr id="436" name="Овал 5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12128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633240" y="163368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ranklin Gothic Book"/>
                </a:rPr>
                <a:t>1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Овал 6"/>
          <p:cNvGrpSpPr/>
          <p:nvPr/>
        </p:nvGrpSpPr>
        <p:grpSpPr>
          <a:xfrm>
            <a:off x="4486320" y="1523880"/>
            <a:ext cx="1219320" cy="1109880"/>
            <a:chOff x="4486320" y="1523880"/>
            <a:chExt cx="1219320" cy="1109880"/>
          </a:xfrm>
        </p:grpSpPr>
        <p:pic>
          <p:nvPicPr>
            <p:cNvPr id="439" name="Овал 6" descr=""/>
            <p:cNvPicPr/>
            <p:nvPr/>
          </p:nvPicPr>
          <p:blipFill>
            <a:blip r:embed="rId2"/>
            <a:stretch/>
          </p:blipFill>
          <p:spPr>
            <a:xfrm>
              <a:off x="4486320" y="1523880"/>
              <a:ext cx="12193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4776840" y="170496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ranklin Gothic Book"/>
                </a:rPr>
                <a:t>2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Овал 7"/>
          <p:cNvGrpSpPr/>
          <p:nvPr/>
        </p:nvGrpSpPr>
        <p:grpSpPr>
          <a:xfrm>
            <a:off x="2060640" y="3809880"/>
            <a:ext cx="1218960" cy="1109880"/>
            <a:chOff x="2060640" y="3809880"/>
            <a:chExt cx="1218960" cy="1109880"/>
          </a:xfrm>
        </p:grpSpPr>
        <p:pic>
          <p:nvPicPr>
            <p:cNvPr id="442" name="Овал 7" descr=""/>
            <p:cNvPicPr/>
            <p:nvPr/>
          </p:nvPicPr>
          <p:blipFill>
            <a:blip r:embed="rId3"/>
            <a:stretch/>
          </p:blipFill>
          <p:spPr>
            <a:xfrm>
              <a:off x="2060640" y="3809880"/>
              <a:ext cx="12189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347920" y="399096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ranklin Gothic Book"/>
                </a:rPr>
                <a:t>3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3052080" y="28584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4. Complete the sent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with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a, some </a:t>
            </a: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or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 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"/>
          <p:cNvSpPr/>
          <p:nvPr/>
        </p:nvSpPr>
        <p:spPr>
          <a:xfrm>
            <a:off x="1035720" y="1500120"/>
            <a:ext cx="714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…………bottle of water in the f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…………bread on th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n’t……….milk in the bo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3052080" y="42876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5. Complete the sent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with 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a, some </a:t>
            </a: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or</a:t>
            </a:r>
            <a:r>
              <a:rPr b="0" lang="en-US" sz="1800" spc="-1" strike="noStrike">
                <a:solidFill>
                  <a:srgbClr val="ff0000"/>
                </a:solidFill>
                <a:latin typeface="Goudy Stout"/>
              </a:rPr>
              <a:t> 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"/>
          <p:cNvSpPr/>
          <p:nvPr/>
        </p:nvSpPr>
        <p:spPr>
          <a:xfrm>
            <a:off x="1245240" y="1500120"/>
            <a:ext cx="5735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………eggs in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 have………….cheese, pl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got……..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Рисунок 3" descr="hoodie-red-cat.jpg"/>
          <p:cNvPicPr/>
          <p:nvPr/>
        </p:nvPicPr>
        <p:blipFill>
          <a:blip r:embed="rId1"/>
          <a:stretch/>
        </p:blipFill>
        <p:spPr>
          <a:xfrm>
            <a:off x="5500800" y="3500280"/>
            <a:ext cx="19526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12:07Z</dcterms:created>
  <dc:creator>Admin</dc:creator>
  <dc:description/>
  <dc:language>en-US</dc:language>
  <cp:lastModifiedBy>Admin</cp:lastModifiedBy>
  <dcterms:modified xsi:type="dcterms:W3CDTF">2012-03-12T19:06:58Z</dcterms:modified>
  <cp:revision>18</cp:revision>
  <dc:subject/>
  <dc:title>Слайд 1</dc:title>
</cp:coreProperties>
</file>