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817-636E-40D8-81A2-4A55E207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556-B9F5-49E2-8B97-157A97BA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CB4-0BBB-484D-81D9-78220C82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E3C-83EB-4B6C-AF7C-B42BD42E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EE7E-7272-408B-9B53-4D0045A1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3419-65A3-4DF9-9640-B2D7751D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B90B-527A-4FDF-A9B8-1B8DAA55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A0DA-0887-4C11-88C7-142DEE72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D945-1E51-4089-9331-03839DEE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E96F-D5A5-47B6-8A69-93B2AE52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9802-614B-42F7-A0F2-4038E25C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2C8-732E-44EC-87DF-31C7DC61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B74A-66B9-4CA6-8751-EB20BF60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EA62-BE8E-42E8-8C2C-EFEC63BC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C745-447D-46C7-BC30-147A37EB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0D29-2A03-44DC-BACB-2BB6213C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60A8-E1EB-4037-B069-7AB33BBC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A77-F88A-4C30-B716-0911BB53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C04-FBDD-4143-9506-CCED7DBA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190-6CA0-492C-B5B1-E9DA9F47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63F-9FA0-4199-9C4C-23483C8F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D9C-6594-4F45-B509-EF27D43F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6EE-C8AF-4265-BE53-0B6E9AA1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134-B69B-4262-8715-2A887D6F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4FBF-329C-4004-9629-DF31DE7832A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3C32-1C17-4256-B64B-277552317FC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6193080" cy="4033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476360" y="2205000"/>
            <a:ext cx="619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Областной конкурс социальных проектов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для обучающихся образовательных учреждений Омской области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«Моя жизненная позиция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41200" y="3284640"/>
            <a:ext cx="33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Berlin Sans FB Demi"/>
              </a:rPr>
              <a:t>Социальный проек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3789360"/>
            <a:ext cx="640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99"/>
                </a:solidFill>
                <a:latin typeface="Monotype Corsiva"/>
              </a:rPr>
              <a:t>Кукольный театр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16120" y="60930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Monotype Corsiva"/>
              </a:rPr>
              <a:t>2011  год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39600" y="4580280"/>
            <a:ext cx="30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Авторы: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 «Театралы» 4 «б» класс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4110120"/>
            <a:ext cx="374508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       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Руководитель: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Фисько Юлия Алексеевна,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читель начальных классов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МКОУ «Кормиловский лицей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440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Verdana"/>
              </a:rPr>
              <a:t>Этапы работы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836640"/>
            <a:ext cx="8503920" cy="63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 этап 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ыбор проблемы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ыявление отношения к проблеме (анкетирование)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пределение цели и задач проекта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Составление плана действий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Verdana"/>
              </a:rPr>
              <a:t>II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 этап 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пределение места проведения репетиций и спектакля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ыбор репертуара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Работа в группах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Verdana"/>
              </a:rPr>
              <a:t>III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 этап 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Гастроли: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Родительские собрания 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Школа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433400" y="328680"/>
            <a:ext cx="510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Monotype Corsiva"/>
              </a:rPr>
              <a:t>Репетиция полным ходом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527280" cy="2087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635280" y="2852640"/>
            <a:ext cx="5112000" cy="3240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36003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Verdana"/>
              </a:rPr>
              <a:t>Наши гастроли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456000" cy="360036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49680" y="3411360"/>
            <a:ext cx="4594320" cy="344664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249800" cy="3068640"/>
          </a:xfrm>
          <a:prstGeom prst="rect">
            <a:avLst/>
          </a:prstGeom>
          <a:ln w="28440">
            <a:solidFill>
              <a:srgbClr val="006699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-181080" y="333360"/>
            <a:ext cx="954252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Verdana"/>
              </a:rPr>
              <a:t>Выводы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Постановка спектаклей – очень трудоёмкое дел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Для того, чтобы создать спектакль на 10 минут, нужно готовиться целый месяц, а то и больш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Театр – это очень интересно и увлекательно, и это нужно не только нам, но и нашим зрителя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Verdana"/>
              </a:rPr>
              <a:t>Планы на будущее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Гастрол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Детские сады райо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Постановка новых спектак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58920" y="1557360"/>
            <a:ext cx="6697800" cy="25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внимание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35280" y="126828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Verdana"/>
              </a:rPr>
              <a:t>Учащиеся 4 класс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1880" y="404640"/>
            <a:ext cx="33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Verdana"/>
              </a:rPr>
              <a:t>Авторы проекта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5661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Руководитель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Фисько Ю.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32000" y="3357720"/>
            <a:ext cx="1577880" cy="2803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932360" y="1125360"/>
            <a:ext cx="3686040" cy="453708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Verdana"/>
              </a:rPr>
              <a:t>Авторы проекта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2484360" y="51577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443700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28560" y="119700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Verdana"/>
              </a:rPr>
              <a:t>Учащиеся 4 класс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032360" cy="3025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4151520" cy="311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581800" y="404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85880" y="475200"/>
            <a:ext cx="43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одготовка полным ходом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075200" cy="3056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4032360" cy="2998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32000" y="476280"/>
            <a:ext cx="684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Проблемные вопросы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Что такое куклы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2. Что мы знаем о кукольном театре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Основополагающий вопрос: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Нужен ли нам кукольный театр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003480" y="83664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69800" y="333360"/>
            <a:ext cx="30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Что такое куклы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2" name="Диаграмма 1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4608360" cy="3311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00720" y="2133720"/>
            <a:ext cx="4321080" cy="2881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76000" y="26028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Что мы знаем о кукольном театре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5" name="Диаграмма 5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968720" cy="3024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995640" y="2924280"/>
            <a:ext cx="4940280" cy="3705120"/>
          </a:xfrm>
          <a:prstGeom prst="rect">
            <a:avLst/>
          </a:prstGeom>
          <a:ln w="1908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95880" y="18900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Нужен ли нам кукольный театр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8" name="Диаграмма 4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824360" cy="2953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427640" y="3357720"/>
            <a:ext cx="4146480" cy="29448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Verdana"/>
              </a:rPr>
              <a:t>Визитная карта проекта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372240" y="2133720"/>
            <a:ext cx="795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Verdana"/>
              </a:rPr>
              <a:t>Цель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Сделать жизнь интересне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Verdana"/>
              </a:rPr>
              <a:t>Задачи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Развивать интерес к театру кукол.</a:t>
            </a:r>
            <a:br>
              <a:rPr sz="1800"/>
            </a:b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2. Узнать об истории кукольного театра и рассказать об этом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другим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3. Поставить спектакль для ребят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Verdana"/>
              </a:rPr>
              <a:t>Гипотеза: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 если проведём эту работу, наша жизнь станет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интересней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2:57:06Z</dcterms:created>
  <dc:creator>Светлана Юрьевна</dc:creator>
  <dc:description/>
  <dc:language>en-US</dc:language>
  <cp:lastModifiedBy>юля</cp:lastModifiedBy>
  <dcterms:modified xsi:type="dcterms:W3CDTF">2012-03-12T09:45:00Z</dcterms:modified>
  <cp:revision>56</cp:revision>
  <dc:subject/>
  <dc:title>Слайд 1</dc:title>
</cp:coreProperties>
</file>