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media/image10.gif" ContentType="image/gif"/>
  <Override PartName="/ppt/media/image6.jpeg" ContentType="image/jpeg"/>
  <Override PartName="/ppt/media/image13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ACD-AB90-4D4B-B145-EEF8DEA8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FB3-A2AE-476A-8A7C-67749FF9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724-BEBF-499B-8A33-436122D5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230-0E61-4387-B61E-D75DBF25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50BAD-361F-4D1B-9869-D1898574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9A559-D03A-484C-81BA-3E69025B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FBF9D-962A-4081-88CF-F2BA9077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D1DFB-8F38-424A-AD7B-BBF2E4B3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17B78-3DDD-42C2-84F7-EA8E7456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C06E3-7E2B-43AA-BC68-A410F18A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702FD-878E-4B10-A80C-654425C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E0F-6195-4C1A-936E-CA241E92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853C5-39E0-45AA-98C7-AB37D021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36F97-7FC8-4A79-B112-1532C297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93B39-93F9-4ACC-881D-E263196C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E0C16-11B6-43A8-883E-F353AE3E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77677-1000-45FD-BCBA-BCAB7C8E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473-7566-4355-96CE-31D20FC9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F4B-E953-465F-847E-22153A05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E75-8291-4DE9-B09A-2F540036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2A1-395C-4FB8-BD4C-E6532E32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60C-B02C-4E82-B271-2C835B0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135-0E31-4A27-ABA8-DD17218A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4D5-EA6E-4586-AA31-5FFBD0A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4D23-9032-4EB1-92EE-6183337B21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EF64-6787-4DC4-94DC-7DCC7A8F43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Математический КВН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по теме: </a:t>
            </a: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«Логарифмические и показательные уравнения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-0.05042 C 0.02708 -0.08142 0.0585 -0.12584 0.09583 -0.12584 C 0.15087 -0.12584 0.19583 -0.07957 0.19583 -0.02105 C 0.19583 -0.00208 0.19132 0.01504 0.18229 0.03077 C 0.18385 0.03077 0.00937 0.26302 0.00937 0.26487 C 0.00937 0.26302 -0.16528 0.03077 -0.16372 0.03077 C -0.17275 0.01504 -0.17709 -0.00208 -0.17709 -0.02105 C -0.17709 -0.07957 -0.13229 -0.12584 -0.0757 -0.12584 C -0.03993 -0.12584 -0.00851 -0.08142 0.00937 -0.05042 Z">
                                      <p:cBhvr>
                                        <p:cTn id="14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БЛИЦ - ТУРНИ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йдите ошибку в решении урав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значим                , тогда                   . Подставим в данное уравнение и получи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откуда                . Получим            или           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аем совокупность уравнен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                , откуда          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                , откуда          или        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ывая, чт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, получаем 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537080" cy="739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340000" y="2276640"/>
                <a:ext cx="1440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64000" y="2205000"/>
                <a:ext cx="172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92360" y="2997360"/>
                <a:ext cx="244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92360" y="3357720"/>
                <a:ext cx="1512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148360" y="3716280"/>
                <a:ext cx="1008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020000" y="3716280"/>
                <a:ext cx="10792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42920" y="4797360"/>
                <a:ext cx="1440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211640" y="4724280"/>
                <a:ext cx="9349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5300640"/>
                <a:ext cx="1511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211640" y="5300640"/>
                <a:ext cx="865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940360" y="5300640"/>
                <a:ext cx="7192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885080" y="5661000"/>
                <a:ext cx="865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авильные ответы конкурса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БЛИЦ – ТУРНИР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и нахождении корней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квадратного уравнения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аем положительные корни  у=1, у=2, т.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132000" y="3213000"/>
                <a:ext cx="3527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843280" y="5229360"/>
                <a:ext cx="324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 rot="20249400">
            <a:off x="179280" y="1699920"/>
            <a:ext cx="86425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ЕЕ ЗАДАНИ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Правила конкурса: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чале игры КВН были собраны ваши тетради с домашним задани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ку проводили помощники капитанов и консультан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проверки заданий они объявят о количестве баллов каждой команде и отметят допущенные ошиб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неправильно решенный пример -1 балл, за правильное решение +1 бал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ДОМАШНЕЕ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ЗАДАН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1:                 Задание №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95280" y="2276640"/>
                <a:ext cx="3313080" cy="15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979640" y="5013360"/>
                <a:ext cx="5545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319640" y="2205000"/>
                <a:ext cx="4824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,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Решение примеров из  ДОМАШНЕГО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8000" y="2492280"/>
                <a:ext cx="51850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0920" y="5084640"/>
                <a:ext cx="4035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,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43280" y="4653000"/>
                <a:ext cx="41403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,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              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24000" y="549360"/>
                <a:ext cx="5327640" cy="496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,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,5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,5</m:t>
                        </m:r>
                        <m:r>
                          <m:t xml:space="preserve">=</m:t>
                        </m:r>
                        <m:r>
                          <m:t xml:space="preserve">4,5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или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356000" y="5877000"/>
                <a:ext cx="12956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08000" y="1125360"/>
                <a:ext cx="561672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куда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или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619280" y="528840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=0 – посторонний ко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9140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твет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х =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 rot="19845600">
            <a:off x="1080" y="2001960"/>
            <a:ext cx="9101160" cy="27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 КАПИТАНОВ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2031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Правила конкурса КАПИТАН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питаны команд получают карточки с задания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шение которых они должны поясн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каждое правильное решение +1балл, за неправильное решение -1бал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пока капитаны справляются со своим заданием, мы потренируемся в решении математических задач – шуто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325080"/>
            <a:ext cx="79912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Этапы проведения КВ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ми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лиц – турни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урс капит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урс консульта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ческий футбо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урс худож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Красная карточк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– оценка «5» в конце урока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КОНКУРС КАПИТАНО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08000" y="2060640"/>
                <a:ext cx="540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68360" y="3573360"/>
                <a:ext cx="45356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411280" y="5373720"/>
                <a:ext cx="4465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 rot="19830600">
            <a:off x="179280" y="1844640"/>
            <a:ext cx="86569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И В СТИХАХ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308720" y="5300640"/>
            <a:ext cx="12463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-116640"/>
            <a:ext cx="87854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713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ча 1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Если мы его с самим собою сложим, будет восемь в сумме той всегда. Если на себя помножим, результат удвоится тогда. Какое, дети, мне число на ум нечаянно пришло?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ча 2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 сегодня рано встал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укол всех своих считал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и матрешки – на окошк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ве Маринки – на перинк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упсик с Катей, Бурати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Петрушка в колпачке –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зеленом сундучке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 считала, я трудилась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потом со счету сбилась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огите мне оп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укол всех пересчита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ча 3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садила бабка в печ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рожки с капустой печ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ля Наташи, Маши, Та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ли, Оли, Гали, Ва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рожки уже готов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 еще один пиро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т под лавку уволо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 в печи четыре шту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роги считают вну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можешь, помог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считать им пиро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ча 4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детсаду есть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аровоз, шесть автомобил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рный пес – блестящий нос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лый кот Василий, восемь кукол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одной кукле деревян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Петрушка заводн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ыжий и румя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то внимательно послуша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колько в детсаду игруше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ча 5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тропинке вдоль кус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ло одиннадцать хво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считать я также смог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 шагало тридцать н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то вместе шли куда-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дюки и жеребя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 теперь вопрос так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колько было индю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росим также у ребя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колько было жеребя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авильные ответы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ОНКУРСА КАПИТАН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 =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0;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780000" y="5300640"/>
                <a:ext cx="14763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 rot="19716000">
            <a:off x="52560" y="1904760"/>
            <a:ext cx="8786520" cy="29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КОНСУЛЬТАНТОВ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5796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АВИЛА КОНКУРСА КОНСУЛЬТАН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оим консультантам вручаются карточки с задание «решить уравнени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ультант выполняет задание, после решения объясняя свои действия всей групп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для остальных предоставляется еще одна возможность заработать дополнительные баллы для своей команды в конкурсе НЕЗНАЙ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 rot="19907400">
            <a:off x="190440" y="1777680"/>
            <a:ext cx="892980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МИНК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00720" y="4873680"/>
            <a:ext cx="2303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ОНКУРС КОНСУЛЬТАН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771640" y="1844640"/>
                <a:ext cx="360072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268360" y="4076640"/>
                <a:ext cx="4535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700360" y="5589720"/>
                <a:ext cx="3311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 rot="19879800">
            <a:off x="-14040" y="1792080"/>
            <a:ext cx="914400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"НЕЗНАЙКА"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530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место знака вопроса поставьте нужное числовое или буквенное знач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24000" y="2708280"/>
                <a:ext cx="40431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?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556000" y="3789360"/>
                <a:ext cx="374328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</m:num>
                      <m:den>
                        <m:r>
                          <m:t xml:space="preserve">?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572000" y="5661000"/>
                <a:ext cx="381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?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авильные ответы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ОНКУРСА КОНСУЛЬТАН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твет: х 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твет: х =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№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твет: х =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093080" y="5229360"/>
            <a:ext cx="1728720" cy="1284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 rot="19728600">
            <a:off x="12240" y="1819080"/>
            <a:ext cx="88614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ЧЕСКИЙ ФУТБОЛ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11080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856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АВИЛА КОНКУРСА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АТЕМАТИЧЕСКИЙ ФУТБО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7854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ая команда должна придумать задание для участника другой команды, он в ответ должен «отфутболить» им это задание. Если ученик не справляется с заданием, то команда выручает своего незадачливого товарища отвечая за не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ая команда должна задать по два вопроса другой, и ответить на 4 з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 rot="19765200">
            <a:off x="203040" y="1719360"/>
            <a:ext cx="89265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ХУДОЖНИКОВ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740720" y="4581360"/>
            <a:ext cx="10857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АВИЛА КОНКУРСА ХУДОЖНИ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ждая команда выделяет по одному участнику, которые строят из геометрических фигур указанные фигурки. У вас должны получитьс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87280" y="4365720"/>
            <a:ext cx="7201080" cy="23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МАТЕМАТИЧЕСКИЙ КВН</a:t>
            </a:r>
            <a:br>
              <a:rPr sz="48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358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 теме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«Логарифмические и показательные уравнени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СПАСИБО ЗА УЧАСТИ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ОЗДРАВЛЯЕМ ПОБЕДИТЕЛЕЙ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ЖЕЛАЕМ УСПЕХОВ В УЧЕБ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135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Правила конкурса: РАЗМИН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 экране будут спроецированные задания, которые выполняет каждый участник команды на отдельном листочке подписав название своей коман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оверку будут проводить консультанты из команды сопер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личество правильных работ – это заработанные баллы, работы с ошибками – это вычтенные бал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рое учащихся, первыми верно выполнившие преобразования, получают по красной карточ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720" y="302760"/>
            <a:ext cx="770400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РАЗМИ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ние № 1. Решите уравне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19640" y="1916280"/>
                <a:ext cx="180000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771640" y="3645000"/>
                <a:ext cx="3456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43280" y="5013360"/>
                <a:ext cx="34560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РАЗМИ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ние № 2. Вычислит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700360" y="2492280"/>
                <a:ext cx="10080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867280" y="1989000"/>
                <a:ext cx="912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348000" y="5516640"/>
                <a:ext cx="2521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64000" y="3933720"/>
                <a:ext cx="3456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95280" y="3933720"/>
                <a:ext cx="3600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авильные ответы конкурса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РАЗМИН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№1: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) -4;     б) 2;     в) -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№ 2: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) 9;    б) 2;    в) -3;    г) х = 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 rot="19980600">
            <a:off x="204480" y="1763640"/>
            <a:ext cx="8974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ИЦ - ТУРНИР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5400000">
            <a:off x="6478920" y="4471200"/>
            <a:ext cx="23511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629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Правила конкурса: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БЛИЦ - ТУРНИР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оводится во время проверки работ предыдущего конкур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На экране проецируется задание, требующее найти ошибку в решении уравн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Участие только по желанию – заработать дополнительные баллы для своей коман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оманде, от которой поступило первое указание на ошибку присуждается 5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09-04-18T12:00:14Z</dcterms:modified>
  <cp:revision>3</cp:revision>
  <dc:subject/>
  <dc:title>PowerPoint Presentation</dc:title>
</cp:coreProperties>
</file>