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5.gif" ContentType="image/gif"/>
  <Override PartName="/ppt/media/image14.gif" ContentType="image/gif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gif" ContentType="image/gif"/>
  <Override PartName="/ppt/media/image8.gif" ContentType="image/gif"/>
  <Override PartName="/ppt/media/image9.wmf" ContentType="image/x-wmf"/>
  <Override PartName="/ppt/media/image11.gif" ContentType="image/gi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3D9-A006-477D-8952-FD8E72DD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42D2-3758-451E-B66C-F7A6CD5D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F0E-AB52-4190-9047-C3A5C926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EA5-439B-4DA1-ABF6-F15CE718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C88D-D9A3-4EB2-A640-1EF910F2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EDAB-2623-4E0A-ADE8-21C12916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ECC0-AB9E-434A-AE52-A306018F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E99A-BBD8-412D-8CCE-AA99E7C0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8095-7595-4B1A-A95F-A2DC0D5B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AE03-7F60-4D36-8131-4F358876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A5CB-3EB6-4A99-A8D6-0965FCE7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951-B258-4890-932E-AA46D2A6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D7D3-6875-48B3-91ED-4F342258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1FEB-17BB-4A8E-B4A0-7C5DD6E2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7462-A95F-45F6-A681-82C638C3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4942-908D-40F0-A185-145881D8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331A-1CAD-47D3-BB03-747A0157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7CD-B885-4F9C-8B63-6600CAB3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BBA-4EFF-4B9C-A576-678C4291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B41-44B8-4FC4-8654-7A4490D9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495-7D47-4586-9916-D2065C9C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FD4E-8FFA-47B8-A082-34B69DD8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A7E1-8B9F-4956-A4F2-7AE4B070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1CD-6585-46CB-AA65-F45FE849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B792-201A-48C3-8825-088207AF01D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2FE0-AFBD-42BD-ADF3-6F9F2AB9C9A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slide" Target="slide16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 А Т Е М А Т И К А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2 клас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3080" y="2334960"/>
            <a:ext cx="691524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сковская обла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модедовский рай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рыбинская  СОШ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ртынова О В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732720" y="3978360"/>
            <a:ext cx="1690560" cy="287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60436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АДАЧ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476360" y="1989000"/>
          <a:ext cx="6840720" cy="4606920"/>
        </p:xfrm>
        <a:graphic>
          <a:graphicData uri="http://schemas.openxmlformats.org/drawingml/2006/table">
            <a:tbl>
              <a:tblPr/>
              <a:tblGrid>
                <a:gridCol w="684072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Маша собрала </a:t>
                      </a:r>
                      <a:r>
                        <a:rPr b="0" lang="ru-RU" sz="2800" spc="-1" strike="noStrike">
                          <a:solidFill>
                            <a:srgbClr val="ffffcc"/>
                          </a:solidFill>
                          <a:latin typeface="Tahoma"/>
                          <a:ea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Витя- ? На </a:t>
                      </a:r>
                      <a:r>
                        <a:rPr b="0" lang="ru-RU" sz="2800" spc="-1" strike="noStrike">
                          <a:solidFill>
                            <a:srgbClr val="ffffcc"/>
                          </a:solidFill>
                          <a:latin typeface="Tahoma"/>
                          <a:ea typeface="Arial"/>
                        </a:rPr>
                        <a:t>15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&gt;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чем  Маш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Сколько              они собрали вмести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Ответ:  </a:t>
                      </a: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Tahoma"/>
                          <a:ea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1152360" cy="838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635280" y="2924280"/>
            <a:ext cx="115272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059280" y="4221000"/>
            <a:ext cx="1152360" cy="838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059280" y="4221000"/>
            <a:ext cx="1152360" cy="838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3348000" y="5589720"/>
            <a:ext cx="115272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ФИЗМИНУТ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тоб все выполнить задан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м нам надо отдохну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у ребята дружно встан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до косточки встряхну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2781360"/>
            <a:ext cx="2573280" cy="3087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067280" y="4581360"/>
            <a:ext cx="1650960" cy="15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333360"/>
            <a:ext cx="7993080" cy="1513080"/>
          </a:xfrm>
          <a:prstGeom prst="horizontalScrol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Игра «Помоги цыпленку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07" descr=""/>
          <p:cNvPicPr/>
          <p:nvPr/>
        </p:nvPicPr>
        <p:blipFill>
          <a:blip r:embed="rId1"/>
          <a:stretch/>
        </p:blipFill>
        <p:spPr>
          <a:xfrm>
            <a:off x="3851280" y="3214800"/>
            <a:ext cx="2013120" cy="1857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3645000"/>
            <a:ext cx="935280" cy="93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1989000"/>
            <a:ext cx="934920" cy="936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1989000"/>
            <a:ext cx="935280" cy="936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16720" y="2060640"/>
            <a:ext cx="934920" cy="936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12000" y="3716280"/>
            <a:ext cx="935280" cy="936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5445000"/>
            <a:ext cx="935280" cy="936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5445000"/>
            <a:ext cx="935280" cy="936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16720" y="5445000"/>
            <a:ext cx="934920" cy="936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8899400">
            <a:off x="1259640" y="3141000"/>
            <a:ext cx="1008000" cy="288720"/>
          </a:xfrm>
          <a:prstGeom prst="rightArrow">
            <a:avLst>
              <a:gd name="adj1" fmla="val 50000"/>
              <a:gd name="adj2" fmla="val 87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7604400">
            <a:off x="7164360" y="494064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888400">
            <a:off x="7307640" y="314100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64000" y="234936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234936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3809600">
            <a:off x="1043640" y="501228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3131640" y="580500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63640" y="580500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3789360"/>
            <a:ext cx="645840" cy="6494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6320" y="278460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+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4560" y="5160960"/>
            <a:ext cx="9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21440" y="609588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84680" y="609588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+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16680" y="501660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+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13800" y="25686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40320" y="184788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+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5440" y="1776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90240" y="20653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Unicode MS"/>
              </a:rPr>
              <a:t>2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90240" y="55944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Unicode MS"/>
              </a:rPr>
              <a:t>2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22240" y="55213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Unicode MS"/>
              </a:rPr>
              <a:t>3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54240" y="55213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Unicode MS"/>
              </a:rPr>
              <a:t>2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79680" y="37940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Unicode MS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54240" y="21384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Unicode MS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2240" y="20653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Unicode MS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rId2" action="ppaction://hlinksldjump"/>
          </p:cNvPr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92360" y="3500280"/>
            <a:ext cx="1873080" cy="649440"/>
          </a:xfrm>
          <a:prstGeom prst="wedgeEllipseCallout">
            <a:avLst>
              <a:gd name="adj1" fmla="val 52625"/>
              <a:gd name="adj2" fmla="val 83495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пасибо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180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3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300"/>
                            </p:stCondLst>
                            <p:childTnLst>
                              <p:par>
                                <p:cTn id="2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800"/>
                            </p:stCondLst>
                            <p:childTnLst>
                              <p:par>
                                <p:cTn id="2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300"/>
                            </p:stCondLst>
                            <p:childTnLst>
                              <p:par>
                                <p:cTn id="2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800"/>
                            </p:stCondLst>
                            <p:childTnLst>
                              <p:par>
                                <p:cTn id="2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300"/>
                            </p:stCondLst>
                            <p:childTnLst>
                              <p:par>
                                <p:cTn id="2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8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300"/>
                            </p:stCondLst>
                            <p:childTnLst>
                              <p:par>
                                <p:cTn id="2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800"/>
                            </p:stCondLst>
                            <p:childTnLst>
                              <p:par>
                                <p:cTn id="2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300"/>
                            </p:stCondLst>
                            <p:childTnLst>
                              <p:par>
                                <p:cTn id="3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800"/>
                            </p:stCondLst>
                            <p:childTnLst>
                              <p:par>
                                <p:cTn id="30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300"/>
                            </p:stCondLst>
                            <p:childTnLst>
                              <p:par>
                                <p:cTn id="3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800"/>
                            </p:stCondLst>
                            <p:childTnLst>
                              <p:par>
                                <p:cTn id="3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9300"/>
                            </p:stCondLst>
                            <p:childTnLst>
                              <p:par>
                                <p:cTn id="3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9800"/>
                            </p:stCondLst>
                            <p:childTnLst>
                              <p:par>
                                <p:cTn id="3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300"/>
                            </p:stCondLst>
                            <p:childTnLst>
                              <p:par>
                                <p:cTn id="33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800"/>
                            </p:stCondLst>
                            <p:childTnLst>
                              <p:par>
                                <p:cTn id="3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500" autoRev="1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animClr clrSpc="rgb">
                                      <p:cBhvr>
                                        <p:cTn id="390" dur="500" autoRev="1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set>
                                      <p:cBhvr>
                                        <p:cTn id="391" dur="500" autoRev="1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500"/>
                            </p:stCondLst>
                            <p:childTnLst>
                              <p:par>
                                <p:cTn id="398" nodeType="after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6 0.13185 L 0.031 0 L 0.047 0.13185 L 0.063 0 L 0.078 0.13185 L 0.094 0 L 0.109 0.13185 L 0.125 0 L 0.141 0.13185 L 0.156 0 L 0.172 0.13185 L 0.187 0 L 0.203 0.13185 L 0.219 0 L 0.234 0.13185 L 0.25 0 E">
                                      <p:cBhvr>
                                        <p:cTn id="399" dur="3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7500"/>
                            </p:stCondLst>
                            <p:childTnLst>
                              <p:par>
                                <p:cTn id="401" nodeType="after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6 0.13185 L 0.031 0 L 0.047 0.13185 L 0.063 0 L 0.078 0.13185 L 0.094 0 L 0.109 0.13185 L 0.125 0 L 0.141 0.13185 L 0.156 0 L 0.172 0.13185 L 0.187 0 L 0.203 0.13185 L 0.219 0 L 0.234 0.13185 L 0.25 0 E">
                                      <p:cBhvr>
                                        <p:cTn id="402" dur="3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333360"/>
            <a:ext cx="7993080" cy="1513080"/>
          </a:xfrm>
          <a:prstGeom prst="horizontalScrol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Игра «Разгони тучи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3645000"/>
            <a:ext cx="935280" cy="93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84720" y="1989000"/>
            <a:ext cx="934920" cy="936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1989000"/>
            <a:ext cx="935280" cy="936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16720" y="2060640"/>
            <a:ext cx="934920" cy="936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12000" y="3716280"/>
            <a:ext cx="935280" cy="936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5445000"/>
            <a:ext cx="935280" cy="936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56000" y="5445000"/>
            <a:ext cx="935280" cy="936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6720" y="5445000"/>
            <a:ext cx="934920" cy="936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8899400">
            <a:off x="1259640" y="3141000"/>
            <a:ext cx="1008000" cy="288720"/>
          </a:xfrm>
          <a:prstGeom prst="rightArrow">
            <a:avLst>
              <a:gd name="adj1" fmla="val 50000"/>
              <a:gd name="adj2" fmla="val 87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7604400">
            <a:off x="7164360" y="494064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2888400">
            <a:off x="7307640" y="314100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64000" y="234936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234936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3809600">
            <a:off x="1043640" y="501228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0800000">
            <a:off x="3131640" y="580500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0800000">
            <a:off x="5363640" y="580500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" y="3789360"/>
            <a:ext cx="645840" cy="6494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6320" y="278460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 Unicode MS"/>
              </a:rPr>
              <a:t>+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6160" y="516096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 Unicode MS"/>
              </a:rPr>
              <a:t>+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609588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 Unicode MS"/>
              </a:rPr>
              <a:t>+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84680" y="609588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 Unicode MS"/>
              </a:rPr>
              <a:t>+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42520" y="494496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 Unicode MS"/>
              </a:rPr>
              <a:t>– </a:t>
            </a:r>
            <a:r>
              <a:rPr b="1" lang="en-US" sz="3200" spc="-1" strike="noStrike">
                <a:solidFill>
                  <a:srgbClr val="003300"/>
                </a:solidFill>
                <a:latin typeface="Arial Unicode MS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813800" y="25686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 Unicode MS"/>
              </a:rPr>
              <a:t>– </a:t>
            </a:r>
            <a:r>
              <a:rPr b="1" lang="en-US" sz="3200" spc="-1" strike="noStrike">
                <a:solidFill>
                  <a:srgbClr val="003300"/>
                </a:solidFill>
                <a:latin typeface="Arial Unicode M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34560" y="1847880"/>
            <a:ext cx="9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 Unicode MS"/>
              </a:rPr>
              <a:t>– </a:t>
            </a:r>
            <a:r>
              <a:rPr b="1" lang="en-US" sz="3200" spc="-1" strike="noStrike">
                <a:solidFill>
                  <a:srgbClr val="003300"/>
                </a:solidFill>
                <a:latin typeface="Arial Unicode MS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05440" y="17762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 Unicode MS"/>
              </a:rPr>
              <a:t>+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0240" y="20653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Unicode MS"/>
              </a:rPr>
              <a:t>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90240" y="55213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Unicode MS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95320" y="55213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Unicode MS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02560" y="5521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Unicode MS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879680" y="37940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Unicode MS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54240" y="21384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Unicode MS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22240" y="20653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Unicode MS"/>
              </a:rPr>
              <a:t>5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851280" y="3141720"/>
            <a:ext cx="1800360" cy="1711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203640" y="3716280"/>
            <a:ext cx="1971720" cy="1123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643280" y="4365720"/>
            <a:ext cx="1225800" cy="757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5148360" y="3860640"/>
            <a:ext cx="1225440" cy="757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3492360" y="2997360"/>
            <a:ext cx="2463840" cy="218268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rId6" action="ppaction://hlinksldjump"/>
          </p:cNvPr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1800"/>
                            </p:stCondLst>
                            <p:childTnLst>
                              <p:par>
                                <p:cTn id="4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300"/>
                            </p:stCondLst>
                            <p:childTnLst>
                              <p:par>
                                <p:cTn id="4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3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300"/>
                            </p:stCondLst>
                            <p:childTnLst>
                              <p:par>
                                <p:cTn id="4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30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630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800"/>
                            </p:stCondLst>
                            <p:childTnLst>
                              <p:par>
                                <p:cTn id="4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7300"/>
                            </p:stCondLst>
                            <p:childTnLst>
                              <p:par>
                                <p:cTn id="4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800"/>
                            </p:stCondLst>
                            <p:childTnLst>
                              <p:par>
                                <p:cTn id="4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8300"/>
                            </p:stCondLst>
                            <p:childTnLst>
                              <p:par>
                                <p:cTn id="4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8800"/>
                            </p:stCondLst>
                            <p:childTnLst>
                              <p:par>
                                <p:cTn id="4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9300"/>
                            </p:stCondLst>
                            <p:childTnLst>
                              <p:par>
                                <p:cTn id="4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9800"/>
                            </p:stCondLst>
                            <p:childTnLst>
                              <p:par>
                                <p:cTn id="4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300"/>
                            </p:stCondLst>
                            <p:childTnLst>
                              <p:par>
                                <p:cTn id="4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800"/>
                            </p:stCondLst>
                            <p:childTnLst>
                              <p:par>
                                <p:cTn id="4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1300"/>
                            </p:stCondLst>
                            <p:childTnLst>
                              <p:par>
                                <p:cTn id="4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1800"/>
                            </p:stCondLst>
                            <p:childTnLst>
                              <p:par>
                                <p:cTn id="4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2300"/>
                            </p:stCondLst>
                            <p:childTnLst>
                              <p:par>
                                <p:cTn id="5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2800"/>
                            </p:stCondLst>
                            <p:childTnLst>
                              <p:par>
                                <p:cTn id="5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3300"/>
                            </p:stCondLst>
                            <p:childTnLst>
                              <p:par>
                                <p:cTn id="5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3800"/>
                            </p:stCondLst>
                            <p:childTnLst>
                              <p:par>
                                <p:cTn id="5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0" dur="50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animClr clrSpc="rgb">
                                      <p:cBhvr>
                                        <p:cTn id="571" dur="50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set>
                                      <p:cBhvr>
                                        <p:cTn id="572" dur="50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500"/>
                            </p:stCondLst>
                            <p:childTnLst>
                              <p:par>
                                <p:cTn id="5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500"/>
                            </p:stCondLst>
                            <p:childTnLst>
                              <p:par>
                                <p:cTn id="5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9152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 Unicode MS"/>
              </a:rPr>
              <a:t>- двузначное;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 Unicode MS"/>
              </a:rPr>
              <a:t>- 9 десятков, 9 единиц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 Unicode MS"/>
              </a:rPr>
              <a:t>- предыдущее – 98;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 Unicode MS"/>
              </a:rPr>
              <a:t>- последующее – 100;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 Unicode MS"/>
              </a:rPr>
              <a:t>- сумма цифр равна 18;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 Unicode MS"/>
              </a:rPr>
              <a:t>- сумма разрядных слагаемых 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 Unicode MS"/>
              </a:rPr>
              <a:t>  </a:t>
            </a:r>
            <a:r>
              <a:rPr b="1" lang="en-US" sz="3800" spc="-1" strike="noStrike">
                <a:solidFill>
                  <a:srgbClr val="ff0000"/>
                </a:solidFill>
                <a:latin typeface="Arial Unicode MS"/>
              </a:rPr>
              <a:t>равна 90+9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236000" y="3645000"/>
            <a:ext cx="1690560" cy="2879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95280" y="333360"/>
            <a:ext cx="7993080" cy="1513080"/>
          </a:xfrm>
          <a:prstGeom prst="horizontalScrol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Расскажите все, что знает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о числе 99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000"/>
                            </p:stCondLst>
                            <p:childTnLst>
                              <p:par>
                                <p:cTn id="6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авершение уро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сть каждый день и каждый ч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м новое добуду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сть будет добрым ум у в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сердце добрым буд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рок окончен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асибо всем за работ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71640" y="1557360"/>
            <a:ext cx="7704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093080" y="3716280"/>
            <a:ext cx="1604880" cy="2735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7740720" y="558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3000"/>
                            </p:stCondLst>
                            <p:childTnLst>
                              <p:par>
                                <p:cTn id="6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4" dur="250" autoRev="1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animClr clrSpc="rgb">
                                      <p:cBhvr>
                                        <p:cTn id="625" dur="250" autoRev="1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set>
                                      <p:cBhvr>
                                        <p:cTn id="626" dur="250" autoRev="1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00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07606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Дом. зад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03080" y="2334960"/>
            <a:ext cx="691524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 Unicode MS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 Unicode MS"/>
              </a:rPr>
              <a:t>    </a:t>
            </a:r>
            <a:r>
              <a:rPr b="0" lang="en-US" sz="2400" spc="-1" strike="noStrike">
                <a:solidFill>
                  <a:srgbClr val="66ccff"/>
                </a:solidFill>
                <a:latin typeface="Arial Unicode MS"/>
              </a:rPr>
              <a:t>стр.132 №4,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 Unicode MS"/>
              </a:rPr>
              <a:t>        </a:t>
            </a:r>
            <a:r>
              <a:rPr b="1" i="1" lang="en-US" sz="3600" spc="-1" strike="noStrike">
                <a:solidFill>
                  <a:srgbClr val="ff0066"/>
                </a:solidFill>
                <a:latin typeface="Wingdings 3"/>
                <a:ea typeface="Wingdings 3"/>
              </a:rPr>
              <a:t>Спасибозавнимания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2519280" cy="338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ТЕМА УРО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тный сч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360" y="2565360"/>
            <a:ext cx="4537080" cy="3679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ЦЕЛИ УРО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вать устные вычислительные навы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огическое мышл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огащать кругозор учащих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вивать интерес к уро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ХОД УРО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тематику друз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любить никак нельз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чень точная нау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чень трудная нау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нтересная наук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математ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71920" y="3352680"/>
            <a:ext cx="46720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Устный сч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67208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Реши удобным способом                                                 с устным объяснение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 +5 + 10 =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(20 + 10) + 5 = 3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+10 = 5 = 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(15 + 5) +10 =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2 + 5 + 8 = 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(22 + 8) + 5 = 3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3 + 20 + 7 =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(33 + 7) +20 = 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ЫЧИСЛИ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слож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2 + 22 =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5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8 + 11 =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4 + 13 =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5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6 + 23=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7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вычит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7 – 14 =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8 – 16 =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9 – 27 =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6 – 53 =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03640" y="4005360"/>
            <a:ext cx="2290680" cy="2668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ерны ли равенства?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5 +(16 – 14) =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2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48 – 16) +3 =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8 – (33 + 7) =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2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6 + (26 + 4 ) =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8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6659640" y="3573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йди периметр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191628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ина -  5 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Ширина - 2с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иметр - ?         5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067280" y="3429000"/>
            <a:ext cx="4103640" cy="1994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9:02:13Z</dcterms:created>
  <dc:creator>1</dc:creator>
  <dc:description/>
  <dc:language>en-US</dc:language>
  <cp:lastModifiedBy>123</cp:lastModifiedBy>
  <dcterms:modified xsi:type="dcterms:W3CDTF">2010-06-10T13:52:29Z</dcterms:modified>
  <cp:revision>153</cp:revision>
  <dc:subject/>
  <dc:title>Устный счет по теме «Многозначные числа»</dc:title>
</cp:coreProperties>
</file>